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52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B271C81-BC1A-4027-8751-218E85DE9DB0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6D89A64-0BB3-445A-A1B8-74DD959039EF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786FBDA-3762-46E6-BDAB-14633225F57D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1284DA0-6AD6-46B5-A15C-84AB83AE30F4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07BFC88-D3CF-4D00-A3A8-79C7706B3BEA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23578C3-664C-4846-B21B-7FAC285F7B78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4FC61F9-349F-469B-968F-02ABF12456FF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7AAF59E-7E15-42CF-820A-EC277636B77A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E4B0D43-C07D-458F-9A5D-D7F5B4F18F3A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921C8B1-2A0B-462D-8825-6890C94382AE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6C76DF4-252E-4CFD-970F-866F54B9A1B1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E4016C8-5C66-4F4E-ABE6-08548E91E85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3D8E972-350A-408A-8958-3716ADD06FC7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A6805BF-82A1-48CE-B61C-DE3E233A8987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7336024-1ED3-4CD1-AB1E-1207E66CA774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40039A3-CA88-4533-A042-3AAA803FE227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2"/>
          <p:cNvGraphicFramePr/>
          <p:nvPr/>
        </p:nvGraphicFramePr>
        <p:xfrm>
          <a:off x="88920" y="152280"/>
          <a:ext cx="8975880" cy="659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52280"/>
                    <a:ext cx="89758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Object 10"/>
          <p:cNvGraphicFramePr/>
          <p:nvPr/>
        </p:nvGraphicFramePr>
        <p:xfrm>
          <a:off x="101520" y="139680"/>
          <a:ext cx="8921880" cy="655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39680"/>
                    <a:ext cx="8921880" cy="655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Javascript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826920" y="4724280"/>
            <a:ext cx="8001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Grundlagen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13" descr=""/>
          <p:cNvPicPr/>
          <p:nvPr/>
        </p:nvPicPr>
        <p:blipFill>
          <a:blip r:embed="rId1"/>
          <a:stretch/>
        </p:blipFill>
        <p:spPr>
          <a:xfrm>
            <a:off x="971640" y="385920"/>
            <a:ext cx="1738080" cy="1738080"/>
          </a:xfrm>
          <a:prstGeom prst="rect">
            <a:avLst/>
          </a:prstGeom>
          <a:ln w="0">
            <a:noFill/>
          </a:ln>
        </p:spPr>
      </p:pic>
      <p:sp>
        <p:nvSpPr>
          <p:cNvPr id="93" name="Textfeld 1"/>
          <p:cNvSpPr/>
          <p:nvPr/>
        </p:nvSpPr>
        <p:spPr>
          <a:xfrm>
            <a:off x="7206480" y="6635880"/>
            <a:ext cx="192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Verdana"/>
              </a:rPr>
              <a:t>Stephan Baldes, Version: 2022-09-12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Unterschied</a:t>
            </a:r>
            <a:br>
              <a:rPr sz="5400"/>
            </a:b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Java und Javascript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905040" y="4324320"/>
            <a:ext cx="7638840" cy="2200320"/>
          </a:xfrm>
          <a:prstGeom prst="rect">
            <a:avLst/>
          </a:prstGeom>
          <a:ln w="0">
            <a:noFill/>
          </a:ln>
        </p:spPr>
      </p:pic>
      <p:sp>
        <p:nvSpPr>
          <p:cNvPr id="124" name="Rechteck 1"/>
          <p:cNvSpPr/>
          <p:nvPr/>
        </p:nvSpPr>
        <p:spPr>
          <a:xfrm>
            <a:off x="1403280" y="645336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Quelle: http://selfhtml.apsel-mv.de/java-javascript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3" descr=""/>
          <p:cNvPicPr/>
          <p:nvPr/>
        </p:nvPicPr>
        <p:blipFill>
          <a:blip r:embed="rId2"/>
          <a:stretch/>
        </p:blipFill>
        <p:spPr>
          <a:xfrm>
            <a:off x="971640" y="385920"/>
            <a:ext cx="173808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Unterschied Java - Javascript  1/7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31640" y="1413000"/>
            <a:ext cx="87123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Variablen: keine Datentypen, keyword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Value = 1;</a:t>
            </a:r>
            <a:br>
              <a:rPr sz="1800"/>
            </a:b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Value = 3.0;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Value = "This is a string";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sqString = 'This is also a string’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itive Datentypen: number, string, boolean, undefined, nu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 // number, string, boolean, undefi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Unterschied Java - Javascript  2/7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431640" y="1413000"/>
            <a:ext cx="86043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zahlArray =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new Array(7)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personArray =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["Peter", "Monika", "Hans"]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tabArray =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[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22.3, 18.5],[21.6, 19.7],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[24.6, 20.1]]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dict = [];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dict["house"] = "haus";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["cat"] = "katze"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ict =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[house: "Haus", cat: "Katze"]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terative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bjekte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dict={}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Besonderhei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41480" indent="-38124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SzPct val="102837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Array[3] // undefined, kein Fehl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41480" indent="-38124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SzPct val="102837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var x of personArra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41480" indent="-38124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SzPct val="102837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int[][] pyramid = new int[3][4];      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yramid = Array.from(Array(3), () =&gt; new Array(4))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41480" indent="-38124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Unterschied Java - Javascript  3/7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431640" y="1319040"/>
            <a:ext cx="860436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40200" indent="-3402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rrayL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0200" indent="-3402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efinier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ar=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[]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0200" indent="-3402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nzfü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.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push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1); ar.push(2); ar.push(3); // [1, 2, 3]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.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unshift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-1); // [-1, 1, 2, 3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0200" indent="-3402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ntfern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.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pop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 // [1, 2]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.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hift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// [2] 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 = [1,2,3,4]; ar.</a:t>
            </a:r>
            <a:r>
              <a:rPr b="0" lang="pt-BR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lice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2, 1) ; //index=2, numEl=1 //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2, 4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0200" indent="-3402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arrayRemove(arr, value) {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return arr.filter(function(el){ return el != value; }); }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var ar =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arrayRemov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ar, 4); // [1, 2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0200" indent="-3402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nthäl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isEl = ar.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includes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2); // tr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0200" indent="-3402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Unterschied Java - Javascript 4/7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66840" y="1413000"/>
            <a:ext cx="8321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28680" indent="-3286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unktion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8680" indent="-32868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function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iere (a, b, c=6) {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var sum = a + b +c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return sum; }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erg = addiere (1,2,3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8680" indent="-32868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unktionen an Variablen bind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8680" indent="-32868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summeFkt = function(a,b) {return a+b;}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var summeFkt = (a,b) =&gt; {return a+b;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8680" indent="-32868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unktionen als Wert übergeb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8680" indent="-32868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ineSumFkt(summeFkt,a,b) {return summeFkt(a,b);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8680" indent="-32868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Überladen / Defaultwerte für Paramet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ult(a=0,b=1) {…}</a:t>
            </a:r>
            <a:br>
              <a:rPr sz="18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Courier New"/>
              </a:rPr>
              <a:t>Vorsicht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Courier New"/>
              </a:rPr>
              <a:t>Überladen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 mult(a){}, function mult(a,b){}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Courier New"/>
              </a:rPr>
              <a:t>funktioniert nicht (Unterschied zu Java)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8680" indent="-32868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8680" indent="-32868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Unterschied Java - Javascript 5/7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766800" y="1413000"/>
            <a:ext cx="867708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51360" indent="-35136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Objekte ohne Kl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peter =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: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"Peter",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alter: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1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age: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(text)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alert(this.name+" sagt:"+text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}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Auf Attribute/Methoden zugreif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lert(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peter.nam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 //alternativ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peter["name"]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eter.name="Pitt"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eter.sage("Hall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ttribute/Methoden aufzählen</a:t>
            </a:r>
            <a:br>
              <a:rPr sz="1800"/>
            </a:b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for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x 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in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peter){alert(peter[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x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]);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ttribute/Methoden löschen</a:t>
            </a:r>
            <a:br>
              <a:rPr sz="1800"/>
            </a:b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delet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peter.alter;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uf Keys zugreifen</a:t>
            </a:r>
            <a:br>
              <a:rPr sz="1800"/>
            </a:b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Object.keys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peter) //["name", "alter", "sage"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Unterschied Java - Javascript 6/7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431640" y="1413000"/>
            <a:ext cx="86043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43800" indent="-3438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lassen: als Funktionen realisie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800" indent="-3438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Fahrzeug(f,g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// Attribut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this.farbe=f;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this.geschwindigkeit=g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// Method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this.beschleunigen=fahrzeugBeschleunigen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this.toString = fahrzeugAusgeben; }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800" indent="-3438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hrzeugBeschleunigen(wert)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this.geschwindigkeit+=wert;}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hrzeugAusgeben() {return "fahrzeug("+this.farbe+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","+this.geschwindigkeit+")";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800" indent="-3438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Objekt erzeu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dacia =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new Fahrzeug("rot",50)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lert(dacia.farbe)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cia.geschwindigkeit=52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cia.beschleunigen(3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Unterschied Java - Javascript 7/7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431640" y="1413000"/>
            <a:ext cx="86043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74040" indent="-3740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usga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alert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"Ihr Name lautet "+ihrName);</a:t>
            </a:r>
            <a:br>
              <a:rPr sz="1800"/>
            </a:b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onsole.log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"Ich bin hier");</a:t>
            </a:r>
            <a:br>
              <a:rPr sz="1800"/>
            </a:b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document.writ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"&lt;h1&gt;Hello JavaScript!&lt;/h1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nga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ihrName =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prompt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"Bitte Name eingeben","Markus"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ok =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onfirm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"Wirklich?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HTML verände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document.getElementById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"demo").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innerHTML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"Hello"; document.getElementById("demo").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firstChild.nodeValu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"Hello"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.getElementById('myImage')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.src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'pic_bulbon.gif';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document.getElementByTag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'h1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').style.display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'none'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uch noch nützlich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31640" y="1413000"/>
            <a:ext cx="86043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74040" indent="-3740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atenty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rseFloat("3.14"); parseInt("3.14"); isNaN(a) // keine Zahl Math.random(); Math.floor(i) //Nachkommastellen abschneiden. eval(3+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Webseite überschreib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.open()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.write("...")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.clos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Bei Fehler abbre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ehler(fehler, datei, zeile) {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alert("Fehler: "+fehler+"\nDatei: "+datei+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"\nZeile: "+zeile); }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indow.onerror=fehl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pezielle Aufgab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431640" y="1413000"/>
            <a:ext cx="86043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Länge eines Str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someString = 'the cat looks like a cat'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l = someString.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in Java: .length(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ReplaceAll in Str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someString = 'the cat looks like a cat'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anotherString = someString.replace(/cat/g, 'dog'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as ist JavaScrip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440" y="1676520"/>
            <a:ext cx="467820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bjektorientierte Skript-Sprache: kein kompil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rd im Browser (Client) ausgefüh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it neustem auch auf dem Server möglich: Nod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gibt viele Frameworks: jQuery, Angular.js React.js, Vue.js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5"/>
          <a:stretch/>
        </p:blipFill>
        <p:spPr>
          <a:xfrm>
            <a:off x="5219640" y="1484280"/>
            <a:ext cx="37688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Konkrete Übersetzung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55640" y="1676520"/>
            <a:ext cx="40845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100000"/>
              </a:lnSpc>
              <a:spcBef>
                <a:spcPts val="275"/>
              </a:spcBef>
              <a:spcAft>
                <a:spcPts val="689"/>
              </a:spcAft>
              <a:buSzPct val="1027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[] col = new ArrayList[cands.length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275"/>
              </a:spcBef>
              <a:spcAft>
                <a:spcPts val="689"/>
              </a:spcAft>
              <a:buSzPct val="1027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nt num = (int) cands[s].get(0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275"/>
              </a:spcBef>
              <a:spcAft>
                <a:spcPts val="689"/>
              </a:spcAft>
              <a:buSzPct val="1027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cands[s].size(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275"/>
              </a:spcBef>
              <a:spcAft>
                <a:spcPts val="689"/>
              </a:spcAft>
              <a:buSzPct val="1027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cands[y][x].add(obj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275"/>
              </a:spcBef>
              <a:spcAft>
                <a:spcPts val="689"/>
              </a:spcAft>
              <a:buSzPct val="1027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&lt;String&gt; stack=new Stack&lt;String&gt;(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275"/>
              </a:spcBef>
              <a:spcAft>
                <a:spcPts val="689"/>
              </a:spcAft>
              <a:buSzPct val="1027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Cands.isEmpty(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275"/>
              </a:spcBef>
              <a:spcAft>
                <a:spcPts val="689"/>
              </a:spcAft>
              <a:buSzPct val="1027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275"/>
              </a:spcBef>
              <a:spcAft>
                <a:spcPts val="689"/>
              </a:spcAft>
              <a:buSzPct val="10272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275"/>
              </a:spcBef>
              <a:spcAft>
                <a:spcPts val="689"/>
              </a:spcAft>
              <a:buSzPct val="10272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275"/>
              </a:spcBef>
              <a:spcAft>
                <a:spcPts val="689"/>
              </a:spcAft>
              <a:buSzPct val="10272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275"/>
              </a:spcBef>
              <a:spcAft>
                <a:spcPts val="689"/>
              </a:spcAft>
              <a:buSzPct val="10272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275"/>
              </a:spcBef>
              <a:spcAft>
                <a:spcPts val="689"/>
              </a:spcAft>
              <a:buSzPct val="10272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923000" y="1676520"/>
            <a:ext cx="40845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100000"/>
              </a:lnSpc>
              <a:spcBef>
                <a:spcPts val="275"/>
              </a:spcBef>
              <a:spcAft>
                <a:spcPts val="689"/>
              </a:spcAft>
              <a:buSzPct val="10272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col = new Array(cands.length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275"/>
              </a:spcBef>
              <a:spcAft>
                <a:spcPts val="689"/>
              </a:spcAft>
              <a:buSzPct val="10272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num = parseInt(cands[s][0]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275"/>
              </a:spcBef>
              <a:spcAft>
                <a:spcPts val="689"/>
              </a:spcAft>
              <a:buSzPct val="10272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cands[s].leng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275"/>
              </a:spcBef>
              <a:spcAft>
                <a:spcPts val="689"/>
              </a:spcAft>
              <a:buSzPct val="10272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cands[y][x].push(obj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275"/>
              </a:spcBef>
              <a:spcAft>
                <a:spcPts val="689"/>
              </a:spcAft>
              <a:buSzPct val="10272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var stack = [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275"/>
              </a:spcBef>
              <a:spcAft>
                <a:spcPts val="689"/>
              </a:spcAft>
              <a:buSzPct val="102725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Cands.length==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275"/>
              </a:spcBef>
              <a:spcAft>
                <a:spcPts val="689"/>
              </a:spcAft>
              <a:buSzPct val="10272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275"/>
              </a:spcBef>
              <a:spcAft>
                <a:spcPts val="689"/>
              </a:spcAft>
              <a:buSzPct val="102725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1060560" y="981000"/>
            <a:ext cx="78325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Java                                                JavaScrip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Ereignisse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1"/>
          <a:stretch/>
        </p:blipFill>
        <p:spPr>
          <a:xfrm>
            <a:off x="971640" y="385920"/>
            <a:ext cx="173808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uf Ereignisse reagier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24000" y="1413000"/>
            <a:ext cx="900108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74040" indent="-3740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m HTML-T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put type="button" value="ok"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onclick="geklickt('ok');"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geklickt(text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{alert("Button "+text+" gedrückt");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Über 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put id="okBtn" type="button" value="ok"&gt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 id="link1" href="#"&gt;Link&lt;/a&gt;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.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getElementById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"okBtn").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onclick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 geklickt("okButton"); document.getElementById("link1").onclick = geklickt("link1")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geklickt(text) {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alert("Button/Link "+text+" gedrückt");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uf Ereignisse reagier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324000" y="1390680"/>
            <a:ext cx="864072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55320" indent="-35532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Hyperli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 href="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javascript:geklickt('link1'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&gt;Link&lt;/a&gt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geklickt(text) { alert("Link "+text+" gedrückt");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vent Liste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put id="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okButton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 type="button" value="ok"&gt; </a:t>
            </a:r>
            <a:br>
              <a:rPr sz="1800"/>
            </a:b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handleEvent("okButton","click",geklicktOk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geklicktOk(objekt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{ alert("Ok Button gedrückt"); }</a:t>
            </a:r>
            <a:br>
              <a:rPr sz="1800"/>
            </a:br>
            <a:br>
              <a:rPr sz="18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util 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andleEvent(id, ereignis, funktion) {        if(window.addEventListener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document.getElementById(i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.addEventListener(ereignis, funktion, false)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(window.attachEvent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ocument.getElementById(id).attachEvent("on" + ereignis, funktion)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ten von Events 1/2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1390680"/>
            <a:ext cx="864072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62880" indent="-3628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La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6480" indent="-3628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onlo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2880" indent="-3628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ormul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6480" indent="-3628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onsubmit / onreset: Der Submit/Reset-Knopf wird gedrück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6480" indent="-3628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onchange: input, textarea, select wird verände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6480" indent="-3628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onkeyup: input, textarea, select wird eine Taste gedrück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2880" indent="-3628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6480" indent="-3628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cli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6480" indent="-3628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mouseover, onmouseout, onmousemo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6480" indent="-3628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mousedown, onmouse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6480" indent="-3628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ten von Events 2/2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1390680"/>
            <a:ext cx="864072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astat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41480" indent="-38124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onkeyp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41480" indent="-38124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onkeyup, onkeyd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Event("search","keypress",searchByKey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earchByKey(e) {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f (e.keyCode == 13) { search(); return false; }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968400" y="5157720"/>
            <a:ext cx="6843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Beim EventListener wird der Präfix "on" weggelasse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Grafik 1" descr=""/>
          <p:cNvPicPr/>
          <p:nvPr/>
        </p:nvPicPr>
        <p:blipFill>
          <a:blip r:embed="rId1"/>
          <a:stretch/>
        </p:blipFill>
        <p:spPr>
          <a:xfrm>
            <a:off x="3059280" y="103320"/>
            <a:ext cx="5940360" cy="34779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3789000"/>
            <a:ext cx="875988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DOM</a:t>
            </a:r>
            <a:br>
              <a:rPr sz="5400"/>
            </a:b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(Document Object Model)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13" descr=""/>
          <p:cNvPicPr/>
          <p:nvPr/>
        </p:nvPicPr>
        <p:blipFill>
          <a:blip r:embed="rId2"/>
          <a:stretch/>
        </p:blipFill>
        <p:spPr>
          <a:xfrm>
            <a:off x="971640" y="385920"/>
            <a:ext cx="173808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OM: Zugriff / Einfache Änderung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1341360"/>
            <a:ext cx="900108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74040" indent="-3740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Zugriff auf Elemente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 absatz1 = document.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getElementById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"a1"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 absatz2 = document.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getElementsByTagNam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"p")[0];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Child, lastChild, childNodes[i]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.body.lastChil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nfache Änderungen</a:t>
            </a:r>
            <a:br>
              <a:rPr sz="2000"/>
            </a:b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document.getElementById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"demo").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innerHTML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"Hello";</a:t>
            </a:r>
            <a:br>
              <a:rPr sz="1800"/>
            </a:b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document.getElementById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"demo").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firstChild.textContent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"Hello"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.getElementById("demo").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firstChild.nodeValu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"Hello"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.getElementById('myImage')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.src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'pic_bulbon.gif';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document.getElementByTag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'h1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').style.display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'none'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OM: neue Knoten hinzufüg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1341360"/>
            <a:ext cx="900108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arent bestimmen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 parentNode=document.getElementById("pag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Neuen Knoten erstellen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 nodeDiv = document.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Element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"div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ttribute setzen / Klassen hinzufügen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Div.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etAttribut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"id", cellName+"Num"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Div.setAttribute("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onclick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,          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"javascript:clickCell('"+cellName+"')"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nodeDiv.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Arial"/>
              </a:rPr>
              <a:t>classList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.add("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vFarbig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Arial"/>
              </a:rPr>
              <a:t>");</a:t>
            </a:r>
            <a:r>
              <a:rPr b="0" lang="de-DE" sz="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cssAddClass(nodeDiv,"divFarbig"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HTML-Text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hinzufüg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Div.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nnerHTML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"Das ist ein Text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Neuen Knoten Parent anhängen / davor einfüg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Node.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appendChild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odeDiv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OM Modell: children, childnodes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1512720"/>
            <a:ext cx="900108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inder ansprechen: </a:t>
            </a:r>
            <a:r>
              <a:rPr b="0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children, childnodes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histUl=document.getElementById("hist").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children[2]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istUl.removeChild(histUl.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childNodes[i]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rstes, Letzes Kind: </a:t>
            </a:r>
            <a:r>
              <a:rPr b="0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firstChild, lastChil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istUl.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lastChild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innerHTML="last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SzPct val="102837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.write("Hat Kinder: " + absatz.</a:t>
            </a:r>
            <a:r>
              <a:rPr b="0" lang="de-DE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hasChildNodes()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 "&lt;br&gt;"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.write("Anzahl Kinder: "+ absatz.</a:t>
            </a:r>
            <a:r>
              <a:rPr b="0" lang="de-DE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childNodes.length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 "&lt;br&gt;&lt;br&gt;"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var i=0; i&lt;absatz.childNodes.length; i++){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(absatz.childNodes[i].</a:t>
            </a:r>
            <a:r>
              <a:rPr b="0" lang="de-DE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nodeType == 3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//3=Textknoten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.write("Kind " + i + ": Typ=Text, Wert:"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 absatz.childNodes[i].</a:t>
            </a:r>
            <a:r>
              <a:rPr b="0" lang="de-DE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nodeValue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"&lt;br&gt;"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else if(absatz.childNodes[i].</a:t>
            </a:r>
            <a:r>
              <a:rPr b="0" lang="de-DE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nodeType == 1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//1=Element-Knot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document.write("Kind " + i + ": Typ=Element, Name:"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 absatz.childNodes[i].</a:t>
            </a:r>
            <a:r>
              <a:rPr b="0" lang="de-DE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nodeName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"&lt;br&gt;"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elche Programmiersprache ist am populärsten?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8488440" cy="4248000"/>
          </a:xfrm>
          <a:prstGeom prst="rect">
            <a:avLst/>
          </a:prstGeom>
          <a:ln w="0">
            <a:noFill/>
          </a:ln>
        </p:spPr>
      </p:pic>
      <p:sp>
        <p:nvSpPr>
          <p:cNvPr id="99" name="Rechteck 3"/>
          <p:cNvSpPr/>
          <p:nvPr/>
        </p:nvSpPr>
        <p:spPr>
          <a:xfrm>
            <a:off x="1116000" y="5661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Methodolog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: Based on the number of queries in popular search engines such as Google, Bing, Yahoo, Wikipedia, Amazon, YouTub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OM: insertBefore, sibling, removeChild, removeAttribut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1512720"/>
            <a:ext cx="900108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74040" indent="-3740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insertBefor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anstatt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ppendChil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.insertBefore(document.createTextNode("3"), 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el.childNodes[0]); //als erstes einfü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eschwister einfügen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.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parentNode.insertBefor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document.createTextNode("3"),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l.nextSibling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inder löschen: </a:t>
            </a:r>
            <a:r>
              <a:rPr b="0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removeChild,removeAttribu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 absatz = document.getElementById("a2"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.body.removeChild(absatz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.removeChild(node.childNodes[1]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.removeAttribute("styl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OM: createTextNode, cloneNode, replaceNod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1490760"/>
            <a:ext cx="900108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function textAendern(id) {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var absatz = document.getElementById(id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if(absatz.hasChildNodes()) {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absatz.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firstChild.nodeValue 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= "Geänderter Inhalt"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} else {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var text = 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document.createTextN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("Erzeugter Inhalt"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absatz.appendChild(text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}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function umgeben() {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var absatz = document.getElementById("a3"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var kursiv = document.createElement("i"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var ersetzt = absatz.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replaceChil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(kursiv, absatz.firstChild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kursiv.appendChild(ersetzt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}    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function klonen() {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var absatz = document.getElementById("a3"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var kopie = absatz.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cloneN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(true); //true = with childr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document.body.appendChild(kopie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75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751"/>
              </a:spcAft>
              <a:buSzPct val="10300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751"/>
              </a:spcAft>
              <a:buSzPct val="10300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751"/>
              </a:spcAft>
              <a:buSzPct val="10300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Maps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13" descr=""/>
          <p:cNvPicPr/>
          <p:nvPr/>
        </p:nvPicPr>
        <p:blipFill>
          <a:blip r:embed="rId1"/>
          <a:stretch/>
        </p:blipFill>
        <p:spPr>
          <a:xfrm>
            <a:off x="971640" y="385920"/>
            <a:ext cx="173808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Objekte als Maps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=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}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800"/>
            </a:b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o[1]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o[2]=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o[3]=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//</a:t>
            </a:r>
            <a:r>
              <a:rPr b="0" lang="nn-N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1=&gt;"1", 2=&gt;"2", 3=&gt;"3"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ole.log(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o[1]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 //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  </a:t>
            </a:r>
            <a:br>
              <a:rPr sz="1800"/>
            </a:b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o[1]=</a:t>
            </a:r>
            <a:r>
              <a:rPr b="0" lang="nn-N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-1</a:t>
            </a:r>
            <a:r>
              <a:rPr b="0" lang="nn-N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800"/>
            </a:b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Object.keys(o).length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//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i in 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 console.log(i+</a:t>
            </a:r>
            <a:r>
              <a:rPr b="0" lang="nn-N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o[i]);}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delete o[1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//</a:t>
            </a:r>
            <a:r>
              <a:rPr b="0" lang="nn-N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2=&gt;"2", 3=&gt;"3"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Map als Maps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=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new Map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.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et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1,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 m.set(2,"2"); m.set(3,"3"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</a:t>
            </a:r>
            <a:r>
              <a:rPr b="0" lang="nn-N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p(3) {1 =&gt; "1", 2 =&gt; "2", 3 =&gt; "3"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.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get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1); //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  </a:t>
            </a:r>
            <a:br>
              <a:rPr sz="1800"/>
            </a:br>
            <a:br>
              <a:rPr sz="1800"/>
            </a:br>
            <a:r>
              <a:rPr b="0" lang="nn-N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map = new Map([[1, '1'],[2, '2'],[3, '3'],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delete(key), has(key), clear(), keys(), values(), foreach(), siz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p.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forEach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(value, key) =&gt;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console.log(`${key}: ${value}`)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onst [key, value] of m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console.log(`${key}: ${value}`)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Ende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1"/>
          <a:stretch/>
        </p:blipFill>
        <p:spPr>
          <a:xfrm>
            <a:off x="971640" y="385920"/>
            <a:ext cx="173808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Ergänzungen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13" descr=""/>
          <p:cNvPicPr/>
          <p:nvPr/>
        </p:nvPicPr>
        <p:blipFill>
          <a:blip r:embed="rId1"/>
          <a:stretch/>
        </p:blipFill>
        <p:spPr>
          <a:xfrm>
            <a:off x="971640" y="385920"/>
            <a:ext cx="173808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elche Programmiersprache ist am populärsten?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827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Erste Beispiele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13" descr=""/>
          <p:cNvPicPr/>
          <p:nvPr/>
        </p:nvPicPr>
        <p:blipFill>
          <a:blip r:embed="rId1"/>
          <a:stretch/>
        </p:blipFill>
        <p:spPr>
          <a:xfrm>
            <a:off x="971640" y="385920"/>
            <a:ext cx="173808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Beispiel  </a:t>
            </a:r>
            <a:r>
              <a:rPr b="1" lang="de-DE" sz="2400" spc="-1" strike="noStrike">
                <a:solidFill>
                  <a:srgbClr val="0c53a3"/>
                </a:solidFill>
                <a:latin typeface="Courier New"/>
                <a:ea typeface="Courier New"/>
              </a:rPr>
              <a:t>hello1.html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31640" y="1413000"/>
            <a:ext cx="86043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doctype HTML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&lt;meta charset="utf-8"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&lt;title&gt;Test JavaScript&lt;/title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cript&gt;</a:t>
            </a:r>
            <a:br>
              <a:rPr sz="1800"/>
            </a:b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  document.write("&lt;h1&gt;Hello JavaScript!&lt;/h1&gt;");</a:t>
            </a:r>
            <a:br>
              <a:rPr sz="1800"/>
            </a:b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  &lt;/script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2340000" y="4221000"/>
            <a:ext cx="48672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Beispiel  </a:t>
            </a:r>
            <a:r>
              <a:rPr b="1" lang="de-DE" sz="2400" spc="-1" strike="noStrike">
                <a:solidFill>
                  <a:srgbClr val="0c53a3"/>
                </a:solidFill>
                <a:latin typeface="Courier New"/>
                <a:ea typeface="Courier New"/>
              </a:rPr>
              <a:t>hello2.html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431640" y="1413000"/>
            <a:ext cx="86043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doctype HTML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&lt;meta charset="utf-8"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&lt;title&gt;Test JavaScript&lt;/title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script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var ihrName="Tom"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document.write("&lt;h1&gt;Hello JavaScript!&lt;/h1&gt;"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document.writ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"&lt;p&gt;Variable ihrName="+ihrName+"&lt;p&gt;"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var ihrName=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prompt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"Bitte Name eingeben","Markus"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alert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"Ihr Name lautet "+ihrName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document.write("&lt;p&gt;Variable ihrName="+ihrName+"&lt;p&gt;"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/script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Beispiel  </a:t>
            </a:r>
            <a:r>
              <a:rPr b="1" lang="de-DE" sz="2400" spc="-1" strike="noStrike">
                <a:solidFill>
                  <a:srgbClr val="0c53a3"/>
                </a:solidFill>
                <a:latin typeface="Courier New"/>
                <a:ea typeface="Courier New"/>
              </a:rPr>
              <a:t>hello2.html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305240" cy="2923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4400640" cy="291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3152880" y="3789360"/>
            <a:ext cx="50194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Beispiel  </a:t>
            </a:r>
            <a:r>
              <a:rPr b="1" lang="de-DE" sz="2400" spc="-1" strike="noStrike">
                <a:solidFill>
                  <a:srgbClr val="0c53a3"/>
                </a:solidFill>
                <a:latin typeface="Courier New"/>
                <a:ea typeface="Courier New"/>
              </a:rPr>
              <a:t>hello3.html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31640" y="1413000"/>
            <a:ext cx="86043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spcAft>
                <a:spcPts val="10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&lt;label&gt;Vorname&lt;/label&gt; &lt;</a:t>
            </a:r>
            <a:r>
              <a:rPr b="1" lang="de-DE" sz="1700" spc="-1" strike="noStrike">
                <a:solidFill>
                  <a:srgbClr val="ff0000"/>
                </a:solidFill>
                <a:latin typeface="Courier New"/>
                <a:ea typeface="Courier New"/>
              </a:rPr>
              <a:t>input</a:t>
            </a: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id="idVorname" size="10"&gt; &lt;/p&gt;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&lt;label&gt;Nachname&lt;/label&gt; &lt;</a:t>
            </a:r>
            <a:r>
              <a:rPr b="1" lang="de-DE" sz="1700" spc="-1" strike="noStrike">
                <a:solidFill>
                  <a:srgbClr val="ff0000"/>
                </a:solidFill>
                <a:latin typeface="Courier New"/>
                <a:ea typeface="Courier New"/>
              </a:rPr>
              <a:t>input</a:t>
            </a:r>
            <a:r>
              <a:rPr b="0" lang="de-DE" sz="17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id="idNachname" size="10"&gt; &lt;/p&gt;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&lt;input id="idSenden" type="</a:t>
            </a:r>
            <a:r>
              <a:rPr b="1" lang="de-DE" sz="1700" spc="-1" strike="noStrike">
                <a:solidFill>
                  <a:srgbClr val="ff0000"/>
                </a:solidFill>
                <a:latin typeface="Courier New"/>
                <a:ea typeface="Courier New"/>
              </a:rPr>
              <a:t>button</a:t>
            </a: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" </a:t>
            </a:r>
            <a:r>
              <a:rPr b="1" lang="de-DE" sz="1700" spc="-1" strike="noStrike">
                <a:solidFill>
                  <a:srgbClr val="ff0000"/>
                </a:solidFill>
                <a:latin typeface="Courier New"/>
                <a:ea typeface="Courier New"/>
              </a:rPr>
              <a:t>value="senden"</a:t>
            </a: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/p&gt;</a:t>
            </a:r>
            <a:br>
              <a:rPr sz="1700"/>
            </a:br>
            <a:r>
              <a:rPr b="1" lang="de-DE" sz="17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p id="idBegruessung"&gt;&lt;/p&gt;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cript src="util.js"&gt;&lt;/script&gt;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cript&gt;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DE" sz="1700" spc="-1" strike="noStrike">
                <a:solidFill>
                  <a:srgbClr val="002060"/>
                </a:solidFill>
                <a:latin typeface="Courier New"/>
                <a:ea typeface="Courier New"/>
              </a:rPr>
              <a:t>handleEvent("idSenden",  "click", senden); 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handleEvent("idVorname", "returnKey", senden);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handleEvent("idNachname","returnKey", senden);</a:t>
            </a:r>
            <a:br>
              <a:rPr sz="1700"/>
            </a:br>
            <a:r>
              <a:rPr b="1" lang="de-DE" sz="1700" spc="-1" strike="noStrike">
                <a:solidFill>
                  <a:srgbClr val="ff0000"/>
                </a:solidFill>
                <a:latin typeface="Courier New"/>
                <a:ea typeface="Courier New"/>
              </a:rPr>
              <a:t>function senden(){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document.getElementById</a:t>
            </a:r>
            <a:r>
              <a:rPr b="1" lang="de-DE" sz="1700" spc="-1" strike="noStrike">
                <a:solidFill>
                  <a:srgbClr val="ff0000"/>
                </a:solidFill>
                <a:latin typeface="Courier New"/>
                <a:ea typeface="Courier New"/>
              </a:rPr>
              <a:t>("idBegruessung")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.innerHTML="Hallo"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+document.getElementById("idVorname").value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+" "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+document.getElementById("idNachname").value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+"!";}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cript&gt;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902280" y="3816360"/>
            <a:ext cx="2133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48:01Z</dcterms:created>
  <dc:creator>Patrick Gebhard</dc:creator>
  <dc:description/>
  <dc:language>en-US</dc:language>
  <cp:lastModifiedBy>Stephan Baldes</cp:lastModifiedBy>
  <cp:lastPrinted>2014-09-18T20:05:32Z</cp:lastPrinted>
  <dcterms:modified xsi:type="dcterms:W3CDTF">2022-09-13T13:12:51Z</dcterms:modified>
  <cp:revision>1203</cp:revision>
  <dc:subject/>
  <dc:title>Titel</dc:title>
</cp:coreProperties>
</file>