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E316156-DA7C-4F34-947E-192DBB9EA28B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63EB47C-8534-4305-A9FD-1A26EE7F858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AA2E42-7D1D-4E74-8510-DD7BCD1C41C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E101C96-F35C-42AC-A51C-92064CB0D20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A839613-17A0-41B6-A06E-B21E456982D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A307418-2EB5-40FC-8F00-F02D232F989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9E1B740-13D7-4CDF-BB56-0FCFF393749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2516CC5-353C-4E5A-9203-49A3E43BE08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PHP</a:t>
            </a:r>
            <a:br>
              <a:rPr sz="5400"/>
            </a:br>
            <a:r>
              <a:rPr b="0" lang="de-DE" sz="3200" spc="-1" strike="noStrike">
                <a:solidFill>
                  <a:srgbClr val="0c4593"/>
                </a:solidFill>
                <a:latin typeface="Arial"/>
              </a:rPr>
              <a:t>Hypertext Preprocessor</a:t>
            </a:r>
            <a:endParaRPr b="1" lang="en-US" sz="32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26920" y="4724280"/>
            <a:ext cx="800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Grundlage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HP in der Konsol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413000"/>
            <a:ext cx="832176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i ausführe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hp.exe hello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aktiv: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hp.exe 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Grafik 5" descr=""/>
          <p:cNvPicPr/>
          <p:nvPr/>
        </p:nvPicPr>
        <p:blipFill>
          <a:blip r:embed="rId4"/>
          <a:stretch/>
        </p:blipFill>
        <p:spPr>
          <a:xfrm>
            <a:off x="4427640" y="4095720"/>
            <a:ext cx="440208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7" descr=""/>
          <p:cNvPicPr/>
          <p:nvPr/>
        </p:nvPicPr>
        <p:blipFill>
          <a:blip r:embed="rId5"/>
          <a:stretch/>
        </p:blipFill>
        <p:spPr>
          <a:xfrm>
            <a:off x="4427640" y="1609560"/>
            <a:ext cx="44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Die Sprach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sonderheit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96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?php ... ?&gt;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e auf Webseite ausführen</a:t>
            </a:r>
            <a:br>
              <a:rPr sz="2400"/>
            </a:b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?= $wert ?&gt;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 in Webseite einfü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9280" indent="-362160">
              <a:spcBef>
                <a:spcPts val="451"/>
              </a:spcBef>
              <a:spcAft>
                <a:spcPts val="901"/>
              </a:spcAft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nen mit einen $: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$zahl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9280" indent="-36216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ben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keine Datentyp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rden nicht defini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4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zahl1 = 50; $zahl2 = 120; $summe=$zahl1+$zahl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9280" indent="-36216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te im String eingesetz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4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Das Ergebnis lautet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$summ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9280" indent="-36216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mit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'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'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knüp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4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'Das Erg von $summe lautet'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umme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&lt;br&gt;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64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6480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9280" indent="-36216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afik 6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551640" cy="3201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usgabe und Variabl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2463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be mit 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ri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00"/>
              </a:spcBef>
              <a:spcAft>
                <a:spcPts val="1001"/>
              </a:spcAft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HTML ist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otwendig für eine neue Zeile (Im Quellcode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Das ist eine Zeile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br&gt;\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rint_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DE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var_dump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ibt Wert und Datentyp au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var_dump($res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// array(3) {[0]=&gt;int(1) [1]=&gt;int(2) [2]=&gt;int(3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type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, Integer, Float, Boolean, Array, Object, NULL,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ontrollstrukturen und Schleif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, else, elseif,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ile, do … while, for, foreach ($colors as $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rrays / Listen / Map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person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rray()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personArray[0]="Peter"; $zahlArray[1]="Monika"; //…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person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"Peter", "Monika", "Hans"]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personArray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"Tina";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rray / Liste erweiter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tabArray =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22.3, 18.5],[21.6, 19.7],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[24.6, 20.1]]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ict=array("house"=&gt;"Haus", "cat"=&gt;„Katze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$dict = []; 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$dict["house"]="Haus";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ict["cat"]="Katze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( [house] =&gt; Haus [cat] =&gt; Katze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Besonderhei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eine Größenangaben des Arrays (Arrays = Listen = Maps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$x = 0; $x &lt;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ou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personArray); $x++) 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orea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personArray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person) {echo $person;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each($dict as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$key =&gt; $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echo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key = $valu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41480" indent="-3812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SzPct val="10283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ktionen: sort, rsort, array_values,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unktion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66840" y="1413000"/>
            <a:ext cx="8321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unctio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iere ($a, $b, $c=6) {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$sum = $a + $b +$c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return $sum; }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erg = addiere(1,2,3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unktionen mit Datentypen definier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are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ict_types=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 // strict requir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addNumbers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$a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$b) :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turn (int)($a + $b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s by re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add_five(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valu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$value += 5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 2; add_five($n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lassen und Objek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68160" y="149076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ar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$color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$model;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function __construct($color, $model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$this-&gt;color = $color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$this-&gt;model = $model;}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public function message(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return "My car is a " 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$this-&gt;color . " " . $this-&gt;model . "!"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myCar = new Car("black", "Volvo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myCar -&gt; 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Lokale und globale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Variabl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oplevel Variablen sind global</a:t>
            </a:r>
            <a:br>
              <a:rPr sz="2400"/>
            </a:b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1"/>
          <a:stretch/>
        </p:blipFill>
        <p:spPr>
          <a:xfrm>
            <a:off x="714240" y="1916280"/>
            <a:ext cx="8277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608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as ist PHP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1483920"/>
            <a:ext cx="798984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verseitige Skript-Sprache: kein kompi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t dynamischen Webseiten: HTML-Seite wird beim Aufrufen erzeu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ertung von Benutzer-Eingaben (z.B. Formul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bindung der Daten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lient und Server"/>
          <p:cNvPicPr/>
          <p:nvPr/>
        </p:nvPicPr>
        <p:blipFill>
          <a:blip r:embed="rId5"/>
          <a:stretch/>
        </p:blipFill>
        <p:spPr>
          <a:xfrm>
            <a:off x="2214720" y="4365720"/>
            <a:ext cx="47145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eyword global: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Globale Variable in einer Funktion nutzen</a:t>
            </a:r>
            <a:br>
              <a:rPr sz="2400"/>
            </a:b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56" name="Grafik 3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4530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Keyword Static: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Lokale Variablen in Funktionen als global erklä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994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Dynamische Webseite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HP-Anweisung vs PHP-Code und HTML misch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65" name="Rechteck 3"/>
          <p:cNvSpPr/>
          <p:nvPr/>
        </p:nvSpPr>
        <p:spPr>
          <a:xfrm>
            <a:off x="684360" y="1557360"/>
            <a:ext cx="3816360" cy="2016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r($i=0;$i&lt;10;$i++){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echo "&lt;b&gt;";</a:t>
            </a:r>
            <a:br>
              <a:rPr sz="1800"/>
            </a:b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   echo "Zahl $i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   </a:t>
            </a: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echo "&lt;/b&gt;\n";</a:t>
            </a:r>
            <a:br>
              <a:rPr sz="1800"/>
            </a:b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?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hteck 5"/>
          <p:cNvSpPr/>
          <p:nvPr/>
        </p:nvSpPr>
        <p:spPr>
          <a:xfrm>
            <a:off x="4788000" y="1557360"/>
            <a:ext cx="3816360" cy="2016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for($i=0;$i&lt;10;$i++){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?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800" spc="-1" strike="noStrike">
                <a:solidFill>
                  <a:srgbClr val="3399ff"/>
                </a:solidFill>
                <a:latin typeface="Courier New"/>
                <a:ea typeface="Courier New"/>
              </a:rPr>
              <a:t>&lt;b&gt;Zahl &lt;?= $i ?&gt;&lt;/b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?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Grafik 6" descr=""/>
          <p:cNvPicPr/>
          <p:nvPr/>
        </p:nvPicPr>
        <p:blipFill>
          <a:blip r:embed="rId1"/>
          <a:stretch/>
        </p:blipFill>
        <p:spPr>
          <a:xfrm>
            <a:off x="2627280" y="3686040"/>
            <a:ext cx="2725920" cy="2948040"/>
          </a:xfrm>
          <a:prstGeom prst="rect">
            <a:avLst/>
          </a:prstGeom>
          <a:ln w="0">
            <a:noFill/>
          </a:ln>
        </p:spPr>
      </p:pic>
      <p:pic>
        <p:nvPicPr>
          <p:cNvPr id="168" name="Grafik 7" descr=""/>
          <p:cNvPicPr/>
          <p:nvPr/>
        </p:nvPicPr>
        <p:blipFill>
          <a:blip r:embed="rId2"/>
          <a:stretch/>
        </p:blipFill>
        <p:spPr>
          <a:xfrm>
            <a:off x="3552840" y="3686040"/>
            <a:ext cx="2727360" cy="2876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795240" y="4719600"/>
            <a:ext cx="1714680" cy="59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Verdana"/>
              </a:rPr>
              <a:t>HTML mit echo erzeu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0" name="Gerade Verbindung mit Pfeil 13"/>
          <p:cNvCxnSpPr/>
          <p:nvPr/>
        </p:nvCxnSpPr>
        <p:spPr>
          <a:xfrm flipV="1">
            <a:off x="1701360" y="3685680"/>
            <a:ext cx="1080" cy="967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71" name="Rectangle 8"/>
          <p:cNvSpPr/>
          <p:nvPr/>
        </p:nvSpPr>
        <p:spPr>
          <a:xfrm>
            <a:off x="6529320" y="4710240"/>
            <a:ext cx="1714680" cy="59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Verdana"/>
              </a:rPr>
              <a:t>HTML und php misc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2" name="Gerade Verbindung mit Pfeil 15"/>
          <p:cNvCxnSpPr/>
          <p:nvPr/>
        </p:nvCxnSpPr>
        <p:spPr>
          <a:xfrm flipV="1">
            <a:off x="7437240" y="3676320"/>
            <a:ext cx="1080" cy="9691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ähler bis 100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de Methoden ausprob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75640" y="-25560"/>
            <a:ext cx="1944360" cy="1498680"/>
          </a:xfrm>
          <a:prstGeom prst="rect">
            <a:avLst/>
          </a:prstGeom>
          <a:ln w="0">
            <a:noFill/>
          </a:ln>
        </p:spPr>
      </p:pic>
      <p:pic>
        <p:nvPicPr>
          <p:cNvPr id="175" name="Grafik 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4592880" cy="338472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2" descr=""/>
          <p:cNvPicPr/>
          <p:nvPr/>
        </p:nvPicPr>
        <p:blipFill>
          <a:blip r:embed="rId3"/>
          <a:stretch/>
        </p:blipFill>
        <p:spPr>
          <a:xfrm>
            <a:off x="4140360" y="2852640"/>
            <a:ext cx="47815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ck 4"/>
          <p:cNvSpPr/>
          <p:nvPr/>
        </p:nvSpPr>
        <p:spPr>
          <a:xfrm>
            <a:off x="900000" y="4221000"/>
            <a:ext cx="7344000" cy="191304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hteck 3"/>
          <p:cNvSpPr/>
          <p:nvPr/>
        </p:nvSpPr>
        <p:spPr>
          <a:xfrm>
            <a:off x="828720" y="1916280"/>
            <a:ext cx="7415280" cy="144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Inhaltsplatzhalter 2"/>
          <p:cNvSpPr/>
          <p:nvPr/>
        </p:nvSpPr>
        <p:spPr>
          <a:xfrm>
            <a:off x="685800" y="1319040"/>
            <a:ext cx="832176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ormular.htm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action="auswertung.php" method="post"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input type="text" name="name"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swertung.php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if (isset($_REQUEST["name"]) &amp;&amp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$_REQUEST["name"]!="")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$name = $_REQUEST["name"]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echo "Hallo $name!";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ormularauswertung 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abelle mit 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Zufallsfarben generieren</a:t>
            </a:r>
            <a:br>
              <a:rPr sz="2400"/>
            </a:b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6875640" y="58680"/>
            <a:ext cx="1944360" cy="1498680"/>
          </a:xfrm>
          <a:prstGeom prst="rect">
            <a:avLst/>
          </a:prstGeom>
          <a:ln w="0">
            <a:noFill/>
          </a:ln>
        </p:spPr>
      </p:pic>
      <p:pic>
        <p:nvPicPr>
          <p:cNvPr id="183" name="Grafik 2" descr=""/>
          <p:cNvPicPr/>
          <p:nvPr/>
        </p:nvPicPr>
        <p:blipFill>
          <a:blip r:embed="rId2"/>
          <a:stretch/>
        </p:blipFill>
        <p:spPr>
          <a:xfrm>
            <a:off x="633240" y="1803240"/>
            <a:ext cx="78775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Globale Variablen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ession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Grafik 13" descr=""/>
          <p:cNvPicPr/>
          <p:nvPr/>
        </p:nvPicPr>
        <p:blipFill>
          <a:blip r:embed="rId1"/>
          <a:stretch/>
        </p:blipFill>
        <p:spPr>
          <a:xfrm>
            <a:off x="611280" y="1376280"/>
            <a:ext cx="7632720" cy="5357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ession-Variable defin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91" name="Rechteck 10"/>
          <p:cNvSpPr/>
          <p:nvPr/>
        </p:nvSpPr>
        <p:spPr>
          <a:xfrm>
            <a:off x="684360" y="2349360"/>
            <a:ext cx="7488000" cy="18716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hteck 10"/>
          <p:cNvSpPr/>
          <p:nvPr/>
        </p:nvSpPr>
        <p:spPr>
          <a:xfrm>
            <a:off x="1042920" y="5499000"/>
            <a:ext cx="6769080" cy="6476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kaufs-Lis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875640" y="-25560"/>
            <a:ext cx="194436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819000" y="2309760"/>
            <a:ext cx="3753000" cy="2809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3"/>
          <a:stretch/>
        </p:blipFill>
        <p:spPr>
          <a:xfrm>
            <a:off x="4998960" y="2276640"/>
            <a:ext cx="3753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lche Programmiersprache ist am populärsten?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82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kaufsliste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Alles auf einer Sei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6875640" y="-25560"/>
            <a:ext cx="1944360" cy="149868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3" descr=""/>
          <p:cNvPicPr/>
          <p:nvPr/>
        </p:nvPicPr>
        <p:blipFill>
          <a:blip r:embed="rId2"/>
          <a:stretch/>
        </p:blipFill>
        <p:spPr>
          <a:xfrm>
            <a:off x="2325600" y="2133720"/>
            <a:ext cx="44928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Dateizugriff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ien lesen / schreiben / lösch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319040"/>
            <a:ext cx="832176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2800" indent="-3528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i einlesen: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file_get_conten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_reporting(0); //Oder if(file_exists()…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tent = file_get_contents("datei.tx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i zeilenweise ausgeb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isset($content))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//Zeilenweise auftei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//In c#: string[] a = c.Split("\n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$lines=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xplod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\n",$content)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foreach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$lines as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$lin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echo "$line&lt;br&gt;\n";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ien schreiben: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file_put_conten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_put_contents("datei2.txt", "Mein Inhalt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_put_contents("datei2.txt", "Neue Zeile"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FILE_APPE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499"/>
              </a:spcBef>
              <a:spcAft>
                <a:spcPts val="1250"/>
              </a:spcAft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i löschen: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unlink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link("todo.txt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csv-Datei als Tabelle ausge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grpSp>
        <p:nvGrpSpPr>
          <p:cNvPr id="208" name="Gruppieren 9"/>
          <p:cNvGrpSpPr/>
          <p:nvPr/>
        </p:nvGrpSpPr>
        <p:grpSpPr>
          <a:xfrm>
            <a:off x="6062760" y="2235240"/>
            <a:ext cx="2825640" cy="1504800"/>
            <a:chOff x="6062760" y="2235240"/>
            <a:chExt cx="2825640" cy="1504800"/>
          </a:xfrm>
        </p:grpSpPr>
        <p:sp>
          <p:nvSpPr>
            <p:cNvPr id="209" name="Rechteck 8"/>
            <p:cNvSpPr/>
            <p:nvPr/>
          </p:nvSpPr>
          <p:spPr>
            <a:xfrm>
              <a:off x="6062760" y="2235240"/>
              <a:ext cx="2825640" cy="1504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0" name="Grafik 4" descr=""/>
            <p:cNvPicPr/>
            <p:nvPr/>
          </p:nvPicPr>
          <p:blipFill>
            <a:blip r:embed="rId1"/>
            <a:stretch/>
          </p:blipFill>
          <p:spPr>
            <a:xfrm>
              <a:off x="6302520" y="2565000"/>
              <a:ext cx="244620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uppieren 10"/>
          <p:cNvGrpSpPr/>
          <p:nvPr/>
        </p:nvGrpSpPr>
        <p:grpSpPr>
          <a:xfrm>
            <a:off x="6084720" y="4876920"/>
            <a:ext cx="2824200" cy="1504800"/>
            <a:chOff x="6084720" y="4876920"/>
            <a:chExt cx="2824200" cy="1504800"/>
          </a:xfrm>
        </p:grpSpPr>
        <p:sp>
          <p:nvSpPr>
            <p:cNvPr id="212" name="Rechteck 7"/>
            <p:cNvSpPr/>
            <p:nvPr/>
          </p:nvSpPr>
          <p:spPr>
            <a:xfrm>
              <a:off x="6084720" y="4876920"/>
              <a:ext cx="2824200" cy="1504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3" name="Grafik 5" descr=""/>
            <p:cNvPicPr/>
            <p:nvPr/>
          </p:nvPicPr>
          <p:blipFill>
            <a:blip r:embed="rId2"/>
            <a:stretch/>
          </p:blipFill>
          <p:spPr>
            <a:xfrm>
              <a:off x="6156360" y="5092920"/>
              <a:ext cx="2667240" cy="11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feil: nach unten 11"/>
          <p:cNvSpPr/>
          <p:nvPr/>
        </p:nvSpPr>
        <p:spPr>
          <a:xfrm>
            <a:off x="7093080" y="3860640"/>
            <a:ext cx="934920" cy="89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Grafik 13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51847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Erste Beispiele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9" descr="PHP-logo.svg"/>
          <p:cNvPicPr/>
          <p:nvPr/>
        </p:nvPicPr>
        <p:blipFill>
          <a:blip r:embed="rId1"/>
          <a:stretch/>
        </p:blipFill>
        <p:spPr>
          <a:xfrm>
            <a:off x="684360" y="333360"/>
            <a:ext cx="292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  </a:t>
            </a:r>
            <a:r>
              <a:rPr b="1" lang="de-DE" sz="2400" spc="-1" strike="noStrike">
                <a:solidFill>
                  <a:srgbClr val="0c53a3"/>
                </a:solidFill>
                <a:latin typeface="Courier New"/>
                <a:ea typeface="Courier New"/>
              </a:rPr>
              <a:t>first.php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31640" y="1413000"/>
            <a:ext cx="8604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&lt;meta charset="utf-8"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Hallo Welt!&lt;/p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Seite erstellt am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 &lt;?php echo date("d.m.Y - H:i:s"); ?&gt;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Grafik 1" descr=""/>
          <p:cNvPicPr/>
          <p:nvPr/>
        </p:nvPicPr>
        <p:blipFill>
          <a:blip r:embed="rId1"/>
          <a:stretch/>
        </p:blipFill>
        <p:spPr>
          <a:xfrm>
            <a:off x="468360" y="4162320"/>
            <a:ext cx="4151160" cy="247644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3" descr=""/>
          <p:cNvPicPr/>
          <p:nvPr/>
        </p:nvPicPr>
        <p:blipFill>
          <a:blip r:embed="rId2"/>
          <a:stretch/>
        </p:blipFill>
        <p:spPr>
          <a:xfrm>
            <a:off x="4781520" y="4162320"/>
            <a:ext cx="4194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ntwicklungsumgebung XAMPP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8" name="Grafik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8062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afik 6" descr=""/>
          <p:cNvPicPr/>
          <p:nvPr/>
        </p:nvPicPr>
        <p:blipFill>
          <a:blip r:embed="rId1"/>
          <a:stretch/>
        </p:blipFill>
        <p:spPr>
          <a:xfrm>
            <a:off x="5105520" y="2092320"/>
            <a:ext cx="3047760" cy="3821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HP-Datei in Verzeichnis htdocs ablegen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erver starten, localhost/first.php aufruf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1" name="Grafik 4" descr=""/>
          <p:cNvPicPr/>
          <p:nvPr/>
        </p:nvPicPr>
        <p:blipFill>
          <a:blip r:embed="rId2"/>
          <a:stretch/>
        </p:blipFill>
        <p:spPr>
          <a:xfrm>
            <a:off x="826920" y="1546200"/>
            <a:ext cx="3441960" cy="2470320"/>
          </a:xfrm>
          <a:prstGeom prst="rect">
            <a:avLst/>
          </a:prstGeom>
          <a:ln w="0">
            <a:noFill/>
          </a:ln>
        </p:spPr>
      </p:pic>
      <p:sp>
        <p:nvSpPr>
          <p:cNvPr id="112" name="Rechteck 2"/>
          <p:cNvSpPr/>
          <p:nvPr/>
        </p:nvSpPr>
        <p:spPr>
          <a:xfrm>
            <a:off x="6156360" y="2575080"/>
            <a:ext cx="2087640" cy="4316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hteck 7"/>
          <p:cNvSpPr/>
          <p:nvPr/>
        </p:nvSpPr>
        <p:spPr>
          <a:xfrm>
            <a:off x="5749920" y="4869000"/>
            <a:ext cx="936720" cy="288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Grafik 8" descr=""/>
          <p:cNvPicPr/>
          <p:nvPr/>
        </p:nvPicPr>
        <p:blipFill>
          <a:blip r:embed="rId3"/>
          <a:stretch/>
        </p:blipFill>
        <p:spPr>
          <a:xfrm>
            <a:off x="826920" y="4362480"/>
            <a:ext cx="3505320" cy="2090880"/>
          </a:xfrm>
          <a:prstGeom prst="rect">
            <a:avLst/>
          </a:prstGeom>
          <a:ln w="0">
            <a:noFill/>
          </a:ln>
        </p:spPr>
      </p:pic>
      <p:sp>
        <p:nvSpPr>
          <p:cNvPr id="115" name="Rechteck 9"/>
          <p:cNvSpPr/>
          <p:nvPr/>
        </p:nvSpPr>
        <p:spPr>
          <a:xfrm>
            <a:off x="1244520" y="4362480"/>
            <a:ext cx="1671840" cy="43164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hteck 10"/>
          <p:cNvSpPr/>
          <p:nvPr/>
        </p:nvSpPr>
        <p:spPr>
          <a:xfrm>
            <a:off x="1403280" y="1681200"/>
            <a:ext cx="1656000" cy="30780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: Benutzer begrüß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900000" y="4438800"/>
            <a:ext cx="7704360" cy="1942920"/>
          </a:xfrm>
          <a:prstGeom prst="rect">
            <a:avLst/>
          </a:prstGeom>
          <a:ln w="0">
            <a:noFill/>
          </a:ln>
        </p:spPr>
      </p:pic>
      <p:sp>
        <p:nvSpPr>
          <p:cNvPr id="119" name="Pfeil nach unten 1"/>
          <p:cNvSpPr/>
          <p:nvPr/>
        </p:nvSpPr>
        <p:spPr>
          <a:xfrm>
            <a:off x="4299120" y="3568680"/>
            <a:ext cx="113652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675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Beispiel: Benutzer begrüß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2" name="Flussdiagramm: Dokument 2"/>
          <p:cNvSpPr/>
          <p:nvPr/>
        </p:nvSpPr>
        <p:spPr>
          <a:xfrm>
            <a:off x="468360" y="1484280"/>
            <a:ext cx="8675640" cy="20160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&lt;form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action="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welcome.php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" method="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post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label&gt;Vorname: &lt;/label&gt;</a:t>
            </a:r>
            <a:r>
              <a:rPr b="1" lang="de-DE" sz="1600" spc="-1" strike="noStrike">
                <a:solidFill>
                  <a:srgbClr val="00b050"/>
                </a:solidFill>
                <a:latin typeface="Verdana"/>
              </a:rPr>
              <a:t>&lt;input type="text" name="vorname" /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label&gt;Nachname: &lt;/label&gt;</a:t>
            </a:r>
            <a:r>
              <a:rPr b="1" lang="de-DE" sz="1600" spc="-1" strike="noStrike">
                <a:solidFill>
                  <a:srgbClr val="00b050"/>
                </a:solidFill>
                <a:latin typeface="Verdana"/>
              </a:rPr>
              <a:t>&lt;input type="text" name="nachname" /&gt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input type="submit" value="GO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hteck 3"/>
          <p:cNvSpPr/>
          <p:nvPr/>
        </p:nvSpPr>
        <p:spPr>
          <a:xfrm>
            <a:off x="539640" y="1341360"/>
            <a:ext cx="1800360" cy="43200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lcome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lussdiagramm: Dokument 9"/>
          <p:cNvSpPr/>
          <p:nvPr/>
        </p:nvSpPr>
        <p:spPr>
          <a:xfrm>
            <a:off x="468360" y="4005360"/>
            <a:ext cx="8675640" cy="251928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p&gt;&lt;?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$vorname = $_REQUEST['vorname'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$nachname = $_REQUEST['nachname'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cho </a:t>
            </a:r>
            <a:r>
              <a:rPr b="1" lang="de-DE" sz="1600" spc="-1" strike="noStrike">
                <a:solidFill>
                  <a:srgbClr val="00b050"/>
                </a:solidFill>
                <a:latin typeface="Verdana"/>
              </a:rPr>
              <a:t>"Willkommen auf meiner Website, $vorname $nachname!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?&gt;&lt;/p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hteck 10"/>
          <p:cNvSpPr/>
          <p:nvPr/>
        </p:nvSpPr>
        <p:spPr>
          <a:xfrm>
            <a:off x="539640" y="3860640"/>
            <a:ext cx="1800360" cy="432000"/>
          </a:xfrm>
          <a:prstGeom prst="rect">
            <a:avLst/>
          </a:prstGeom>
          <a:solidFill>
            <a:srgbClr val="00b0f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lcome.ph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Stephan Baldes</cp:lastModifiedBy>
  <cp:lastPrinted>2023-02-27T14:49:30Z</cp:lastPrinted>
  <dcterms:modified xsi:type="dcterms:W3CDTF">2023-03-10T11:59:29Z</dcterms:modified>
  <cp:revision>1284</cp:revision>
  <dc:subject/>
  <dc:title>Titel</dc:title>
</cp:coreProperties>
</file>