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52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23FCCCA-AB73-4D47-B61D-A1BDB5C94417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jektorientiertes Programm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ur Zeit am meisten verwendentes Programmierparadigma (1980 populär geword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ere Ansätze: SOA (Service Oriented Approach): Dienste werden über das Internet bereit gestellt und sind über eine standardisierte Schnittstelle aufrufb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undlag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pse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erb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orphis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1E50763-7B7A-4BFB-9E8C-4F82E24A89EF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2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Object 10"/>
          <p:cNvGraphicFramePr/>
          <p:nvPr/>
        </p:nvGraphicFramePr>
        <p:xfrm>
          <a:off x="101520" y="139680"/>
          <a:ext cx="8921880" cy="655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39680"/>
                    <a:ext cx="892188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Vertretungsplan </a:t>
            </a:r>
            <a:br>
              <a:rPr sz="5400"/>
            </a:b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mit Java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88" name="Picture 3" descr="duke1"/>
          <p:cNvPicPr/>
          <p:nvPr/>
        </p:nvPicPr>
        <p:blipFill>
          <a:blip r:embed="rId1"/>
          <a:stretch/>
        </p:blipFill>
        <p:spPr>
          <a:xfrm>
            <a:off x="7236000" y="260280"/>
            <a:ext cx="1685880" cy="18288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db-fullsize-41475-java-runtime-environment"/>
          <p:cNvPicPr/>
          <p:nvPr/>
        </p:nvPicPr>
        <p:blipFill>
          <a:blip r:embed="rId2"/>
          <a:stretch/>
        </p:blipFill>
        <p:spPr>
          <a:xfrm>
            <a:off x="684360" y="189000"/>
            <a:ext cx="3528720" cy="2307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826920" y="4724280"/>
            <a:ext cx="8001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StringBuilder,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Daten lesen/schreiben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ie Java-Klasse StringBuilder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2800" indent="-35280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ing text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xt = text + "neuer Text"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800" indent="-35280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ser: StringBui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380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Builder sb = new StringBuilder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b.append("neuer Text1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b.append("neuer Text2"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rg = sb.toStr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800" indent="-35280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he Dokumentation für weitere Befeh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380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 StringBuilde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800" indent="-352800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380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800" indent="-35280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6227640" y="1773360"/>
            <a:ext cx="2665440" cy="72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Verdana"/>
              </a:rPr>
              <a:t>Sehr ineffizi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Verdana"/>
              </a:rPr>
              <a:t>für große Text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17"/>
          <p:cNvSpPr/>
          <p:nvPr/>
        </p:nvSpPr>
        <p:spPr>
          <a:xfrm flipH="1">
            <a:off x="4932360" y="2133720"/>
            <a:ext cx="12952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HTML mit Java erzeug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Builder sb = new StringBuilder()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b.append("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&lt;!DOCTYPE html&gt;\n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b.append("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&lt;html&gt;\n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b.append("</a:t>
            </a:r>
            <a:r>
              <a:rPr b="1" lang="de-DE" sz="2400" spc="-1" strike="noStrike">
                <a:solidFill>
                  <a:srgbClr val="00b050"/>
                </a:solidFill>
                <a:latin typeface="Arial"/>
              </a:rPr>
              <a:t>&lt;head&gt;\n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b.append("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&lt;meta charset=\"utf-8\"&gt;\n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erg = sb.toString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         </a:t>
            </a: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Generieren von HTML-Cod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020000" y="44280"/>
            <a:ext cx="2124000" cy="1636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611280" y="1579680"/>
            <a:ext cx="828180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88360" indent="-28836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reiben Sie ein Programm, dass eine HTML-Datei erzeugt, die Hello World ausgibt: 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&lt;p&gt;Hello World&lt;/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änzen Sie Ihr Programm, so dass diese Zeile 1000 mal ausgegeben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n Sie Ihre HTML-Datei in eine eigene Datei (s. ueberblick-java.pd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en Sie eine andere HTML-Datei,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eine Tabelle mit nxm Zellen, d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fallszahlen enth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ärben Sie die Zellen mit verschiedenen Farben: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&lt;td style = "background-color: rgb(255,0,0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" &gt; … 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&lt;/t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14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rafik 2" descr=""/>
          <p:cNvPicPr/>
          <p:nvPr/>
        </p:nvPicPr>
        <p:blipFill>
          <a:blip r:embed="rId7"/>
          <a:stretch/>
        </p:blipFill>
        <p:spPr>
          <a:xfrm>
            <a:off x="6529320" y="4292640"/>
            <a:ext cx="23004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aten lesen / schreib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he Datei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ueberblick-java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Grafik 4" descr=""/>
          <p:cNvPicPr/>
          <p:nvPr/>
        </p:nvPicPr>
        <p:blipFill>
          <a:blip r:embed="rId2"/>
          <a:stretch/>
        </p:blipFill>
        <p:spPr>
          <a:xfrm>
            <a:off x="1219320" y="4330800"/>
            <a:ext cx="5657760" cy="2394000"/>
          </a:xfrm>
          <a:prstGeom prst="rect">
            <a:avLst/>
          </a:prstGeom>
          <a:ln w="0">
            <a:noFill/>
          </a:ln>
        </p:spPr>
      </p:pic>
      <p:pic>
        <p:nvPicPr>
          <p:cNvPr id="108" name="Grafik 5" descr=""/>
          <p:cNvPicPr/>
          <p:nvPr/>
        </p:nvPicPr>
        <p:blipFill>
          <a:blip r:embed="rId3"/>
          <a:stretch/>
        </p:blipFill>
        <p:spPr>
          <a:xfrm>
            <a:off x="1219320" y="2254320"/>
            <a:ext cx="565776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Ort der Textdatei im Netbeans-Projek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10" name="Grafik 2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371760" cy="3961080"/>
          </a:xfrm>
          <a:prstGeom prst="rect">
            <a:avLst/>
          </a:prstGeom>
          <a:ln w="0">
            <a:noFill/>
          </a:ln>
        </p:spPr>
      </p:pic>
      <p:pic>
        <p:nvPicPr>
          <p:cNvPr id="111" name="Grafik 3" descr=""/>
          <p:cNvPicPr/>
          <p:nvPr/>
        </p:nvPicPr>
        <p:blipFill>
          <a:blip r:embed="rId2"/>
          <a:stretch/>
        </p:blipFill>
        <p:spPr>
          <a:xfrm>
            <a:off x="4581360" y="2421000"/>
            <a:ext cx="4410360" cy="2543040"/>
          </a:xfrm>
          <a:prstGeom prst="rect">
            <a:avLst/>
          </a:prstGeom>
          <a:ln w="0">
            <a:noFill/>
          </a:ln>
        </p:spPr>
      </p:pic>
      <p:sp>
        <p:nvSpPr>
          <p:cNvPr id="112" name="Line 17"/>
          <p:cNvSpPr/>
          <p:nvPr/>
        </p:nvSpPr>
        <p:spPr>
          <a:xfrm flipH="1">
            <a:off x="3131640" y="2852640"/>
            <a:ext cx="2374920" cy="2232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Generierte Datei im Browser anzeigen lass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14" name="Rechteck 1"/>
          <p:cNvSpPr/>
          <p:nvPr/>
        </p:nvSpPr>
        <p:spPr>
          <a:xfrm>
            <a:off x="900000" y="2205000"/>
            <a:ext cx="7920000" cy="1224000"/>
          </a:xfrm>
          <a:prstGeom prst="rect">
            <a:avLst/>
          </a:prstGeom>
          <a:solidFill>
            <a:srgbClr val="ffffcc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ProcessBuilder( "cmd", "/c", "start", "/B", filename ).star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feld 2"/>
          <p:cNvSpPr/>
          <p:nvPr/>
        </p:nvSpPr>
        <p:spPr>
          <a:xfrm>
            <a:off x="956160" y="162864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ndow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feld 7"/>
          <p:cNvSpPr/>
          <p:nvPr/>
        </p:nvSpPr>
        <p:spPr>
          <a:xfrm>
            <a:off x="956160" y="37162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inux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hteck 10"/>
          <p:cNvSpPr/>
          <p:nvPr/>
        </p:nvSpPr>
        <p:spPr>
          <a:xfrm>
            <a:off x="928800" y="4402080"/>
            <a:ext cx="7920000" cy="1224000"/>
          </a:xfrm>
          <a:prstGeom prst="rect">
            <a:avLst/>
          </a:prstGeom>
          <a:solidFill>
            <a:srgbClr val="ffffcc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ProcessBuilder( "firefox", filename ).star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atenzeile von String in Array aufteil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2240" y="1557000"/>
            <a:ext cx="832176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ext = "a;b;c"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[] textArray = </a:t>
            </a:r>
            <a:r>
              <a:rPr b="1" lang="de-DE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text.split(";")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textArray[0]); //a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textArray[1]); //b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textArray[2]); /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580000" y="2637000"/>
            <a:ext cx="2665440" cy="72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9"/>
                </a:solidFill>
                <a:latin typeface="Verdana"/>
              </a:rPr>
              <a:t>Trennzeich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7020000" y="2349000"/>
            <a:ext cx="0" cy="28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48:01Z</dcterms:created>
  <dc:creator>Patrick Gebhard</dc:creator>
  <dc:description/>
  <dc:language>en-US</dc:language>
  <cp:lastModifiedBy>Walther Rathenau</cp:lastModifiedBy>
  <cp:lastPrinted>2014-09-18T20:05:32Z</cp:lastPrinted>
  <dcterms:modified xsi:type="dcterms:W3CDTF">2018-10-18T10:52:27Z</dcterms:modified>
  <cp:revision>1067</cp:revision>
  <dc:subject/>
  <dc:title>Titel</dc:title>
</cp:coreProperties>
</file>