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0E3F9-7651-4A5D-AFFB-A82CEA81E9A9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5040" y="4708080"/>
            <a:ext cx="4970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liennummernplatzhalter 3"/>
          <p:cNvSpPr/>
          <p:nvPr/>
        </p:nvSpPr>
        <p:spPr>
          <a:xfrm>
            <a:off x="3843360" y="94154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F3511-383F-48BA-8B3E-8D3F694D6FED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956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13320" y="16765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956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13320" y="4320720"/>
            <a:ext cx="267948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0" y="43207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0000" y="1676520"/>
            <a:ext cx="40608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20720"/>
            <a:ext cx="832176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2"/>
          <p:cNvGraphicFramePr/>
          <p:nvPr/>
        </p:nvGraphicFramePr>
        <p:xfrm>
          <a:off x="88920" y="152280"/>
          <a:ext cx="8975880" cy="659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52280"/>
                    <a:ext cx="89758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10"/>
          <p:cNvGraphicFramePr/>
          <p:nvPr/>
        </p:nvGraphicFramePr>
        <p:xfrm>
          <a:off x="101520" y="139680"/>
          <a:ext cx="8921880" cy="655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39680"/>
                    <a:ext cx="892188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53a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321760" cy="50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-32400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33720" indent="-2858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571840" indent="-2476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hyperlink" Target="http://www.w3schools.com/css/css_boxmodel.asp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w3schools.com/css/css_navbar.asp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2637000"/>
            <a:ext cx="800100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3399"/>
                </a:solidFill>
                <a:latin typeface="Arial"/>
                <a:ea typeface="Times New Roman"/>
              </a:rPr>
              <a:t>CSS</a:t>
            </a:r>
            <a:endParaRPr b="1" lang="en-US" sz="5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71680" y="4724280"/>
            <a:ext cx="800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c4593"/>
                </a:solidFill>
                <a:latin typeface="Arial"/>
              </a:rPr>
              <a:t>C</a:t>
            </a:r>
            <a:r>
              <a:rPr b="1" i="1" lang="de-DE" sz="3600" spc="-1" strike="noStrike">
                <a:solidFill>
                  <a:srgbClr val="ff0000"/>
                </a:solidFill>
                <a:latin typeface="Arial"/>
              </a:rPr>
              <a:t>ascading</a:t>
            </a:r>
            <a:r>
              <a:rPr b="1" i="1" lang="de-DE" sz="3600" spc="-1" strike="noStrike">
                <a:solidFill>
                  <a:srgbClr val="0c4593"/>
                </a:solidFill>
                <a:latin typeface="Arial"/>
              </a:rPr>
              <a:t> S</a:t>
            </a:r>
            <a:r>
              <a:rPr b="1" i="1" lang="de-DE" sz="3600" spc="-1" strike="noStrike">
                <a:solidFill>
                  <a:srgbClr val="ff0000"/>
                </a:solidFill>
                <a:latin typeface="Arial"/>
              </a:rPr>
              <a:t>tyle</a:t>
            </a:r>
            <a:r>
              <a:rPr b="1" i="1" lang="de-DE" sz="3600" spc="-1" strike="noStrike">
                <a:solidFill>
                  <a:srgbClr val="0c4593"/>
                </a:solidFill>
                <a:latin typeface="Arial"/>
              </a:rPr>
              <a:t> S</a:t>
            </a:r>
            <a:r>
              <a:rPr b="1" i="1" lang="de-DE" sz="3600" spc="-1" strike="noStrike">
                <a:solidFill>
                  <a:srgbClr val="ff0000"/>
                </a:solidFill>
                <a:latin typeface="Arial"/>
              </a:rPr>
              <a:t>hee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6" descr="http://www.onbile.com/info/wp-content/uploads/2012/03/CSS+HTML.png"/>
          <p:cNvPicPr/>
          <p:nvPr/>
        </p:nvPicPr>
        <p:blipFill>
          <a:blip r:embed="rId1"/>
          <a:stretch/>
        </p:blipFill>
        <p:spPr>
          <a:xfrm>
            <a:off x="6300720" y="404640"/>
            <a:ext cx="2374920" cy="178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2"/>
          <a:stretch/>
        </p:blipFill>
        <p:spPr>
          <a:xfrm>
            <a:off x="900000" y="272880"/>
            <a:ext cx="403884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Verwendung von div und spa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7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19120" y="1413000"/>
            <a:ext cx="83217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div&gt;…&lt;/div&gt;: größere Abschnitte, neuer Absat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span&gt;…&lt;/span&gt;: kleinere Ele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beitrag { border:1px; background-color:#efd;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autor { font-style:italic; 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datum { font-size:80%; color:#444; }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div class="beitrag"&gt;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&lt;p&gt;Wo finde ich weitere Information über HTML?&lt;/p&gt;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&lt;p class="autor"&gt;Moritz Ratlos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&lt;span class="datum"&gt;21.05.2006&lt;/span&g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&lt;/p&gt;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Ids: Individualformate #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0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9120" y="3429000"/>
            <a:ext cx="8516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314640" indent="-3146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#roterBereich { position:absolute; top:130px; left:30px; width:320px; padding:10px; margin:0px; border:4px solid #EE0000; 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1#Titel { font-family:Arial,sans-serif; font-size:2em; font-weight:normal; color:green; }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h1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="Titel"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Diese Überschrift und zwei positionierte Bereiche&lt;/h1&gt;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div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="roterBereich"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&lt;h1&gt;Der rote Bereich&lt;/h1&gt;&lt;/di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hteck 5"/>
          <p:cNvSpPr/>
          <p:nvPr/>
        </p:nvSpPr>
        <p:spPr>
          <a:xfrm>
            <a:off x="1116000" y="1433520"/>
            <a:ext cx="3097080" cy="165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(Selector)#klasse 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{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;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br>
              <a:rPr sz="2400"/>
            </a:b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}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hteck 3"/>
          <p:cNvSpPr/>
          <p:nvPr/>
        </p:nvSpPr>
        <p:spPr>
          <a:xfrm>
            <a:off x="4778280" y="1433520"/>
            <a:ext cx="4114800" cy="1635120"/>
          </a:xfrm>
          <a:prstGeom prst="rect">
            <a:avLst/>
          </a:prstGeom>
          <a:solidFill>
            <a:srgbClr val="33cc33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llte in ein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TML-Datei nur ein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rkomme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Ansonsten Klasse definier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seudoelemente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5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19120" y="1413000"/>
            <a:ext cx="83217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: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color:#EE0000; text-decoration:none; font-weight:bold; }  /* Darstellung aller Links,  *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/* insbesonders unbesuchter *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:vis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color:#EEAAAA; text-decoration:none; font-weight:bold; } /* Darstellung besuchter Link *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:h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Maus über dem Link *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:a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Gewählter Link */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er Befehl inheri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38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hteck 5"/>
          <p:cNvSpPr/>
          <p:nvPr/>
        </p:nvSpPr>
        <p:spPr>
          <a:xfrm>
            <a:off x="1116000" y="1433520"/>
            <a:ext cx="3097080" cy="165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extra span{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    color: inherit;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hteck 3"/>
          <p:cNvSpPr/>
          <p:nvPr/>
        </p:nvSpPr>
        <p:spPr>
          <a:xfrm>
            <a:off x="4778280" y="1433520"/>
            <a:ext cx="4114800" cy="1635120"/>
          </a:xfrm>
          <a:prstGeom prst="rect">
            <a:avLst/>
          </a:prstGeom>
          <a:solidFill>
            <a:srgbClr val="33cc33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nimmt die Format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s Eltern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hteck 1"/>
          <p:cNvSpPr/>
          <p:nvPr/>
        </p:nvSpPr>
        <p:spPr>
          <a:xfrm>
            <a:off x="868320" y="3068640"/>
            <a:ext cx="7255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sty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pa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lor: blu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order: 1px solid black;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.extra span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lor: inherit;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extr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 style="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color:gre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 is &lt;span&gt;a span element&lt;/span&gt; which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style="color:red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 is &lt;span&gt;a span element&lt;/span&gt; which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Grafik 3" descr=""/>
          <p:cNvPicPr/>
          <p:nvPr/>
        </p:nvPicPr>
        <p:blipFill>
          <a:blip r:embed="rId1"/>
          <a:stretch/>
        </p:blipFill>
        <p:spPr>
          <a:xfrm>
            <a:off x="4035600" y="3992400"/>
            <a:ext cx="48574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ichtige CSS-Befehle: Farbe, Text, Fon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4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519120" y="1413000"/>
            <a:ext cx="83217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rbe / Hintergr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lor: rgb(255,0,0);  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//http://www.w3schools.com/tags/ref_colorpicker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ground-color: 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ground-image: url("img_tree.png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ground-repeat: no-repeat | repeat-x | repeat-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ground-attachment: scroll (default) | fixed | loca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xt-align:  left | center | right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tical-align:  top | bottom | middl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xt-decoration: none | underline | overline | line-through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: arial 12pt italic bold;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ichtige CSS-Befehle: Font im Detai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47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9760" y="1305000"/>
            <a:ext cx="83214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milien: Serifen oder nich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spi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ccff"/>
                </a:solidFill>
                <a:latin typeface="Verdana"/>
              </a:rPr>
              <a:t>font: 15px arial, sans-serif; </a:t>
            </a:r>
            <a:br>
              <a:rPr sz="1600"/>
            </a:br>
            <a:r>
              <a:rPr b="0" lang="en-US" sz="1600" spc="-1" strike="noStrike">
                <a:solidFill>
                  <a:srgbClr val="66ccff"/>
                </a:solidFill>
                <a:latin typeface="Verdana"/>
              </a:rPr>
              <a:t>font: italic bold 12px Georgia, serif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font: </a:t>
            </a:r>
            <a:r>
              <a:rPr b="1" i="1" lang="de-DE" sz="1600" spc="-1" strike="noStrike">
                <a:solidFill>
                  <a:srgbClr val="ff0000"/>
                </a:solidFill>
                <a:latin typeface="Verdana"/>
              </a:rPr>
              <a:t> font-style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1" i="1" lang="de-DE" sz="1600" spc="-1" strike="noStrike">
                <a:solidFill>
                  <a:srgbClr val="ff0000"/>
                </a:solidFill>
                <a:latin typeface="Verdana"/>
              </a:rPr>
              <a:t>font-weight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1" i="1" lang="de-DE" sz="1600" spc="-1" strike="noStrike">
                <a:solidFill>
                  <a:srgbClr val="ff0000"/>
                </a:solidFill>
                <a:latin typeface="Verdana"/>
              </a:rPr>
              <a:t>font-size font-famil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-family: "Times New Roman", Times, serif; //3 Alternat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-style: normal | italic;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-weight: normal | bold | 9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-size: 20p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3"/>
          <a:stretch/>
        </p:blipFill>
        <p:spPr>
          <a:xfrm>
            <a:off x="749160" y="1700280"/>
            <a:ext cx="3822840" cy="144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14"/>
          <a:stretch/>
        </p:blipFill>
        <p:spPr>
          <a:xfrm>
            <a:off x="4859280" y="1365120"/>
            <a:ext cx="4105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abelle mit CSS format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020000" y="44280"/>
            <a:ext cx="2124000" cy="1636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611280" y="1579680"/>
            <a:ext cx="82818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rstellen Sie folgende Tabelle, die durch eine zentrale CSS-Datei formatiert wir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3240000" cy="3254400"/>
          </a:xfrm>
          <a:prstGeom prst="rect">
            <a:avLst/>
          </a:prstGeom>
          <a:ln w="0">
            <a:noFill/>
          </a:ln>
        </p:spPr>
      </p:pic>
      <p:sp>
        <p:nvSpPr>
          <p:cNvPr id="155" name="Rechteck 1"/>
          <p:cNvSpPr/>
          <p:nvPr/>
        </p:nvSpPr>
        <p:spPr>
          <a:xfrm>
            <a:off x="360360" y="2276640"/>
            <a:ext cx="2482920" cy="93636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ext rechts ausgerichtet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intergrundfarbe weiß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hteck 6"/>
          <p:cNvSpPr/>
          <p:nvPr/>
        </p:nvSpPr>
        <p:spPr>
          <a:xfrm>
            <a:off x="496800" y="4941720"/>
            <a:ext cx="2490840" cy="93528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ext erscheint obe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laue Hintergrundfarbe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ett in 48p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hteck 7"/>
          <p:cNvSpPr/>
          <p:nvPr/>
        </p:nvSpPr>
        <p:spPr>
          <a:xfrm>
            <a:off x="6521400" y="4948200"/>
            <a:ext cx="2490840" cy="93672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ext erscheint unte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lbe Hintergrundfarbe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nt "Courier New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hteck 8"/>
          <p:cNvSpPr/>
          <p:nvPr/>
        </p:nvSpPr>
        <p:spPr>
          <a:xfrm>
            <a:off x="6446880" y="2276640"/>
            <a:ext cx="2565360" cy="93636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ext erscheint horizontal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d vertikal mitti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ote Hintergrundfarbe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9" name="Gerade Verbindung mit Pfeil 3"/>
          <p:cNvCxnSpPr>
            <a:stCxn id="155" idx="3"/>
          </p:cNvCxnSpPr>
          <p:nvPr/>
        </p:nvCxnSpPr>
        <p:spPr>
          <a:xfrm>
            <a:off x="2843280" y="2744280"/>
            <a:ext cx="100872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Gerade Verbindung mit Pfeil 11"/>
          <p:cNvCxnSpPr>
            <a:stCxn id="156" idx="3"/>
          </p:cNvCxnSpPr>
          <p:nvPr/>
        </p:nvCxnSpPr>
        <p:spPr>
          <a:xfrm flipV="1">
            <a:off x="2987280" y="5010840"/>
            <a:ext cx="864360" cy="3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Gerade Verbindung mit Pfeil 14"/>
          <p:cNvCxnSpPr/>
          <p:nvPr/>
        </p:nvCxnSpPr>
        <p:spPr>
          <a:xfrm flipH="1">
            <a:off x="5866920" y="2924280"/>
            <a:ext cx="58032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Gerade Verbindung mit Pfeil 18"/>
          <p:cNvCxnSpPr>
            <a:stCxn id="157" idx="1"/>
          </p:cNvCxnSpPr>
          <p:nvPr/>
        </p:nvCxnSpPr>
        <p:spPr>
          <a:xfrm flipH="1" flipV="1">
            <a:off x="5866560" y="4941000"/>
            <a:ext cx="654840" cy="47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lemente zentrieren in DIV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020000" y="44280"/>
            <a:ext cx="2124000" cy="16369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611280" y="1579680"/>
            <a:ext cx="82818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hteck 8"/>
          <p:cNvSpPr/>
          <p:nvPr/>
        </p:nvSpPr>
        <p:spPr>
          <a:xfrm>
            <a:off x="3038400" y="1765440"/>
            <a:ext cx="2565360" cy="5112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tikal mittig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7" name="Gerade Verbindung mit Pfeil 14"/>
          <p:cNvCxnSpPr/>
          <p:nvPr/>
        </p:nvCxnSpPr>
        <p:spPr>
          <a:xfrm flipH="1">
            <a:off x="2458440" y="2060280"/>
            <a:ext cx="579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8" name="Grafik 1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1847880" cy="1857240"/>
          </a:xfrm>
          <a:prstGeom prst="rect">
            <a:avLst/>
          </a:prstGeom>
          <a:ln w="0">
            <a:noFill/>
          </a:ln>
        </p:spPr>
      </p:pic>
      <p:sp>
        <p:nvSpPr>
          <p:cNvPr id="169" name="Rechteck 4"/>
          <p:cNvSpPr/>
          <p:nvPr/>
        </p:nvSpPr>
        <p:spPr>
          <a:xfrm>
            <a:off x="2415240" y="24591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nsolas"/>
              </a:rPr>
              <a:t>vertical-align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:</a:t>
            </a:r>
            <a:r>
              <a:rPr b="0" lang="de-DE" sz="2400" spc="-1" strike="noStrike">
                <a:solidFill>
                  <a:srgbClr val="0451a5"/>
                </a:solidFill>
                <a:latin typeface="Consolas"/>
              </a:rPr>
              <a:t>middle</a:t>
            </a:r>
            <a:r>
              <a:rPr b="0" lang="de-DE" sz="24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eck 5"/>
          <p:cNvSpPr/>
          <p:nvPr/>
        </p:nvSpPr>
        <p:spPr>
          <a:xfrm>
            <a:off x="6684840" y="2060640"/>
            <a:ext cx="2208240" cy="1152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Verdana"/>
              </a:rPr>
              <a:t>Funktioniert bei DIV nich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hteck 6"/>
          <p:cNvSpPr/>
          <p:nvPr/>
        </p:nvSpPr>
        <p:spPr>
          <a:xfrm>
            <a:off x="2558880" y="42926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nsolas"/>
              </a:rPr>
              <a:t>&lt;div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Consolas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"box"</a:t>
            </a:r>
            <a:r>
              <a:rPr b="0" lang="en-US" sz="2400" spc="-1" strike="noStrike">
                <a:solidFill>
                  <a:srgbClr val="800000"/>
                </a:solidFill>
                <a:latin typeface="Consola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DIV</a:t>
            </a:r>
            <a:r>
              <a:rPr b="0" lang="en-US" sz="2400" spc="-1" strike="noStrike">
                <a:solidFill>
                  <a:srgbClr val="800000"/>
                </a:solidFill>
                <a:latin typeface="Consolas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Rechteck 7" descr=""/>
          <p:cNvPicPr/>
          <p:nvPr/>
        </p:nvPicPr>
        <p:blipFill>
          <a:blip r:embed="rId3"/>
          <a:stretch/>
        </p:blipFill>
        <p:spPr>
          <a:xfrm>
            <a:off x="2554200" y="4986360"/>
            <a:ext cx="598032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10" descr=""/>
          <p:cNvPicPr/>
          <p:nvPr/>
        </p:nvPicPr>
        <p:blipFill>
          <a:blip r:embed="rId4"/>
          <a:stretch/>
        </p:blipFill>
        <p:spPr>
          <a:xfrm>
            <a:off x="706320" y="4433760"/>
            <a:ext cx="1700280" cy="1689120"/>
          </a:xfrm>
          <a:prstGeom prst="rect">
            <a:avLst/>
          </a:prstGeom>
          <a:ln w="0">
            <a:noFill/>
          </a:ln>
        </p:spPr>
      </p:pic>
      <p:sp>
        <p:nvSpPr>
          <p:cNvPr id="174" name="Rechteck 15"/>
          <p:cNvSpPr/>
          <p:nvPr/>
        </p:nvSpPr>
        <p:spPr>
          <a:xfrm>
            <a:off x="7064280" y="4919760"/>
            <a:ext cx="2038320" cy="1152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it Flex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hteck 16"/>
          <p:cNvSpPr/>
          <p:nvPr/>
        </p:nvSpPr>
        <p:spPr>
          <a:xfrm>
            <a:off x="6997680" y="5425920"/>
            <a:ext cx="257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olas"/>
              </a:rPr>
              <a:t>display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: </a:t>
            </a:r>
            <a:r>
              <a:rPr b="0" lang="en-US" sz="1200" spc="-1" strike="noStrike">
                <a:solidFill>
                  <a:srgbClr val="0451a5"/>
                </a:solidFill>
                <a:latin typeface="Consolas"/>
              </a:rPr>
              <a:t>flex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olas"/>
              </a:rPr>
              <a:t>justify-content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: </a:t>
            </a:r>
            <a:r>
              <a:rPr b="0" lang="en-US" sz="1200" spc="-1" strike="noStrike">
                <a:solidFill>
                  <a:srgbClr val="0451a5"/>
                </a:solidFill>
                <a:latin typeface="Consolas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olas"/>
              </a:rPr>
              <a:t>align-items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: </a:t>
            </a:r>
            <a:r>
              <a:rPr b="0" lang="en-US" sz="1200" spc="-1" strike="noStrike">
                <a:solidFill>
                  <a:srgbClr val="0451a5"/>
                </a:solidFill>
                <a:latin typeface="Consolas"/>
              </a:rPr>
              <a:t>center</a:t>
            </a: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HTML-Tabelle durch CSS ersetz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11280" y="1579680"/>
            <a:ext cx="828180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hteck 8"/>
          <p:cNvSpPr/>
          <p:nvPr/>
        </p:nvSpPr>
        <p:spPr>
          <a:xfrm>
            <a:off x="395280" y="1773360"/>
            <a:ext cx="3960720" cy="338436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tabl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splay: tabl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order:thin solid blue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tr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splay: table-row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td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splay: table-cel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order:thin solid blu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adding:5px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hteck 8"/>
          <p:cNvSpPr/>
          <p:nvPr/>
        </p:nvSpPr>
        <p:spPr>
          <a:xfrm>
            <a:off x="4751280" y="1766880"/>
            <a:ext cx="3961080" cy="33847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abl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r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Name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Vorname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Telefon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 &lt;!-- of tr --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r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Donald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Duck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iv class="td"&gt;0761/123456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 &lt;!-- of tr --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 &lt;!-- of table --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854440" y="5373720"/>
            <a:ext cx="39495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Im Detail: display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lin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lement wird im Textfluss angezeigt, wie z.B. span, b, em, …; width kann nicht an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lock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lement wird mit Absatz angezeigt, wie z.B. div; Angabe von width ist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line-block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e block, allerdings ohne neuen Absatz, Angabe von width und height ist mög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ble, table-row, table-cel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ne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ment wird nicht angeze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lex, grid, conte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Was ist CSS?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S sind eine Erweiterung zu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mit der die Eigenschaften einzelner HTML-Elemente bestimmt werden kö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S ermöglicht die Trennung von Inhalt (HTML) und Darstellung (Styleshe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-363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scad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, dass es zu einem Dokument (HTML)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ehrer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ylesheets geben kan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Beispiel display: inline-block vs block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372200" cy="1866960"/>
          </a:xfrm>
          <a:prstGeom prst="rect">
            <a:avLst/>
          </a:prstGeom>
          <a:ln w="0">
            <a:noFill/>
          </a:ln>
        </p:spPr>
      </p:pic>
      <p:sp>
        <p:nvSpPr>
          <p:cNvPr id="185" name="Flussdiagramm: Dokument 6"/>
          <p:cNvSpPr/>
          <p:nvPr/>
        </p:nvSpPr>
        <p:spPr>
          <a:xfrm>
            <a:off x="468360" y="1844640"/>
            <a:ext cx="4103640" cy="1871640"/>
          </a:xfrm>
          <a:prstGeom prst="flowChartDocumen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bel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width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15e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display: inline-bloc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rgin-bottom: 1e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lussdiagramm: Dokument 5"/>
          <p:cNvSpPr/>
          <p:nvPr/>
        </p:nvSpPr>
        <p:spPr>
          <a:xfrm>
            <a:off x="468360" y="4508640"/>
            <a:ext cx="4103640" cy="1728720"/>
          </a:xfrm>
          <a:prstGeom prst="flowChartDocumen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bel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display: bloc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gin-bottom: 1e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626000" y="4437000"/>
            <a:ext cx="441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Beispiel display: inline-block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89" name="Flussdiagramm: Dokument 6"/>
          <p:cNvSpPr/>
          <p:nvPr/>
        </p:nvSpPr>
        <p:spPr>
          <a:xfrm>
            <a:off x="468360" y="1628640"/>
            <a:ext cx="4103640" cy="3745080"/>
          </a:xfrm>
          <a:prstGeom prst="flowChartDocumen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styl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div, b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order: 2px dashed blue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Verdana"/>
              </a:rPr>
              <a:t>display: inline-bloc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rgin:1e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adding:2ex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div&gt;Eine Box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&lt;div&gt;Noch &lt;b&gt;eine&lt;/b&gt; Box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680000" y="2349360"/>
            <a:ext cx="43560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92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862360" cy="1511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2668680" cy="1440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4140360" y="1557360"/>
            <a:ext cx="2805120" cy="237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4"/>
          <a:stretch/>
        </p:blipFill>
        <p:spPr>
          <a:xfrm>
            <a:off x="4157640" y="4005360"/>
            <a:ext cx="2800440" cy="1368360"/>
          </a:xfrm>
          <a:prstGeom prst="rect">
            <a:avLst/>
          </a:prstGeom>
          <a:ln w="0">
            <a:noFill/>
          </a:ln>
        </p:spPr>
      </p:pic>
      <p:sp>
        <p:nvSpPr>
          <p:cNvPr id="197" name="Rechteck 2"/>
          <p:cNvSpPr/>
          <p:nvPr/>
        </p:nvSpPr>
        <p:spPr>
          <a:xfrm>
            <a:off x="4284720" y="5373720"/>
            <a:ext cx="449892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rgefertigte CSS-Frameworks :</a:t>
            </a:r>
            <a:br>
              <a:rPr sz="2000"/>
            </a:br>
            <a:r>
              <a:rPr b="0" i="1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http://www.yaml.de</a:t>
            </a:r>
            <a:br>
              <a:rPr sz="2000"/>
            </a:br>
            <a:r>
              <a:rPr b="0" i="1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http://twitter.github.io/bootstr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hteck 3"/>
          <p:cNvSpPr/>
          <p:nvPr/>
        </p:nvSpPr>
        <p:spPr>
          <a:xfrm>
            <a:off x="708480" y="557064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bseitenlayout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s Boxmodell: Übersich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00" name="Rechteck 8"/>
          <p:cNvSpPr/>
          <p:nvPr/>
        </p:nvSpPr>
        <p:spPr>
          <a:xfrm>
            <a:off x="1187280" y="6165720"/>
            <a:ext cx="6894720" cy="3938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70c0"/>
                </a:solidFill>
                <a:uFillTx/>
                <a:latin typeface="Verdana"/>
              </a:rPr>
              <a:t>http://www.w3schools.com/css/css_boxmodel.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hteck 2"/>
          <p:cNvSpPr/>
          <p:nvPr/>
        </p:nvSpPr>
        <p:spPr>
          <a:xfrm>
            <a:off x="2335320" y="3176640"/>
            <a:ext cx="4464000" cy="1368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hteck 6"/>
          <p:cNvSpPr/>
          <p:nvPr/>
        </p:nvSpPr>
        <p:spPr>
          <a:xfrm>
            <a:off x="1403280" y="2276640"/>
            <a:ext cx="6193080" cy="3313080"/>
          </a:xfrm>
          <a:prstGeom prst="rect">
            <a:avLst/>
          </a:prstGeom>
          <a:noFill/>
          <a:ln w="22860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feld 3"/>
          <p:cNvSpPr/>
          <p:nvPr/>
        </p:nvSpPr>
        <p:spPr>
          <a:xfrm>
            <a:off x="3490560" y="203184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border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Rahm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feld 4"/>
          <p:cNvSpPr/>
          <p:nvPr/>
        </p:nvSpPr>
        <p:spPr>
          <a:xfrm>
            <a:off x="3510360" y="2565360"/>
            <a:ext cx="339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Verdana"/>
              </a:rPr>
              <a:t>padding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(Innenabstan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3501720" y="1557360"/>
            <a:ext cx="335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Verdana"/>
              </a:rPr>
              <a:t>marg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(Außenabstan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6" name="Gerade Verbindung mit Pfeil 7"/>
          <p:cNvCxnSpPr/>
          <p:nvPr/>
        </p:nvCxnSpPr>
        <p:spPr>
          <a:xfrm>
            <a:off x="2335320" y="4581000"/>
            <a:ext cx="446472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Textfeld 8"/>
          <p:cNvSpPr/>
          <p:nvPr/>
        </p:nvSpPr>
        <p:spPr>
          <a:xfrm>
            <a:off x="4195080" y="4572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Verdana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8" name="Gerade Verbindung mit Pfeil 13"/>
          <p:cNvCxnSpPr/>
          <p:nvPr/>
        </p:nvCxnSpPr>
        <p:spPr>
          <a:xfrm>
            <a:off x="2195280" y="3186000"/>
            <a:ext cx="1080" cy="1395720"/>
          </a:xfrm>
          <a:prstGeom prst="straightConnector1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9" name="Textfeld 15"/>
          <p:cNvSpPr/>
          <p:nvPr/>
        </p:nvSpPr>
        <p:spPr>
          <a:xfrm rot="16200000">
            <a:off x="1543680" y="36763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as Boxmodell: Beispie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660840" cy="280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54824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1"/>
          <p:cNvSpPr/>
          <p:nvPr/>
        </p:nvSpPr>
        <p:spPr>
          <a:xfrm>
            <a:off x="657000" y="6381720"/>
            <a:ext cx="4313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www.w3schools.com/css/css_boxmodel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hteck 7"/>
          <p:cNvSpPr/>
          <p:nvPr/>
        </p:nvSpPr>
        <p:spPr>
          <a:xfrm>
            <a:off x="611280" y="5589720"/>
            <a:ext cx="8137440" cy="4316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amtbreit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feld 8"/>
          <p:cNvSpPr/>
          <p:nvPr/>
        </p:nvSpPr>
        <p:spPr>
          <a:xfrm>
            <a:off x="3060000" y="560556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300px+2*25px+2*25px+2*25px=450p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feld 10"/>
          <p:cNvSpPr/>
          <p:nvPr/>
        </p:nvSpPr>
        <p:spPr>
          <a:xfrm>
            <a:off x="1119600" y="6029280"/>
            <a:ext cx="67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CSS3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efehl: box-sizing: border-box; Gesamtbreite: 400p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Im Detail: width / height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</a:rPr>
              <a:t>&lt;p style="width:30%; height: 300px"&gt; … &lt;/p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 (default), automatische Breite durch Inhalt festgele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ntangabe, z.B. "30%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ängenangabe, z.B. "300px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b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x-width, max-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-width, min-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Im Detail: margin / padding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</a:rPr>
              <a:t>&lt;div style="margin:  20px 30px"&gt; … &lt;/div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00"/>
              </a:spcBef>
              <a:spcAft>
                <a:spcPts val="799"/>
              </a:spcAft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: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aut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* wird automatisch bestimmt,Trick: Element zentriere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00"/>
              </a:spcBef>
              <a:spcAft>
                <a:spcPts val="799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: 20px;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* oben, unten, links, rechts 20px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00"/>
              </a:spcBef>
              <a:spcAft>
                <a:spcPts val="799"/>
              </a:spcAft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: 20px 30px;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* oben, unten 20px, links, rechts 30px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00"/>
              </a:spcBef>
              <a:spcAft>
                <a:spcPts val="799"/>
              </a:spcAft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: 20px 30px 40px;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* oben 20px, links, rechts 30px, unten 40px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00"/>
              </a:spcBef>
              <a:spcAft>
                <a:spcPts val="799"/>
              </a:spcAft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: 20px 31px 40px 32px; 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* oben 20px, rechts 31px, unten 40px, links 32px (im Uhrzeigersinn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z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gin-top, margin-right, margin-bottom, margin-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Im Detail: border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</a:rPr>
              <a:t>&lt;div style="border:  20px solid blue"&gt; … &lt;/div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fassung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der-width /* 20p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der-style /* solid  */              (Reihenfolge 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der-color /* blue 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z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-381240"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rder-top, border-right, border-bottom, border-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osition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19120" y="1413000"/>
            <a:ext cx="83217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ieren von Elementen; Befeh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: static (default) | relative | absolute | fixe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dth|height: 200px; //Größe vom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p|bottom|left|right: 30px; // Anfangs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-index: -1; // Je größer, desto mehr im Vordergr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6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826920" y="1306440"/>
            <a:ext cx="78822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Links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3schools.com:</a:t>
            </a:r>
            <a:br>
              <a:rPr sz="2400"/>
            </a:br>
            <a:r>
              <a:rPr b="0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http://www.w3schools.com/css/default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S Tricks:</a:t>
            </a:r>
            <a:br>
              <a:rPr sz="2400"/>
            </a:br>
            <a:r>
              <a:rPr b="0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https://css-tric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SS4you: </a:t>
            </a:r>
            <a:br>
              <a:rPr sz="2400"/>
            </a:br>
            <a:r>
              <a:rPr b="0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http://www.css4you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3Fools:</a:t>
            </a:r>
            <a:br>
              <a:rPr sz="2400"/>
            </a:br>
            <a:r>
              <a:rPr b="0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http://www.w3fool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exbox Froggy:</a:t>
            </a:r>
            <a:br>
              <a:rPr sz="2400"/>
            </a:br>
            <a:r>
              <a:rPr b="0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http://flexboxfrogg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29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60520" y="1628640"/>
            <a:ext cx="8332560" cy="2838600"/>
          </a:xfrm>
          <a:prstGeom prst="rect">
            <a:avLst/>
          </a:prstGeom>
          <a:ln w="0">
            <a:noFill/>
          </a:ln>
        </p:spPr>
      </p:pic>
      <p:sp>
        <p:nvSpPr>
          <p:cNvPr id="231" name="Rechteck 2"/>
          <p:cNvSpPr/>
          <p:nvPr/>
        </p:nvSpPr>
        <p:spPr>
          <a:xfrm>
            <a:off x="468360" y="5300640"/>
            <a:ext cx="842472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leitung:</a:t>
            </a:r>
            <a:br>
              <a:rPr sz="2000"/>
            </a:br>
            <a:r>
              <a:rPr b="0" i="1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http://www.w3schools.com/css/tryit.asp?filename=trycss_float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33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hteck 1"/>
          <p:cNvSpPr/>
          <p:nvPr/>
        </p:nvSpPr>
        <p:spPr>
          <a:xfrm>
            <a:off x="755640" y="1341360"/>
            <a:ext cx="250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contain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idth: 100%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rgin: 0p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order: 1px solid gra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ine-height: 150%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hteck 2"/>
          <p:cNvSpPr/>
          <p:nvPr/>
        </p:nvSpPr>
        <p:spPr>
          <a:xfrm>
            <a:off x="3564000" y="1341360"/>
            <a:ext cx="216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lef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loat: lef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idth: 160p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rgin: 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adding: 1e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hteck 3"/>
          <p:cNvSpPr/>
          <p:nvPr/>
        </p:nvSpPr>
        <p:spPr>
          <a:xfrm>
            <a:off x="5796000" y="1351080"/>
            <a:ext cx="30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iv.content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rgin-left: 210px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border-left: 1px solid gray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adding: 1e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hteck 4"/>
          <p:cNvSpPr/>
          <p:nvPr/>
        </p:nvSpPr>
        <p:spPr>
          <a:xfrm>
            <a:off x="893880" y="3602160"/>
            <a:ext cx="792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&lt;div class="container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&lt;div class="header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h1 class="header"&gt;W3Schools.com&lt;/h1&gt;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&lt;div class="left"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&gt;"Never increase, ... (1285 1349)&lt;/p&gt;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&lt;div class="content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h2&gt;Free Web Building Tutorials&lt;/h2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p&gt;At W3Schools you will find ...&lt;/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b050"/>
                </a:solidFill>
                <a:latin typeface="Verdana"/>
              </a:rPr>
              <a:t>&lt;div class="footer"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© Copyright by Refsnes Data.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39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hteck 2"/>
          <p:cNvSpPr/>
          <p:nvPr/>
        </p:nvSpPr>
        <p:spPr>
          <a:xfrm>
            <a:off x="455760" y="5300640"/>
            <a:ext cx="858024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leitung:</a:t>
            </a:r>
            <a:br>
              <a:rPr sz="2000"/>
            </a:br>
            <a:r>
              <a:rPr b="0" i="1" lang="en-US" sz="1800" spc="-1" strike="noStrike" u="sng">
                <a:solidFill>
                  <a:srgbClr val="0070c0"/>
                </a:solidFill>
                <a:uFillTx/>
                <a:latin typeface="Verdana"/>
              </a:rPr>
              <a:t>http://little-boxes.de/lb1/18.1-layouts-aus-diesem-buch-uebersicht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590840" y="1484280"/>
            <a:ext cx="59623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in komplettes Webseiten-Layout mit CSS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43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32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Navigations</a:t>
            </a:r>
            <a:br>
              <a:rPr sz="2400"/>
            </a:b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enü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46" name="Rechteck 1"/>
          <p:cNvSpPr/>
          <p:nvPr/>
        </p:nvSpPr>
        <p:spPr>
          <a:xfrm>
            <a:off x="684360" y="1341360"/>
            <a:ext cx="41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l {list-style-type: non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rgin: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dding: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verflow: hidden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i {float: left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:link, a:visited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splay: bloc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dth: 120p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nt-weight: bol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lor: #FFFFFF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ckground-color: #98bf2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xt-align: center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dding: 4p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xt-decoration: non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xt-transform: uppercase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:hover, a:activ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ckground-color: #7A991A;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467160" y="476280"/>
            <a:ext cx="5352840" cy="504720"/>
          </a:xfrm>
          <a:prstGeom prst="rect">
            <a:avLst/>
          </a:prstGeom>
          <a:ln w="0">
            <a:noFill/>
          </a:ln>
        </p:spPr>
      </p:pic>
      <p:sp>
        <p:nvSpPr>
          <p:cNvPr id="248" name="Rechteck 2"/>
          <p:cNvSpPr/>
          <p:nvPr/>
        </p:nvSpPr>
        <p:spPr>
          <a:xfrm>
            <a:off x="4572000" y="1479600"/>
            <a:ext cx="4392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u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li&gt;&lt;a href="#home"&gt;Home&lt;/a&gt;&lt;/li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li&gt;&lt;a href="#news"&gt;News&lt;/a&gt;&lt;/li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li&gt;&lt;a href="#contact"&gt;Contact&lt;/a&gt;&lt;/li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li&gt;&lt;a href="#about"&gt;About&lt;/a&gt;&lt;/li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/u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hteck 3"/>
          <p:cNvSpPr/>
          <p:nvPr/>
        </p:nvSpPr>
        <p:spPr>
          <a:xfrm>
            <a:off x="6443640" y="5950080"/>
            <a:ext cx="2700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Quell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w3schools.com/css/css_navbar.a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esign mit Float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701640" y="1773360"/>
            <a:ext cx="6407280" cy="302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7524720" y="1619280"/>
            <a:ext cx="1200240" cy="2152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7308720" y="4076640"/>
            <a:ext cx="1704960" cy="2448000"/>
          </a:xfrm>
          <a:prstGeom prst="rect">
            <a:avLst/>
          </a:prstGeom>
          <a:ln w="0">
            <a:noFill/>
          </a:ln>
        </p:spPr>
      </p:pic>
      <p:sp>
        <p:nvSpPr>
          <p:cNvPr id="254" name="Rechteck 8"/>
          <p:cNvSpPr/>
          <p:nvPr/>
        </p:nvSpPr>
        <p:spPr>
          <a:xfrm>
            <a:off x="719280" y="5297400"/>
            <a:ext cx="640692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leitung</a:t>
            </a:r>
            <a:br>
              <a:rPr sz="2000"/>
            </a:br>
            <a:r>
              <a:rPr b="0" lang="de-DE" sz="1600" spc="-1" strike="noStrike" u="sng">
                <a:solidFill>
                  <a:srgbClr val="0070c0"/>
                </a:solidFill>
                <a:uFillTx/>
                <a:latin typeface="Verdana"/>
              </a:rPr>
              <a:t>http://little-boxes.de/lb1/12-der-flow-und-positio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Positionen Beispie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56" name="Rechteck 1"/>
          <p:cNvSpPr/>
          <p:nvPr/>
        </p:nvSpPr>
        <p:spPr>
          <a:xfrm>
            <a:off x="539640" y="1436760"/>
            <a:ext cx="3888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v.relativ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osition: relativ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dth: 40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eight: 20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order: 3px solid #8AC007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v.absolut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position: absolut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op: 8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right: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dth: 20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eight: 10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order: 3px solid #8AC007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v.absolute2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top: 4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de-DE" sz="1600" spc="-1" strike="noStrike">
                <a:solidFill>
                  <a:srgbClr val="ff0000"/>
                </a:solidFill>
                <a:latin typeface="Verdana"/>
              </a:rPr>
              <a:t>right: 50p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hteck 2"/>
          <p:cNvSpPr/>
          <p:nvPr/>
        </p:nvSpPr>
        <p:spPr>
          <a:xfrm>
            <a:off x="4140360" y="1469880"/>
            <a:ext cx="47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&lt;div class="relative"&gt;Position: relativ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&lt;div class="absolute"&gt;</a:t>
            </a:r>
            <a:br>
              <a:rPr sz="1600"/>
            </a:b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    Position: absolute1;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&lt;div class="absolute absolute2"&gt;</a:t>
            </a:r>
            <a:br>
              <a:rPr sz="1600"/>
            </a:b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    Position: absolute2;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b0f0"/>
                </a:solidFill>
                <a:latin typeface="Verdana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788000" y="3645000"/>
            <a:ext cx="3981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Element in der Mitte zentrie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0" name="Rechteck 8"/>
          <p:cNvSpPr/>
          <p:nvPr/>
        </p:nvSpPr>
        <p:spPr>
          <a:xfrm>
            <a:off x="701640" y="5335560"/>
            <a:ext cx="660708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leitung</a:t>
            </a:r>
            <a:br>
              <a:rPr sz="2000"/>
            </a:br>
            <a:r>
              <a:rPr b="0" lang="de-DE" sz="2000" spc="-1" strike="noStrike" u="sng">
                <a:solidFill>
                  <a:srgbClr val="0070c0"/>
                </a:solidFill>
                <a:uFillTx/>
                <a:latin typeface="Verdana"/>
              </a:rPr>
              <a:t>http://thestyleworks.de/tut-art/centerblock.s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708440" cy="3209760"/>
          </a:xfrm>
          <a:prstGeom prst="rect">
            <a:avLst/>
          </a:prstGeom>
          <a:ln w="0">
            <a:noFill/>
          </a:ln>
        </p:spPr>
      </p:pic>
      <p:sp>
        <p:nvSpPr>
          <p:cNvPr id="262" name="Rechteck 1"/>
          <p:cNvSpPr/>
          <p:nvPr/>
        </p:nvSpPr>
        <p:spPr>
          <a:xfrm>
            <a:off x="5867280" y="242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#mai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rgin: 200px auto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Tabellen aufhübsch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64" name="Rechteck 8"/>
          <p:cNvSpPr/>
          <p:nvPr/>
        </p:nvSpPr>
        <p:spPr>
          <a:xfrm>
            <a:off x="701640" y="5335560"/>
            <a:ext cx="8118360" cy="1224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leitung</a:t>
            </a:r>
            <a:br>
              <a:rPr sz="2000"/>
            </a:br>
            <a:r>
              <a:rPr b="0" lang="de-DE" sz="1600" spc="-1" strike="noStrike" u="sng">
                <a:solidFill>
                  <a:srgbClr val="0070c0"/>
                </a:solidFill>
                <a:uFillTx/>
                <a:latin typeface="Verdana"/>
              </a:rPr>
              <a:t>http://www.w3schools.com/css/tryit.asp?filename=trycss_table_fa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30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Maßeinheit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2742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Verwendung von CSS?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91960" indent="-291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Hea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e Datei: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&lt;link …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HTML-Tag: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tyle="…"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hteck 2"/>
          <p:cNvSpPr/>
          <p:nvPr/>
        </p:nvSpPr>
        <p:spPr>
          <a:xfrm>
            <a:off x="1042920" y="4324320"/>
            <a:ext cx="7453440" cy="90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link rel= "stylesheet" href="myStyle.css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hteck 8"/>
          <p:cNvSpPr/>
          <p:nvPr/>
        </p:nvSpPr>
        <p:spPr>
          <a:xfrm>
            <a:off x="1127160" y="2060640"/>
            <a:ext cx="7394400" cy="151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sty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3 {font-size: 18pt; font-style: italic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p   {font: normal 1em "Times New Roman", serif;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hteck 9"/>
          <p:cNvSpPr/>
          <p:nvPr/>
        </p:nvSpPr>
        <p:spPr>
          <a:xfrm>
            <a:off x="1042920" y="5834160"/>
            <a:ext cx="7453440" cy="51588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p style="{font: normal 1em 'Times New Roman', serif;}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Farb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20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c53a3"/>
                </a:solidFill>
                <a:latin typeface="Arial"/>
                <a:ea typeface="SimSun"/>
              </a:rPr>
              <a:t>Quellen</a:t>
            </a:r>
            <a:endParaRPr b="1" lang="en-US" sz="28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8321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3sch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chael Dienert: cs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 Handbuch Fachinformat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f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ttle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stylework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Selekto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4" name="Rechteck 2"/>
          <p:cNvSpPr/>
          <p:nvPr/>
        </p:nvSpPr>
        <p:spPr>
          <a:xfrm>
            <a:off x="3635280" y="1484280"/>
            <a:ext cx="2089080" cy="16574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selektor 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{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;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br>
              <a:rPr sz="2400"/>
            </a:b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}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19120" y="3284640"/>
            <a:ext cx="83217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1 { color:red; font-size:48px;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3 {font-size: 18pt; font-style: bold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 {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nt-family: Verdana, Arial, Helvetica, sans-serif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ody { background-color:#FFFFCC; margin-left:100px; }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itere Selekto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08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519120" y="1413000"/>
            <a:ext cx="83217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,li { font-size:110%;} /*Gilt für p und li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* { color:blue; } /* Gilt für das gesamte Dokument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1 { color:red; }  /* h1 rot */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1 i { color:blue; font-style:normal; } /* kursiv in h1 blau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ere Schachteltief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1720" indent="-2934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v * b { color:violet; } /* Beliebige Schachtel-Tief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&lt;div&gt;&lt;p&gt;&lt;b&gt;&lt;/b&gt;&lt;/p&gt;&lt;/div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720" indent="-2934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v &gt; p { color:blue; }  /* Direktes Kind: &lt;div&gt;&lt;p&gt;&lt;/p&gt;&lt;/div&gt;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1720" indent="-2934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v + p { margin-top:100px; } /* Erstes Element (Nachbar) *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[align] { color:red; } /* p mit align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[align=center] { color:blue; text-align:left; } /* p mit align center */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itere Selektor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1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Grafik 2" descr=""/>
          <p:cNvPicPr/>
          <p:nvPr/>
        </p:nvPicPr>
        <p:blipFill>
          <a:blip r:embed="rId1"/>
          <a:stretch/>
        </p:blipFill>
        <p:spPr>
          <a:xfrm>
            <a:off x="511200" y="1484280"/>
            <a:ext cx="8459640" cy="419724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3"/>
          <p:cNvSpPr/>
          <p:nvPr/>
        </p:nvSpPr>
        <p:spPr>
          <a:xfrm>
            <a:off x="608760" y="5823000"/>
            <a:ext cx="37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https://www.w3schools.com/cssref/css_selectors.as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feld 7"/>
          <p:cNvSpPr/>
          <p:nvPr/>
        </p:nvSpPr>
        <p:spPr>
          <a:xfrm>
            <a:off x="409680" y="6108840"/>
            <a:ext cx="87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v.checkboxes&gt;input+label:  &lt;div&gt; mit Klasse "checkboxes" daraus alle &lt;input&gt; und deren &lt;labe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hteck 5"/>
          <p:cNvSpPr/>
          <p:nvPr/>
        </p:nvSpPr>
        <p:spPr>
          <a:xfrm>
            <a:off x="1247760" y="4307040"/>
            <a:ext cx="7140600" cy="165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Weitere Selektoren: Komplexes Beispiel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17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feld 7"/>
          <p:cNvSpPr/>
          <p:nvPr/>
        </p:nvSpPr>
        <p:spPr>
          <a:xfrm>
            <a:off x="409680" y="6108840"/>
            <a:ext cx="87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hteck 5"/>
          <p:cNvSpPr/>
          <p:nvPr/>
        </p:nvSpPr>
        <p:spPr>
          <a:xfrm>
            <a:off x="2257560" y="1413000"/>
            <a:ext cx="5040000" cy="57600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v.checkboxes&gt;input+label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2240" y="2463840"/>
            <a:ext cx="49021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div&gt; mit Klasse "checkboxe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alle &lt;input&g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eren erstes Element &lt;labe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Textfeld 5" descr=""/>
          <p:cNvPicPr/>
          <p:nvPr/>
        </p:nvPicPr>
        <p:blipFill>
          <a:blip r:embed="rId5"/>
          <a:stretch/>
        </p:blipFill>
        <p:spPr>
          <a:xfrm>
            <a:off x="1371600" y="4425840"/>
            <a:ext cx="69501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c53a3"/>
                </a:solidFill>
                <a:latin typeface="Arial"/>
              </a:rPr>
              <a:t>Definition von Klassen</a:t>
            </a:r>
            <a:endParaRPr b="1" lang="en-US" sz="2400" spc="-1" strike="noStrike">
              <a:solidFill>
                <a:srgbClr val="0c53a3"/>
              </a:solidFill>
              <a:latin typeface="Arial"/>
            </a:endParaRPr>
          </a:p>
        </p:txBody>
      </p:sp>
      <p:sp>
        <p:nvSpPr>
          <p:cNvPr id="123" name="Rechteck 4"/>
          <p:cNvSpPr/>
          <p:nvPr/>
        </p:nvSpPr>
        <p:spPr>
          <a:xfrm>
            <a:off x="7740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00040" y="3402000"/>
            <a:ext cx="83217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1.hinterlegt { background-color:#FFFF00 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h1 class="hinterlegt"&gt;H1 knallgelb hinterlegt&lt;/h1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hinterlegt { background-color:#00FFFF 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mit *: *.hinterlegt{…}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h2&gt;&lt;span class="hinterlegt"&gt; türkis&lt;/span&gt;&lt;/h2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extra.hinterlegt { background-color:#FF0000 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h3 class="extra hinterlegt"&gt;H3, rot hinterlegt&lt;/h3&gt;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9440" indent="-379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hteck 5"/>
          <p:cNvSpPr/>
          <p:nvPr/>
        </p:nvSpPr>
        <p:spPr>
          <a:xfrm>
            <a:off x="3203640" y="1484280"/>
            <a:ext cx="3097080" cy="1657440"/>
          </a:xfrm>
          <a:prstGeom prst="rect">
            <a:avLst/>
          </a:prstGeom>
          <a:solidFill>
            <a:srgbClr val="ffff66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(Selektor).klasse 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{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;</a:t>
            </a:r>
            <a:br>
              <a:rPr sz="2400"/>
            </a:br>
            <a:r>
              <a:rPr b="0" lang="de-DE" sz="2400" spc="-1" strike="noStrike">
                <a:solidFill>
                  <a:srgbClr val="000033"/>
                </a:solidFill>
                <a:latin typeface="Arial Unicode MS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attribut</a:t>
            </a: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wert</a:t>
            </a:r>
            <a:br>
              <a:rPr sz="2400"/>
            </a:br>
            <a:r>
              <a:rPr b="0" lang="de-DE" sz="2400" spc="-1" strike="noStrike">
                <a:solidFill>
                  <a:srgbClr val="666600"/>
                </a:solidFill>
                <a:latin typeface="Arial Unicode MS"/>
              </a:rPr>
              <a:t>}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0:48:01Z</dcterms:created>
  <dc:creator>Stephan Baldes</dc:creator>
  <dc:description/>
  <dc:language>en-US</dc:language>
  <cp:lastModifiedBy>Stephan Baldes</cp:lastModifiedBy>
  <cp:lastPrinted>2022-09-13T17:51:19Z</cp:lastPrinted>
  <dcterms:modified xsi:type="dcterms:W3CDTF">2023-01-20T09:30:33Z</dcterms:modified>
  <cp:revision>1128</cp:revision>
  <dc:subject/>
  <dc:title>Titel</dc:title>
</cp:coreProperties>
</file>