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Unit-Tests mit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nunit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826920" y="4724280"/>
            <a:ext cx="8001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87" name="Grafik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4488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89" name="Grafik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448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91" name="Grafik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170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93" name="Grafik 3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Stephan Baldes</cp:lastModifiedBy>
  <cp:lastPrinted>2022-10-07T07:02:45Z</cp:lastPrinted>
  <dcterms:modified xsi:type="dcterms:W3CDTF">2023-07-13T07:31:18Z</dcterms:modified>
  <cp:revision>1130</cp:revision>
  <dc:subject/>
  <dc:title>Titel</dc:title>
</cp:coreProperties>
</file>