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84B-6BB1-48DC-A298-DDDD0341B5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E006-DB1B-40F9-BCD3-031D78E24B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279-4F62-45BD-A2FF-20D520C5F02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103-2247-4F33-8DDB-7F5F9E5558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7D4F-F065-44FF-9015-3AA801C2C1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A3E5-DACC-44AD-B83C-E1214D7CA3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164-035D-4774-99A0-5A2106EEDF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F33A-CB20-46A9-AB11-CBF4700388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E049-0869-43E6-BBC3-F8F0818CE9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4C64-B754-447E-AAA6-565262EECC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E31-0BC8-49BF-9ECC-58265904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422-1A3C-46B0-9654-169F5C78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D81-06D2-44A1-9DEE-B4B6652B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49B-DABC-48FE-B466-E4A99301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0B3-EED6-465A-8670-80C03E35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754-0520-4C49-9D46-C47F767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B7B-58E1-4D60-B772-10D8643B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FDF-6CAD-47B9-ACFC-CCC1637F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CBF-03EF-45E4-98BF-0CE01FD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EA-4DD6-4FF1-A5AC-D4AAC52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B52-D9DB-4706-B36A-9ED2869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056-1094-4E46-B90D-70C4D3B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96D-7311-4915-A627-75FDBA2DBF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FD81-6E32-4720-B484-229958D294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00000" y="2205000"/>
            <a:ext cx="3311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900000" y="2925720"/>
            <a:ext cx="3311640" cy="223200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erprogramm_1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861080" y="2206800"/>
            <a:ext cx="33112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59280" y="2997360"/>
            <a:ext cx="3311640" cy="20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erprogramm_1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s Hauptprogramm delegiert eine Aufgabe an ein Unter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2"/>
          <p:cNvCxnSpPr/>
          <p:nvPr/>
        </p:nvCxnSpPr>
        <p:spPr>
          <a:xfrm>
            <a:off x="3276360" y="2997360"/>
            <a:ext cx="1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Line 13"/>
          <p:cNvSpPr/>
          <p:nvPr/>
        </p:nvSpPr>
        <p:spPr>
          <a:xfrm flipV="1">
            <a:off x="3348000" y="3212640"/>
            <a:ext cx="158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4"/>
          <p:cNvCxnSpPr/>
          <p:nvPr/>
        </p:nvCxnSpPr>
        <p:spPr>
          <a:xfrm>
            <a:off x="3276360" y="4220640"/>
            <a:ext cx="1080" cy="5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Line 15"/>
          <p:cNvSpPr/>
          <p:nvPr/>
        </p:nvSpPr>
        <p:spPr>
          <a:xfrm flipH="1" flipV="1">
            <a:off x="3347640" y="4005000"/>
            <a:ext cx="1584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3349080" y="306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3853080" y="321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3823200" y="39988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321360" y="42926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6762-97BD-447B-80FF-E4E7F1AC28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rteile von Unterprogram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p-Down-Verfahren: “Teile und Herrsch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legung eines Problems in Teil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s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er, übersichtlicher und selbsterklärener Programmauf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ederverwend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Unterprogramm kann für andere ähnliche Aufgaben wieder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Änderbarkeit / Erweite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nderungen nur an einer zentralen 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st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rennte Tests einzelner Programmteile leicht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C993-BDC7-44DB-B9EE-B823C776C1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700360" y="1917720"/>
            <a:ext cx="576360" cy="37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700360" y="1341360"/>
            <a:ext cx="331164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e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e und lokale 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2700360" y="5084640"/>
            <a:ext cx="3311640" cy="12970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3348000" y="2349360"/>
            <a:ext cx="2664000" cy="792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program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kale 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3348000" y="3249720"/>
            <a:ext cx="2664000" cy="792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program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kale 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3348000" y="4149720"/>
            <a:ext cx="2664000" cy="792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program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kale Variab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2709720" y="2133720"/>
            <a:ext cx="557280" cy="43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2709720" y="4869000"/>
            <a:ext cx="557280" cy="43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1EF-0BD2-4B96-B320-392E8B06DD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900000" y="1370160"/>
            <a:ext cx="3311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900000" y="2090880"/>
            <a:ext cx="3311640" cy="25192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alibri"/>
              </a:rPr>
              <a:t>Unterprogramm_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33cc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33cc33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861080" y="1371600"/>
            <a:ext cx="33112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859280" y="3070080"/>
            <a:ext cx="3311640" cy="230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alibri"/>
              </a:rPr>
              <a:t>Unterprogramm_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33ccff"/>
                </a:solidFill>
                <a:latin typeface="Calibri"/>
              </a:rPr>
              <a:t>int 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33cc33"/>
                </a:solidFill>
                <a:latin typeface="Calibri"/>
              </a:rPr>
              <a:t>int 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276720" y="33861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 flipH="1" flipV="1">
            <a:off x="3276360" y="3530520"/>
            <a:ext cx="1655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3203640" y="2881440"/>
            <a:ext cx="17272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überg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B9FA-560A-42C3-BE8A-3E7ADC0D8D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411280" y="4654440"/>
            <a:ext cx="1727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ückgabe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ückgabe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000" y="1370160"/>
            <a:ext cx="3311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900000" y="2090880"/>
            <a:ext cx="3311640" cy="25192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</a:t>
            </a:r>
            <a:r>
              <a:rPr b="0" lang="en-US" sz="1800" spc="-1" strike="noStrike">
                <a:solidFill>
                  <a:srgbClr val="ff9999"/>
                </a:solidFill>
                <a:latin typeface="Calibri"/>
              </a:rPr>
              <a:t>er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Unterprogramm_1(3,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861080" y="1371600"/>
            <a:ext cx="33112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859280" y="3070080"/>
            <a:ext cx="3457800" cy="230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Unterprogramm_1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9999"/>
                </a:solidFill>
                <a:latin typeface="Calibri"/>
              </a:rPr>
              <a:t>return</a:t>
            </a:r>
            <a:r>
              <a:rPr b="0" lang="en-US" sz="1800" spc="-1" strike="noStrike">
                <a:solidFill>
                  <a:srgbClr val="ff9999"/>
                </a:solidFill>
                <a:latin typeface="Calibri"/>
              </a:rPr>
              <a:t> 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4067280" y="3386160"/>
            <a:ext cx="793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1618920" y="3500280"/>
            <a:ext cx="338436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B458-48AC-4E05-BCA3-89D7EB92A4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916360" y="4438800"/>
            <a:ext cx="172692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ückgabe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in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370160"/>
            <a:ext cx="3311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900000" y="2090880"/>
            <a:ext cx="3311640" cy="25192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i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j =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</a:t>
            </a:r>
            <a:r>
              <a:rPr b="0" lang="en-US" sz="1800" spc="-1" strike="noStrike">
                <a:solidFill>
                  <a:srgbClr val="ff9999"/>
                </a:solidFill>
                <a:latin typeface="Calibri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berechneMax(i,j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W(“Max=“+ma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861080" y="1371600"/>
            <a:ext cx="33112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859280" y="3070080"/>
            <a:ext cx="3600360" cy="230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berechneMax(int x, int 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x&lt;y) {res = y;} else {res = x;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9999"/>
                </a:solidFill>
                <a:latin typeface="Calibri"/>
              </a:rPr>
              <a:t>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4067280" y="3386160"/>
            <a:ext cx="793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 flipV="1">
            <a:off x="1692360" y="3141360"/>
            <a:ext cx="32400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7ADB-DD54-44FC-BAB4-FDA1682F20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900000" y="2090880"/>
            <a:ext cx="3311640" cy="25192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 i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endere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W(“i = “+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58920" y="3716280"/>
            <a:ext cx="1727280" cy="358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ist immer noch 10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By Valu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370160"/>
            <a:ext cx="3311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861080" y="1371600"/>
            <a:ext cx="33112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888080" y="2511360"/>
            <a:ext cx="3600360" cy="230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void aendere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340000" y="285264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 flipV="1">
            <a:off x="2339640" y="2997000"/>
            <a:ext cx="266364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435640" y="3645000"/>
            <a:ext cx="23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s Schlüsselwor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bt an, dass kein Wert zurückgegeben wir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 flipV="1">
            <a:off x="5857920" y="2962080"/>
            <a:ext cx="4334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332000" y="5013360"/>
            <a:ext cx="65530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y Value geschieht in C#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ü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e Wertty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t, long, float, double, .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695680" y="841320"/>
            <a:ext cx="3349440" cy="16336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nderungen der Parameter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r Meth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überno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EB7-0D4D-4BC2-87B1-F478BE7535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900000" y="2090880"/>
            <a:ext cx="3311640" cy="25192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[] feld = {10,20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endere(fe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CW(“feld[0] 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feld[0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258920" y="3716280"/>
            <a:ext cx="1727280" cy="358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ld[0] ist nun 5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By Refer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00000" y="1370160"/>
            <a:ext cx="3311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861080" y="1371600"/>
            <a:ext cx="33112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888080" y="2511360"/>
            <a:ext cx="3600360" cy="230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void aendere(int[] f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[0]=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340000" y="285264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H="1" flipV="1">
            <a:off x="2339640" y="2923920"/>
            <a:ext cx="266364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332000" y="5013360"/>
            <a:ext cx="65530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By Reference geschieht in C# fü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k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2695680" y="841320"/>
            <a:ext cx="3349440" cy="16336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nderungen der Parameter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r Meth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überno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9F6-CAC6-4998-9752-AD76E581BB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900000" y="2090880"/>
            <a:ext cx="3311640" cy="2519280"/>
          </a:xfrm>
          <a:prstGeom prst="flowChart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Global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ender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CW(iGlob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258920" y="3716280"/>
            <a:ext cx="1727280" cy="358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lobal ist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e Variabl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00000" y="1370160"/>
            <a:ext cx="331164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upt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861080" y="1371600"/>
            <a:ext cx="33112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888080" y="2511360"/>
            <a:ext cx="3600360" cy="230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void aender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Global=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2340000" y="285264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2339640" y="2923920"/>
            <a:ext cx="266364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332000" y="5013360"/>
            <a:ext cx="65530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lobale Variablen sind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eder Metho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ichtbar und können veränder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893880" y="692280"/>
            <a:ext cx="72784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e Variable: int iGlobal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11"/>
          <p:cNvSpPr/>
          <p:nvPr/>
        </p:nvSpPr>
        <p:spPr>
          <a:xfrm>
            <a:off x="2695680" y="841320"/>
            <a:ext cx="3349440" cy="16336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e Variabl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der Methode veränd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6:17:30Z</dcterms:created>
  <dc:creator>Chitarup</dc:creator>
  <dc:description/>
  <dc:language>en-US</dc:language>
  <cp:lastModifiedBy>Stephan Baldes</cp:lastModifiedBy>
  <dcterms:modified xsi:type="dcterms:W3CDTF">2023-03-16T10:48:45Z</dcterms:modified>
  <cp:revision>25</cp:revision>
  <dc:subject/>
  <dc:title>Slide 1</dc:title>
</cp:coreProperties>
</file>