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9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788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778800" cy="9910800"/>
          </a:xfrm>
          <a:custGeom>
            <a:avLst/>
            <a:gdLst>
              <a:gd name="textAreaLeft" fmla="*/ 360 w 6778800"/>
              <a:gd name="textAreaRight" fmla="*/ 6778440 w 6778800"/>
              <a:gd name="textAreaTop" fmla="*/ 360 h 9910800"/>
              <a:gd name="textAreaBottom" fmla="*/ 9910440 h 9910800"/>
            </a:gdLst>
            <a:ahLst/>
            <a:rect l="textAreaLeft" t="textAreaTop" r="textAreaRight" b="textAreaBottom"/>
            <a:pathLst>
              <a:path w="21600" h="31579">
                <a:moveTo>
                  <a:pt x="5" y="0"/>
                </a:moveTo>
                <a:arcTo wR="5" hR="5" stAng="16200000" swAng="-5400000"/>
                <a:lnTo>
                  <a:pt x="0" y="31574"/>
                </a:lnTo>
                <a:arcTo wR="5" hR="5" stAng="10800000" swAng="-5400000"/>
                <a:lnTo>
                  <a:pt x="21595" y="3157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843360" y="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1440" cy="37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05040" y="4708440"/>
            <a:ext cx="4968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1"/>
          </p:nvPr>
        </p:nvSpPr>
        <p:spPr>
          <a:xfrm>
            <a:off x="3843360" y="9415080"/>
            <a:ext cx="29354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AC9F5-6E63-43A6-8757-B30400974339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5040" y="4708440"/>
            <a:ext cx="49687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708DAD-5A5B-42DA-971C-6EDC1CDB31A0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5040" y="4708440"/>
            <a:ext cx="4968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Würfel simul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3 Würfeln, so lange bis gleiche Augenzahl herauskom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2 Würfel, so lange bis 2 Würfel gleich s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AB2C2B-F273-4D78-93C5-8F36D838A1A5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05040" y="4708440"/>
            <a:ext cx="4968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Würfel simul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3 Würfeln, so lange bis gleiche Augenzahl herauskom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2 Würfel, so lange bis 2 Würfel gleich s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4906BD-442F-4162-B5ED-09E4ED16BBD9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WenQuanYi Zen He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05040" y="4708440"/>
            <a:ext cx="4968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in Zeichner zeichnet sich beim zeichnen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43360" y="9415440"/>
            <a:ext cx="293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952ACD0-B3DF-425A-9193-8C4AA5420C15}" type="slidenum">
              <a:rPr b="0" lang="de-DE" sz="11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5040" y="4708440"/>
            <a:ext cx="49687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5040" y="4708440"/>
            <a:ext cx="4968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170 – c. 125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oliennummernplatzhalter 3"/>
          <p:cNvSpPr/>
          <p:nvPr/>
        </p:nvSpPr>
        <p:spPr>
          <a:xfrm>
            <a:off x="3843360" y="9415440"/>
            <a:ext cx="293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3D50283-6881-4FA6-8BC1-7DBC06CEEEC9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5040" y="4708440"/>
            <a:ext cx="4968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Die Würfelsumme größer als 4*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lange würfeln, bis mindestens m 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bis genau 6 Sech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viele 1en wie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oliennummernplatzhalter 3"/>
          <p:cNvSpPr/>
          <p:nvPr/>
        </p:nvSpPr>
        <p:spPr>
          <a:xfrm>
            <a:off x="3843360" y="9415440"/>
            <a:ext cx="293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9A0C840-AD63-4D35-92AB-2353BE2B5694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5040" y="4708440"/>
            <a:ext cx="4968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Die Würfelsumme größer als 4*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lange würfeln, bis mindestens m 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bis genau 6 Sech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viele 1en wie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oliennummernplatzhalter 3"/>
          <p:cNvSpPr/>
          <p:nvPr/>
        </p:nvSpPr>
        <p:spPr>
          <a:xfrm>
            <a:off x="3843360" y="9415440"/>
            <a:ext cx="293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839B6CB-6D46-4DCA-A6BB-67F1F871BAE1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05040" y="4708440"/>
            <a:ext cx="4968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Die Würfelsumme größer als 4*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lange würfeln, bis mindestens m 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bis genau 6 Sech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viele 1en wie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oliennummernplatzhalter 3"/>
          <p:cNvSpPr/>
          <p:nvPr/>
        </p:nvSpPr>
        <p:spPr>
          <a:xfrm>
            <a:off x="3843360" y="9415440"/>
            <a:ext cx="293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5B0E434-8653-4F8F-9A00-E02F036E693F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5040" y="4708440"/>
            <a:ext cx="4968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Die Würfelsumme größer als 4*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lange würfeln, bis mindestens m 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bis genau 6 Sech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viele 1en wie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oliennummernplatzhalter 3"/>
          <p:cNvSpPr/>
          <p:nvPr/>
        </p:nvSpPr>
        <p:spPr>
          <a:xfrm>
            <a:off x="3843360" y="9415440"/>
            <a:ext cx="293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591468F-7EAE-4A4E-9DDD-B39E9EA73B93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05040" y="4708440"/>
            <a:ext cx="4968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Die Würfelsumme größer als 4*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lange würfeln, bis mindestens m 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bis genau 6 Sech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viele 1en wie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oliennummernplatzhalter 3"/>
          <p:cNvSpPr/>
          <p:nvPr/>
        </p:nvSpPr>
        <p:spPr>
          <a:xfrm>
            <a:off x="3843360" y="9415440"/>
            <a:ext cx="293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58D7259-5C0F-45CF-903E-136E205C8326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5040" y="4708440"/>
            <a:ext cx="4968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Die Würfelsumme größer als 4*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lange würfeln, bis mindestens m 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bis genau 6 Sech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viele 1en wie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oliennummernplatzhalter 3"/>
          <p:cNvSpPr/>
          <p:nvPr/>
        </p:nvSpPr>
        <p:spPr>
          <a:xfrm>
            <a:off x="3843360" y="9415440"/>
            <a:ext cx="293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B70E6FC-5F50-47A8-B52D-6AED4780F145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05040" y="4708440"/>
            <a:ext cx="4968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Die Würfelsumme größer als 4*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lange würfeln, bis mindestens m 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bis genau 6 Sech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viele 1en wie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oliennummernplatzhalter 3"/>
          <p:cNvSpPr/>
          <p:nvPr/>
        </p:nvSpPr>
        <p:spPr>
          <a:xfrm>
            <a:off x="3843360" y="9415440"/>
            <a:ext cx="293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7AC1F6C-3346-42D1-8702-B2798DAFA2DC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5040" y="4708440"/>
            <a:ext cx="4968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Die Würfelsumme größer als 4*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lange würfeln, bis mindestens m 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bis genau 6 Sech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viele 1en wie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oliennummernplatzhalter 3"/>
          <p:cNvSpPr/>
          <p:nvPr/>
        </p:nvSpPr>
        <p:spPr>
          <a:xfrm>
            <a:off x="3843360" y="9415440"/>
            <a:ext cx="293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22A5F38-576E-4A26-8661-9CCB9B662D74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43360" y="9415440"/>
            <a:ext cx="293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FED2812-6DCC-424F-81E4-1C5B365B4B59}" type="slidenum">
              <a:rPr b="0" lang="de-DE" sz="11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5040" y="4708440"/>
            <a:ext cx="49687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5040" y="4708440"/>
            <a:ext cx="49687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oliennummernplatzhalter 3"/>
          <p:cNvSpPr/>
          <p:nvPr/>
        </p:nvSpPr>
        <p:spPr>
          <a:xfrm>
            <a:off x="3843360" y="9415440"/>
            <a:ext cx="293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444F1CA-1307-409C-A0A4-25646C9D55FE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05040" y="4708440"/>
            <a:ext cx="4968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Die Würfelsumme größer als 4*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lange würfeln, bis mindestens m 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bis genau 6 Sech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viele 1en wie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oliennummernplatzhalter 3"/>
          <p:cNvSpPr/>
          <p:nvPr/>
        </p:nvSpPr>
        <p:spPr>
          <a:xfrm>
            <a:off x="3843360" y="9415440"/>
            <a:ext cx="293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DB53E79-6A78-4F52-8502-FBE0AB8CDE8B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5040" y="4708440"/>
            <a:ext cx="4968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ga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Die Würfelsumme größer als 4*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lange würfeln, bis mindestens m 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bis genau 6 Sech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+ Soviele 1en wie 6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Foliennummernplatzhalter 3"/>
          <p:cNvSpPr/>
          <p:nvPr/>
        </p:nvSpPr>
        <p:spPr>
          <a:xfrm>
            <a:off x="3843360" y="9415440"/>
            <a:ext cx="293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446554D-9F74-4B6F-A23D-166233402106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3199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320000"/>
            <a:ext cx="83199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32000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48920" y="432000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8480" y="167652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1520" y="167652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32000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8480" y="432000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11520" y="432000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18960" y="304560"/>
            <a:ext cx="777060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440" y="432000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48920" y="432000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4320000"/>
            <a:ext cx="83199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3199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440" y="4320000"/>
            <a:ext cx="83199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432000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48920" y="432000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8480" y="167652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11520" y="167652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440" y="432000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8480" y="432000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11520" y="4320000"/>
            <a:ext cx="26787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8960" y="304560"/>
            <a:ext cx="777060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32000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48920" y="432000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8920" y="1676520"/>
            <a:ext cx="40600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0000"/>
            <a:ext cx="83199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"/>
          <p:cNvGraphicFramePr/>
          <p:nvPr/>
        </p:nvGraphicFramePr>
        <p:xfrm>
          <a:off x="88920" y="152280"/>
          <a:ext cx="8975880" cy="659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20" y="152280"/>
                    <a:ext cx="8975880" cy="659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440" y="167652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Object 1"/>
          <p:cNvGraphicFramePr/>
          <p:nvPr/>
        </p:nvGraphicFramePr>
        <p:xfrm>
          <a:off x="101520" y="139680"/>
          <a:ext cx="8921880" cy="655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520" y="139680"/>
                    <a:ext cx="8921880" cy="655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440" y="167652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Unterprogramme /</a:t>
            </a:r>
            <a:br>
              <a:rPr sz="5400"/>
            </a:b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Methoden</a:t>
            </a:r>
            <a:endParaRPr b="1" lang="en-US" sz="5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2" name="Picture 11" descr="C Sharp (C#) Logo PNG Vector"/>
          <p:cNvPicPr/>
          <p:nvPr/>
        </p:nvPicPr>
        <p:blipFill>
          <a:blip r:embed="rId1"/>
          <a:stretch/>
        </p:blipFill>
        <p:spPr>
          <a:xfrm>
            <a:off x="7045200" y="260280"/>
            <a:ext cx="1847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4800" spc="-1" strike="noStrike">
                <a:solidFill>
                  <a:srgbClr val="003399"/>
                </a:solidFill>
                <a:latin typeface="Arial"/>
                <a:ea typeface="Times New Roman"/>
              </a:rPr>
              <a:t>Dokumentation</a:t>
            </a:r>
            <a:br>
              <a:rPr sz="4800"/>
            </a:br>
            <a:r>
              <a:rPr b="1" i="1" lang="de-DE" sz="4800" spc="-1" strike="noStrike">
                <a:solidFill>
                  <a:srgbClr val="003399"/>
                </a:solidFill>
                <a:latin typeface="Arial"/>
                <a:ea typeface="Times New Roman"/>
              </a:rPr>
              <a:t>(summary)</a:t>
            </a:r>
            <a:endParaRPr b="1" lang="en-US" sz="48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2" name="Picture 11" descr="C Sharp (C#) Logo PNG Vector"/>
          <p:cNvPicPr/>
          <p:nvPr/>
        </p:nvPicPr>
        <p:blipFill>
          <a:blip r:embed="rId1"/>
          <a:stretch/>
        </p:blipFill>
        <p:spPr>
          <a:xfrm>
            <a:off x="7045200" y="260280"/>
            <a:ext cx="1847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Grafik 2" descr=""/>
          <p:cNvPicPr/>
          <p:nvPr/>
        </p:nvPicPr>
        <p:blipFill>
          <a:blip r:embed="rId1"/>
          <a:stretch/>
        </p:blipFill>
        <p:spPr>
          <a:xfrm>
            <a:off x="828720" y="1685880"/>
            <a:ext cx="7991280" cy="49132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Dokumentation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Kommentare in den Quellcode schreib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4390920" y="1247760"/>
            <a:ext cx="4753080" cy="161136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///&lt;summary&gt;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///…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///&lt;/summary&gt;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Doku-Kommentar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Line 17"/>
          <p:cNvSpPr/>
          <p:nvPr/>
        </p:nvSpPr>
        <p:spPr>
          <a:xfrm flipH="1">
            <a:off x="3069720" y="1730520"/>
            <a:ext cx="1336680" cy="215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Line 17"/>
          <p:cNvSpPr/>
          <p:nvPr/>
        </p:nvSpPr>
        <p:spPr>
          <a:xfrm flipH="1">
            <a:off x="6732720" y="2859120"/>
            <a:ext cx="71280" cy="611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4800" spc="-1" strike="noStrike">
                <a:solidFill>
                  <a:srgbClr val="003399"/>
                </a:solidFill>
                <a:latin typeface="Arial"/>
                <a:ea typeface="Times New Roman"/>
              </a:rPr>
              <a:t>Typumwandlungen</a:t>
            </a:r>
            <a:br>
              <a:rPr sz="4800"/>
            </a:br>
            <a:r>
              <a:rPr b="1" i="1" lang="de-DE" sz="4800" spc="-1" strike="noStrike">
                <a:solidFill>
                  <a:srgbClr val="003399"/>
                </a:solidFill>
                <a:latin typeface="Arial"/>
                <a:ea typeface="Times New Roman"/>
              </a:rPr>
              <a:t>(Typecasting)</a:t>
            </a:r>
            <a:endParaRPr b="1" lang="en-US" sz="48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11" descr="C Sharp (C#) Logo PNG Vector"/>
          <p:cNvPicPr/>
          <p:nvPr/>
        </p:nvPicPr>
        <p:blipFill>
          <a:blip r:embed="rId1"/>
          <a:stretch/>
        </p:blipFill>
        <p:spPr>
          <a:xfrm>
            <a:off x="7045200" y="260280"/>
            <a:ext cx="1847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Implizites und explizites Typecasting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440" y="167652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int iZahl=1000;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long loZahl=1000000;</a:t>
            </a:r>
            <a:br>
              <a:rPr sz="1900"/>
            </a:br>
            <a:r>
              <a:rPr b="0" lang="de-DE" sz="1900" spc="-1" strike="noStrike">
                <a:solidFill>
                  <a:srgbClr val="ff0000"/>
                </a:solidFill>
                <a:latin typeface="Arial"/>
              </a:rPr>
              <a:t>loZahl=iZahl; // funktioniert implizi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ong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iZahl = </a:t>
            </a:r>
            <a:r>
              <a:rPr b="0" lang="de-DE" sz="1900" spc="-1" strike="noStrike">
                <a:solidFill>
                  <a:srgbClr val="ff0000"/>
                </a:solidFill>
                <a:latin typeface="Arial"/>
              </a:rPr>
              <a:t>(int)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loZahl; </a:t>
            </a:r>
            <a:r>
              <a:rPr b="0" lang="de-DE" sz="1900" spc="-1" strike="noStrike">
                <a:solidFill>
                  <a:srgbClr val="ff0000"/>
                </a:solidFill>
                <a:latin typeface="Arial"/>
              </a:rPr>
              <a:t>// explizit durch den Typecast-Operat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loat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float fZahl=3.14f;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double dZahl=77.7;</a:t>
            </a:r>
            <a:br>
              <a:rPr sz="1900"/>
            </a:br>
            <a:r>
              <a:rPr b="0" lang="de-DE" sz="1900" spc="-1" strike="noStrike">
                <a:solidFill>
                  <a:srgbClr val="ff0000"/>
                </a:solidFill>
                <a:latin typeface="Arial"/>
              </a:rPr>
              <a:t>dZahl = fZahl; // funktioniert implizi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ouble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flo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fZahl = </a:t>
            </a:r>
            <a:r>
              <a:rPr b="0" lang="de-DE" sz="1900" spc="-1" strike="noStrike">
                <a:solidFill>
                  <a:srgbClr val="ff0000"/>
                </a:solidFill>
                <a:latin typeface="Arial"/>
              </a:rPr>
              <a:t>(float)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dZahl; </a:t>
            </a:r>
            <a:r>
              <a:rPr b="0" lang="de-DE" sz="1900" spc="-1" strike="noStrike">
                <a:solidFill>
                  <a:srgbClr val="ff0000"/>
                </a:solidFill>
                <a:latin typeface="Arial"/>
              </a:rPr>
              <a:t>// explizit durch den Typecast-Operat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Explizites Typecasting zwischen verschiedenen Datentyp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440" y="167652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flo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Int iZahl1=5;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float fZahl1=10.8f;</a:t>
            </a:r>
            <a:br>
              <a:rPr sz="1900"/>
            </a:b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fZahl1 = </a:t>
            </a:r>
            <a:r>
              <a:rPr b="0" lang="de-DE" sz="1900" spc="-1" strike="noStrike">
                <a:solidFill>
                  <a:srgbClr val="ff0000"/>
                </a:solidFill>
                <a:latin typeface="Arial"/>
              </a:rPr>
              <a:t>(float)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iZahl1;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iZahl1 = </a:t>
            </a:r>
            <a:r>
              <a:rPr b="0" lang="de-DE" sz="1900" spc="-1" strike="noStrike">
                <a:solidFill>
                  <a:srgbClr val="ff0000"/>
                </a:solidFill>
                <a:latin typeface="Arial"/>
              </a:rPr>
              <a:t>(int)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fZahl1; // danach hat iZahl1 den Wert </a:t>
            </a:r>
            <a:r>
              <a:rPr b="0" lang="de-DE" sz="19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nt, String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lo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String sZahl1="56";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int iZahl1=5;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float fZahl1=10.8f;</a:t>
            </a:r>
            <a:br>
              <a:rPr sz="1900"/>
            </a:b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iZahl1 = </a:t>
            </a:r>
            <a:r>
              <a:rPr b="0" lang="de-DE" sz="1900" spc="-1" strike="noStrike">
                <a:solidFill>
                  <a:srgbClr val="ff0000"/>
                </a:solidFill>
                <a:latin typeface="Arial"/>
              </a:rPr>
              <a:t>Convert.ToInt32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(sZahl1);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sZahl1 = </a:t>
            </a:r>
            <a:r>
              <a:rPr b="0" lang="de-DE" sz="1900" spc="-1" strike="noStrike">
                <a:solidFill>
                  <a:srgbClr val="ff0000"/>
                </a:solidFill>
                <a:latin typeface="Arial"/>
              </a:rPr>
              <a:t>Convert.ToString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(iZahl1); 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fZahl1 = </a:t>
            </a:r>
            <a:r>
              <a:rPr b="0" lang="de-DE" sz="1900" spc="-1" strike="noStrike">
                <a:solidFill>
                  <a:srgbClr val="ff0000"/>
                </a:solidFill>
                <a:latin typeface="Arial"/>
              </a:rPr>
              <a:t>Convert.ToDouble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(sZahl1);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Typecasting Beispiele 1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440" y="167652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Zahl = (int) fZahl1 * (int) fZahl2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Zahl = (int) (fZahl1 * fZahl2);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// Klammern sind hier wichti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Zahl2 = fZahl1; // geht impliz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Zahl = (float)(iZahl1 + iZahl2); // expliziter Typecast-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Zahl1 = Convert.ToString(loZahl1 + (long) iZahl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Zahl1= 45.765f;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Zahl1= (int) fZahl1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// erhält nur den ganzteiligen Anteil, also 45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Typecasting Beispiele 2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440" y="167652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unden einer float-Zahl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loat fZahl1=45.49f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 iZahl1 = (int) (fZahl1+0.5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unden auf 3 Kommastellen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loat fZahl1=45.123456f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loat fZahl3 =  (int)(fZahl1*1000+0.5f)/1000f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rbeitsauftrag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4389480" cy="33814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1476360" y="5084640"/>
            <a:ext cx="6192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79440" indent="-37944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ürfel-Simulation schreib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4800" spc="-1" strike="noStrike">
                <a:solidFill>
                  <a:srgbClr val="003399"/>
                </a:solidFill>
                <a:latin typeface="Arial"/>
                <a:ea typeface="Times New Roman"/>
              </a:rPr>
              <a:t>Rekursion</a:t>
            </a:r>
            <a:endParaRPr b="1" lang="en-US" sz="48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11" descr="C Sharp (C#) Logo PNG Vector"/>
          <p:cNvPicPr/>
          <p:nvPr/>
        </p:nvPicPr>
        <p:blipFill>
          <a:blip r:embed="rId1"/>
          <a:stretch/>
        </p:blipFill>
        <p:spPr>
          <a:xfrm>
            <a:off x="7045200" y="260280"/>
            <a:ext cx="1847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Was passiert hier?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67680" cy="49435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1692360" y="6453360"/>
            <a:ext cx="6019560" cy="247320"/>
          </a:xfrm>
          <a:prstGeom prst="rect">
            <a:avLst/>
          </a:prstGeom>
          <a:ln w="0">
            <a:noFill/>
          </a:ln>
        </p:spPr>
      </p:pic>
      <p:sp>
        <p:nvSpPr>
          <p:cNvPr id="182" name="Textfeld 1"/>
          <p:cNvSpPr/>
          <p:nvPr/>
        </p:nvSpPr>
        <p:spPr>
          <a:xfrm>
            <a:off x="1066320" y="6438960"/>
            <a:ext cx="64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Quelle: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4F0114-06A9-4690-B661-E503FE12D975}" type="slidenum">
              <a:rPr b="0" lang="de-DE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900000" y="2205000"/>
            <a:ext cx="3311640" cy="576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uptprogram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900000" y="2925720"/>
            <a:ext cx="3311640" cy="2232000"/>
          </a:xfrm>
          <a:prstGeom prst="flowChartDocumen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weisung_1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weisung_2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terprogramm_1(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weisung_3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weisung_4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861080" y="2206800"/>
            <a:ext cx="3311280" cy="576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terprogram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859280" y="2997360"/>
            <a:ext cx="3311640" cy="2087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terprogramm_1() {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weisung_1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weisung_2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weisung_3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Das Hauptprogramm delegiert eine Aufgabe an ein Unterprogramm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cxnSp>
        <p:nvCxnSpPr>
          <p:cNvPr id="99" name="AutoShape 12"/>
          <p:cNvCxnSpPr/>
          <p:nvPr/>
        </p:nvCxnSpPr>
        <p:spPr>
          <a:xfrm>
            <a:off x="3276360" y="2997360"/>
            <a:ext cx="1080" cy="576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Line 13"/>
          <p:cNvSpPr/>
          <p:nvPr/>
        </p:nvSpPr>
        <p:spPr>
          <a:xfrm flipV="1">
            <a:off x="3348000" y="3212640"/>
            <a:ext cx="158436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01" name="AutoShape 14"/>
          <p:cNvCxnSpPr/>
          <p:nvPr/>
        </p:nvCxnSpPr>
        <p:spPr>
          <a:xfrm>
            <a:off x="3276360" y="4220640"/>
            <a:ext cx="1080" cy="57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Line 15"/>
          <p:cNvSpPr/>
          <p:nvPr/>
        </p:nvSpPr>
        <p:spPr>
          <a:xfrm flipH="1" flipV="1">
            <a:off x="3347640" y="4005000"/>
            <a:ext cx="1584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3315600" y="3068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3819960" y="3213000"/>
            <a:ext cx="4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3789000" y="39988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Rectangle 20"/>
          <p:cNvSpPr/>
          <p:nvPr/>
        </p:nvSpPr>
        <p:spPr>
          <a:xfrm>
            <a:off x="3286440" y="4292640"/>
            <a:ext cx="4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611280" y="5084640"/>
            <a:ext cx="3529080" cy="935280"/>
          </a:xfrm>
          <a:prstGeom prst="rect">
            <a:avLst/>
          </a:prstGeom>
          <a:solidFill>
            <a:srgbClr val="00b0f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Fibonacci-Zahl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67652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erste Fib-Zahl ist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zweite Fib-Zahl ist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n-te Fib-Zahl ist die Summ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zwei vorheri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so: 1   1   2   3  5   8   13   21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b(0)=1, fib(1)=1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b(n) = fib(n-1)+fib(n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: Welchen Wert hat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fib(90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http://upload.wikimedia.org/wikipedia/commons/a/a2/Fibonacci.jpg"/>
          <p:cNvPicPr/>
          <p:nvPr/>
        </p:nvPicPr>
        <p:blipFill>
          <a:blip r:embed="rId1"/>
          <a:stretch/>
        </p:blipFill>
        <p:spPr>
          <a:xfrm>
            <a:off x="7804080" y="115920"/>
            <a:ext cx="1228680" cy="1657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http://upload.wikimedia.org/wikipedia/commons/b/b6/Goldener_Schnitt_Bluetenstand_Sonnenblume.jpg"/>
          <p:cNvPicPr/>
          <p:nvPr/>
        </p:nvPicPr>
        <p:blipFill>
          <a:blip r:embed="rId2"/>
          <a:stretch/>
        </p:blipFill>
        <p:spPr>
          <a:xfrm>
            <a:off x="7491240" y="1943280"/>
            <a:ext cx="1541520" cy="1244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3"/>
          <a:stretch/>
        </p:blipFill>
        <p:spPr>
          <a:xfrm>
            <a:off x="7597800" y="3330720"/>
            <a:ext cx="132876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rbeitsauftrag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4389480" cy="33814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6"/>
          <p:cNvSpPr/>
          <p:nvPr/>
        </p:nvSpPr>
        <p:spPr>
          <a:xfrm>
            <a:off x="468360" y="4724280"/>
            <a:ext cx="867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55520" indent="-155520" algn="ctr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erechnung der 90-ten Fibonacci-Zahl</a:t>
            </a:r>
            <a:br>
              <a:rPr sz="2800"/>
            </a:br>
            <a:br>
              <a:rPr sz="2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finieren Sie eine Methode, die mithilfe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es Arrays die 90-te Fibonacci-Zahl errechnet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55520" indent="-15552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2.880.067.194.370.816.12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Iterative Lösung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57085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Was macht dieses Programm?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453960" y="1413000"/>
            <a:ext cx="4838760" cy="2376360"/>
          </a:xfrm>
          <a:prstGeom prst="rect">
            <a:avLst/>
          </a:prstGeom>
          <a:ln w="0">
            <a:noFill/>
          </a:ln>
        </p:spPr>
      </p:pic>
      <p:sp>
        <p:nvSpPr>
          <p:cNvPr id="196" name="Rechteck 1"/>
          <p:cNvSpPr/>
          <p:nvPr/>
        </p:nvSpPr>
        <p:spPr>
          <a:xfrm>
            <a:off x="4403880" y="1413000"/>
            <a:ext cx="1584000" cy="431640"/>
          </a:xfrm>
          <a:prstGeom prst="rect">
            <a:avLst/>
          </a:prstGeom>
          <a:solidFill>
            <a:srgbClr val="00b0f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own(500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97" name="Gewinkelte Verbindung 3"/>
          <p:cNvCxnSpPr/>
          <p:nvPr/>
        </p:nvCxnSpPr>
        <p:spPr>
          <a:xfrm flipH="1" rot="16200000">
            <a:off x="4719600" y="1672200"/>
            <a:ext cx="303840" cy="648360"/>
          </a:xfrm>
          <a:prstGeom prst="bentConnector2">
            <a:avLst/>
          </a:prstGeom>
          <a:ln w="57240">
            <a:solidFill>
              <a:srgbClr val="000099"/>
            </a:solidFill>
            <a:round/>
            <a:tailEnd len="med" type="arrow" w="med"/>
          </a:ln>
        </p:spPr>
      </p:cxnSp>
      <p:sp>
        <p:nvSpPr>
          <p:cNvPr id="198" name="Textfeld 4"/>
          <p:cNvSpPr/>
          <p:nvPr/>
        </p:nvSpPr>
        <p:spPr>
          <a:xfrm>
            <a:off x="5250960" y="191628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Rechteck 11"/>
          <p:cNvSpPr/>
          <p:nvPr/>
        </p:nvSpPr>
        <p:spPr>
          <a:xfrm>
            <a:off x="5413320" y="2349360"/>
            <a:ext cx="1582920" cy="432000"/>
          </a:xfrm>
          <a:prstGeom prst="rect">
            <a:avLst/>
          </a:prstGeom>
          <a:solidFill>
            <a:srgbClr val="00b0f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own(499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00" name="Gewinkelte Verbindung 12"/>
          <p:cNvCxnSpPr/>
          <p:nvPr/>
        </p:nvCxnSpPr>
        <p:spPr>
          <a:xfrm flipH="1" rot="16200000">
            <a:off x="5728320" y="2608200"/>
            <a:ext cx="302400" cy="648360"/>
          </a:xfrm>
          <a:prstGeom prst="bentConnector2">
            <a:avLst/>
          </a:prstGeom>
          <a:ln w="57240">
            <a:solidFill>
              <a:srgbClr val="000099"/>
            </a:solidFill>
            <a:round/>
            <a:tailEnd len="med" type="arrow" w="med"/>
          </a:ln>
        </p:spPr>
      </p:cxnSp>
      <p:sp>
        <p:nvSpPr>
          <p:cNvPr id="201" name="Textfeld 13"/>
          <p:cNvSpPr/>
          <p:nvPr/>
        </p:nvSpPr>
        <p:spPr>
          <a:xfrm>
            <a:off x="6260040" y="285264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49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Rechteck 14"/>
          <p:cNvSpPr/>
          <p:nvPr/>
        </p:nvSpPr>
        <p:spPr>
          <a:xfrm>
            <a:off x="6421320" y="3284640"/>
            <a:ext cx="1582920" cy="431640"/>
          </a:xfrm>
          <a:prstGeom prst="rect">
            <a:avLst/>
          </a:prstGeom>
          <a:solidFill>
            <a:srgbClr val="00b0f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own(498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03" name="Gewinkelte Verbindung 15"/>
          <p:cNvCxnSpPr/>
          <p:nvPr/>
        </p:nvCxnSpPr>
        <p:spPr>
          <a:xfrm flipH="1" rot="16200000">
            <a:off x="6800760" y="3543840"/>
            <a:ext cx="303840" cy="648360"/>
          </a:xfrm>
          <a:prstGeom prst="bentConnector2">
            <a:avLst/>
          </a:prstGeom>
          <a:ln w="57240">
            <a:solidFill>
              <a:srgbClr val="000099"/>
            </a:solidFill>
            <a:round/>
            <a:tailEnd len="med" type="arrow" w="med"/>
          </a:ln>
        </p:spPr>
      </p:cxnSp>
      <p:sp>
        <p:nvSpPr>
          <p:cNvPr id="204" name="Textfeld 16"/>
          <p:cNvSpPr/>
          <p:nvPr/>
        </p:nvSpPr>
        <p:spPr>
          <a:xfrm>
            <a:off x="7332480" y="378936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498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hteck 17"/>
          <p:cNvSpPr/>
          <p:nvPr/>
        </p:nvSpPr>
        <p:spPr>
          <a:xfrm>
            <a:off x="7451640" y="4264200"/>
            <a:ext cx="1584360" cy="431640"/>
          </a:xfrm>
          <a:prstGeom prst="rect">
            <a:avLst/>
          </a:prstGeom>
          <a:solidFill>
            <a:srgbClr val="00b0f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own(497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06" name="Gewinkelte Verbindung 18"/>
          <p:cNvCxnSpPr/>
          <p:nvPr/>
        </p:nvCxnSpPr>
        <p:spPr>
          <a:xfrm flipH="1" rot="16200000">
            <a:off x="7817400" y="4522680"/>
            <a:ext cx="302400" cy="648360"/>
          </a:xfrm>
          <a:prstGeom prst="bentConnector2">
            <a:avLst/>
          </a:prstGeom>
          <a:ln w="57240">
            <a:solidFill>
              <a:srgbClr val="000099"/>
            </a:solidFill>
            <a:round/>
            <a:tailEnd len="med" type="arrow" w="med"/>
          </a:ln>
        </p:spPr>
      </p:cxnSp>
      <p:sp>
        <p:nvSpPr>
          <p:cNvPr id="207" name="Textfeld 19"/>
          <p:cNvSpPr/>
          <p:nvPr/>
        </p:nvSpPr>
        <p:spPr>
          <a:xfrm>
            <a:off x="8487720" y="47671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1187280" y="4003560"/>
            <a:ext cx="4368960" cy="145728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own(int) ist ein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Verdana"/>
              </a:rPr>
              <a:t>rekursive Methode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ie ruft sich selbst auf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450720" y="1490760"/>
            <a:ext cx="5058000" cy="33303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down(int) mit Abbruchkriterium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11" name="Rechteck 1"/>
          <p:cNvSpPr/>
          <p:nvPr/>
        </p:nvSpPr>
        <p:spPr>
          <a:xfrm>
            <a:off x="4403880" y="1413000"/>
            <a:ext cx="1584000" cy="431640"/>
          </a:xfrm>
          <a:prstGeom prst="rect">
            <a:avLst/>
          </a:prstGeom>
          <a:solidFill>
            <a:srgbClr val="00b0f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own(500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12" name="Gewinkelte Verbindung 3"/>
          <p:cNvCxnSpPr/>
          <p:nvPr/>
        </p:nvCxnSpPr>
        <p:spPr>
          <a:xfrm flipH="1" rot="16200000">
            <a:off x="4719600" y="1672200"/>
            <a:ext cx="303840" cy="648360"/>
          </a:xfrm>
          <a:prstGeom prst="bentConnector2">
            <a:avLst/>
          </a:prstGeom>
          <a:ln w="57240">
            <a:solidFill>
              <a:srgbClr val="000099"/>
            </a:solidFill>
            <a:round/>
            <a:tailEnd len="med" type="arrow" w="med"/>
          </a:ln>
        </p:spPr>
      </p:cxnSp>
      <p:sp>
        <p:nvSpPr>
          <p:cNvPr id="213" name="Textfeld 4"/>
          <p:cNvSpPr/>
          <p:nvPr/>
        </p:nvSpPr>
        <p:spPr>
          <a:xfrm>
            <a:off x="5250960" y="191628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Rechteck 11"/>
          <p:cNvSpPr/>
          <p:nvPr/>
        </p:nvSpPr>
        <p:spPr>
          <a:xfrm>
            <a:off x="5413320" y="2349360"/>
            <a:ext cx="1582920" cy="432000"/>
          </a:xfrm>
          <a:prstGeom prst="rect">
            <a:avLst/>
          </a:prstGeom>
          <a:solidFill>
            <a:srgbClr val="00b0f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own(499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15" name="Gewinkelte Verbindung 12"/>
          <p:cNvCxnSpPr/>
          <p:nvPr/>
        </p:nvCxnSpPr>
        <p:spPr>
          <a:xfrm flipH="1" rot="16200000">
            <a:off x="5728320" y="2608200"/>
            <a:ext cx="302400" cy="648360"/>
          </a:xfrm>
          <a:prstGeom prst="bentConnector2">
            <a:avLst/>
          </a:prstGeom>
          <a:ln w="57240">
            <a:solidFill>
              <a:srgbClr val="000099"/>
            </a:solidFill>
            <a:round/>
            <a:tailEnd len="med" type="arrow" w="med"/>
          </a:ln>
        </p:spPr>
      </p:cxnSp>
      <p:sp>
        <p:nvSpPr>
          <p:cNvPr id="216" name="Textfeld 13"/>
          <p:cNvSpPr/>
          <p:nvPr/>
        </p:nvSpPr>
        <p:spPr>
          <a:xfrm>
            <a:off x="6260040" y="285264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49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Rechteck 14"/>
          <p:cNvSpPr/>
          <p:nvPr/>
        </p:nvSpPr>
        <p:spPr>
          <a:xfrm>
            <a:off x="6421320" y="3716280"/>
            <a:ext cx="1582920" cy="433440"/>
          </a:xfrm>
          <a:prstGeom prst="rect">
            <a:avLst/>
          </a:prstGeom>
          <a:solidFill>
            <a:srgbClr val="00b0f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own(1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18" name="Gewinkelte Verbindung 15"/>
          <p:cNvCxnSpPr/>
          <p:nvPr/>
        </p:nvCxnSpPr>
        <p:spPr>
          <a:xfrm flipH="1" rot="16200000">
            <a:off x="6801480" y="3976560"/>
            <a:ext cx="302400" cy="648360"/>
          </a:xfrm>
          <a:prstGeom prst="bentConnector2">
            <a:avLst/>
          </a:prstGeom>
          <a:ln w="57240">
            <a:solidFill>
              <a:srgbClr val="000099"/>
            </a:solidFill>
            <a:round/>
            <a:tailEnd len="med" type="arrow" w="med"/>
          </a:ln>
        </p:spPr>
      </p:cxnSp>
      <p:sp>
        <p:nvSpPr>
          <p:cNvPr id="219" name="Textfeld 16"/>
          <p:cNvSpPr/>
          <p:nvPr/>
        </p:nvSpPr>
        <p:spPr>
          <a:xfrm>
            <a:off x="7506000" y="4221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Rechteck 17"/>
          <p:cNvSpPr/>
          <p:nvPr/>
        </p:nvSpPr>
        <p:spPr>
          <a:xfrm>
            <a:off x="7451640" y="4581360"/>
            <a:ext cx="1584360" cy="432000"/>
          </a:xfrm>
          <a:prstGeom prst="rect">
            <a:avLst/>
          </a:prstGeom>
          <a:solidFill>
            <a:srgbClr val="00b0f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own(0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585720" y="5218200"/>
            <a:ext cx="4176720" cy="158436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own(int n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it </a:t>
            </a:r>
            <a:r>
              <a:rPr b="1" lang="de-DE" sz="2400" spc="-1" strike="noStrike">
                <a:solidFill>
                  <a:srgbClr val="000099"/>
                </a:solidFill>
                <a:latin typeface="Verdana"/>
              </a:rPr>
              <a:t>Abbruchkriteriu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hinder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endliche Laufzei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22" name="Gewinkelte Verbindung 21"/>
          <p:cNvCxnSpPr/>
          <p:nvPr/>
        </p:nvCxnSpPr>
        <p:spPr>
          <a:xfrm flipV="1" rot="16200000">
            <a:off x="6328080" y="1743480"/>
            <a:ext cx="303840" cy="648360"/>
          </a:xfrm>
          <a:prstGeom prst="bentConnector2">
            <a:avLst/>
          </a:prstGeom>
          <a:ln w="5724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23" name="Gewinkelte Verbindung 22"/>
          <p:cNvCxnSpPr/>
          <p:nvPr/>
        </p:nvCxnSpPr>
        <p:spPr>
          <a:xfrm flipV="1" rot="16200000">
            <a:off x="7400880" y="2679840"/>
            <a:ext cx="304200" cy="648360"/>
          </a:xfrm>
          <a:prstGeom prst="bentConnector2">
            <a:avLst/>
          </a:prstGeom>
          <a:ln w="5724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24" name="Gewinkelte Verbindung 24"/>
          <p:cNvCxnSpPr/>
          <p:nvPr/>
        </p:nvCxnSpPr>
        <p:spPr>
          <a:xfrm flipV="1" rot="16200000">
            <a:off x="8416440" y="3974760"/>
            <a:ext cx="303840" cy="649800"/>
          </a:xfrm>
          <a:prstGeom prst="bentConnector2">
            <a:avLst/>
          </a:prstGeom>
          <a:ln w="5724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225" name="Textfeld 2"/>
          <p:cNvSpPr/>
          <p:nvPr/>
        </p:nvSpPr>
        <p:spPr>
          <a:xfrm>
            <a:off x="6360120" y="32036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4956120" y="5218200"/>
            <a:ext cx="3880080" cy="161136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eil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bbruchkriteriu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arbeitu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ekursionsschrit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Lassen sich die Fibonacci-Zahlen rekursiv berechnen?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611280" y="1486080"/>
            <a:ext cx="3529080" cy="934920"/>
          </a:xfrm>
          <a:prstGeom prst="rect">
            <a:avLst/>
          </a:prstGeom>
          <a:solidFill>
            <a:srgbClr val="00b0f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ib(0)=1, fib(1)=1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ib(n) = fib(n-1)+fib(n-2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Textfeld 5"/>
          <p:cNvSpPr/>
          <p:nvPr/>
        </p:nvSpPr>
        <p:spPr>
          <a:xfrm>
            <a:off x="4792680" y="1486080"/>
            <a:ext cx="365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Ja, sie sin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chon rekursiv definier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5513400" cy="338436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8"/>
          <p:cNvSpPr/>
          <p:nvPr/>
        </p:nvSpPr>
        <p:spPr>
          <a:xfrm>
            <a:off x="5148360" y="3068640"/>
            <a:ext cx="3816360" cy="72072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Vorteil: elegante Defini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Nachteil: schlechte Laufze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Warum also Rekursion?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Beispiel: Die Türme von Hanoi 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487440" y="1351080"/>
            <a:ext cx="4105080" cy="1285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5178600" y="1488960"/>
            <a:ext cx="3933720" cy="1009800"/>
          </a:xfrm>
          <a:prstGeom prst="rect">
            <a:avLst/>
          </a:prstGeom>
          <a:ln w="0">
            <a:noFill/>
          </a:ln>
        </p:spPr>
      </p:pic>
      <p:sp>
        <p:nvSpPr>
          <p:cNvPr id="235" name="Pfeil nach rechts 7"/>
          <p:cNvSpPr/>
          <p:nvPr/>
        </p:nvSpPr>
        <p:spPr>
          <a:xfrm>
            <a:off x="4592520" y="1442880"/>
            <a:ext cx="700200" cy="522360"/>
          </a:xfrm>
          <a:prstGeom prst="rightArrow">
            <a:avLst>
              <a:gd name="adj1" fmla="val 50000"/>
              <a:gd name="adj2" fmla="val 50137"/>
            </a:avLst>
          </a:prstGeom>
          <a:solidFill>
            <a:srgbClr val="00b0f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Textfeld 8"/>
          <p:cNvSpPr/>
          <p:nvPr/>
        </p:nvSpPr>
        <p:spPr>
          <a:xfrm>
            <a:off x="755640" y="2708280"/>
            <a:ext cx="8356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Lösungside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Verschiebe den n-1-ten Stapel von 1 nach 3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Verschiebe die verbliebene Scheibe von 1 nach 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Verschiebe den n-1-ten Stapel von 3 nach 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3"/>
          <a:stretch/>
        </p:blipFill>
        <p:spPr>
          <a:xfrm>
            <a:off x="5292720" y="3643200"/>
            <a:ext cx="2519280" cy="577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"/>
          <p:cNvPicPr/>
          <p:nvPr/>
        </p:nvPicPr>
        <p:blipFill>
          <a:blip r:embed="rId4"/>
          <a:stretch/>
        </p:blipFill>
        <p:spPr>
          <a:xfrm>
            <a:off x="5235480" y="4648320"/>
            <a:ext cx="2721240" cy="645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"/>
          <p:cNvPicPr/>
          <p:nvPr/>
        </p:nvPicPr>
        <p:blipFill>
          <a:blip r:embed="rId5"/>
          <a:stretch/>
        </p:blipFill>
        <p:spPr>
          <a:xfrm>
            <a:off x="5292720" y="5877000"/>
            <a:ext cx="2664000" cy="684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6"/>
          <a:stretch/>
        </p:blipFill>
        <p:spPr>
          <a:xfrm>
            <a:off x="1274760" y="3500280"/>
            <a:ext cx="243360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feil nach rechts 37"/>
          <p:cNvSpPr/>
          <p:nvPr/>
        </p:nvSpPr>
        <p:spPr>
          <a:xfrm>
            <a:off x="4233960" y="3554280"/>
            <a:ext cx="699840" cy="522360"/>
          </a:xfrm>
          <a:prstGeom prst="rightArrow">
            <a:avLst>
              <a:gd name="adj1" fmla="val 50000"/>
              <a:gd name="adj2" fmla="val 50111"/>
            </a:avLst>
          </a:prstGeom>
          <a:solidFill>
            <a:srgbClr val="00b0f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6" descr=""/>
          <p:cNvPicPr/>
          <p:nvPr/>
        </p:nvPicPr>
        <p:blipFill>
          <a:blip r:embed="rId7"/>
          <a:stretch/>
        </p:blipFill>
        <p:spPr>
          <a:xfrm>
            <a:off x="1403280" y="4651200"/>
            <a:ext cx="2521080" cy="578160"/>
          </a:xfrm>
          <a:prstGeom prst="rect">
            <a:avLst/>
          </a:prstGeom>
          <a:ln w="0">
            <a:noFill/>
          </a:ln>
        </p:spPr>
      </p:pic>
      <p:sp>
        <p:nvSpPr>
          <p:cNvPr id="243" name="Pfeil nach rechts 39"/>
          <p:cNvSpPr/>
          <p:nvPr/>
        </p:nvSpPr>
        <p:spPr>
          <a:xfrm>
            <a:off x="4284720" y="4705200"/>
            <a:ext cx="698400" cy="524160"/>
          </a:xfrm>
          <a:prstGeom prst="rightArrow">
            <a:avLst>
              <a:gd name="adj1" fmla="val 50000"/>
              <a:gd name="adj2" fmla="val 49836"/>
            </a:avLst>
          </a:prstGeom>
          <a:solidFill>
            <a:srgbClr val="00b0f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4" name="Picture 7" descr=""/>
          <p:cNvPicPr/>
          <p:nvPr/>
        </p:nvPicPr>
        <p:blipFill>
          <a:blip r:embed="rId8"/>
          <a:stretch/>
        </p:blipFill>
        <p:spPr>
          <a:xfrm>
            <a:off x="1347840" y="5877000"/>
            <a:ext cx="2719440" cy="646200"/>
          </a:xfrm>
          <a:prstGeom prst="rect">
            <a:avLst/>
          </a:prstGeom>
          <a:ln w="0">
            <a:noFill/>
          </a:ln>
        </p:spPr>
      </p:pic>
      <p:sp>
        <p:nvSpPr>
          <p:cNvPr id="245" name="Pfeil nach rechts 41"/>
          <p:cNvSpPr/>
          <p:nvPr/>
        </p:nvSpPr>
        <p:spPr>
          <a:xfrm>
            <a:off x="4303800" y="5857920"/>
            <a:ext cx="699840" cy="52380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00b0f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Ellipse 27"/>
          <p:cNvSpPr/>
          <p:nvPr/>
        </p:nvSpPr>
        <p:spPr>
          <a:xfrm>
            <a:off x="1347840" y="3500280"/>
            <a:ext cx="7030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Ellipse 43"/>
          <p:cNvSpPr/>
          <p:nvPr/>
        </p:nvSpPr>
        <p:spPr>
          <a:xfrm>
            <a:off x="7093080" y="3695760"/>
            <a:ext cx="7030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Ellipse 44"/>
          <p:cNvSpPr/>
          <p:nvPr/>
        </p:nvSpPr>
        <p:spPr>
          <a:xfrm>
            <a:off x="1492200" y="4776840"/>
            <a:ext cx="7034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Ellipse 45"/>
          <p:cNvSpPr/>
          <p:nvPr/>
        </p:nvSpPr>
        <p:spPr>
          <a:xfrm>
            <a:off x="6243480" y="4724280"/>
            <a:ext cx="704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Ellipse 46"/>
          <p:cNvSpPr/>
          <p:nvPr/>
        </p:nvSpPr>
        <p:spPr>
          <a:xfrm>
            <a:off x="3276720" y="5927760"/>
            <a:ext cx="7030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Ellipse 47"/>
          <p:cNvSpPr/>
          <p:nvPr/>
        </p:nvSpPr>
        <p:spPr>
          <a:xfrm>
            <a:off x="6243480" y="5877000"/>
            <a:ext cx="704880" cy="68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Die Türme von Hanoi 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Java-Programm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253" name="Picture 8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7123320" cy="3419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"/>
          <p:cNvPicPr/>
          <p:nvPr/>
        </p:nvPicPr>
        <p:blipFill>
          <a:blip r:embed="rId2"/>
          <a:stretch/>
        </p:blipFill>
        <p:spPr>
          <a:xfrm>
            <a:off x="4335480" y="4533840"/>
            <a:ext cx="478008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Die Türme von Hanoi 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ufrufreihenfolge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8477280" cy="5184720"/>
          </a:xfrm>
          <a:prstGeom prst="rect">
            <a:avLst/>
          </a:prstGeom>
          <a:ln w="0">
            <a:noFill/>
          </a:ln>
        </p:spPr>
      </p:pic>
      <p:sp>
        <p:nvSpPr>
          <p:cNvPr id="257" name="Rechteck 1"/>
          <p:cNvSpPr/>
          <p:nvPr/>
        </p:nvSpPr>
        <p:spPr>
          <a:xfrm>
            <a:off x="351000" y="6459480"/>
            <a:ext cx="29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Quelle: O. Bittel; Sept. 2007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Zusammefassung Rekursio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440" y="167652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kursive Methoden rufen sich selbst au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brauchen eine Abbruchbedingu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sind bei bestimmten Problemen leicht zu formulie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rdings sind sie ineffizient bei langer Laufze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89CC9A-08BC-4969-87BC-0AE2B3E136E2}" type="slidenum">
              <a:rPr b="0" lang="de-DE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Vorteile von Unterprogramm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078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p-Down-Verfahren: “Teile und Herrsch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legung eines Problems in Teil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sbar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pakter, übersichtlicher und selbsterklärener Programmaufb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iederverwendbar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 Unterprogramm kann für andere ähnliche Aufgaben wieder verwende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Änderbarkeit / Erweiterbar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Änderungen nur an einer zentralen St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estbar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76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rennte Tests einzelner Programmteile leicht mög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Technik: Hilfsvariable in den Eingabeparameter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261" name="Grafik 3" descr=""/>
          <p:cNvPicPr/>
          <p:nvPr/>
        </p:nvPicPr>
        <p:blipFill>
          <a:blip r:embed="rId1"/>
          <a:stretch/>
        </p:blipFill>
        <p:spPr>
          <a:xfrm>
            <a:off x="984240" y="1347840"/>
            <a:ext cx="7116840" cy="5394240"/>
          </a:xfrm>
          <a:prstGeom prst="rect">
            <a:avLst/>
          </a:prstGeom>
          <a:ln w="0">
            <a:noFill/>
          </a:ln>
        </p:spPr>
      </p:pic>
      <p:sp>
        <p:nvSpPr>
          <p:cNvPr id="262" name="Rechteck 7"/>
          <p:cNvSpPr/>
          <p:nvPr/>
        </p:nvSpPr>
        <p:spPr>
          <a:xfrm>
            <a:off x="6300720" y="1028880"/>
            <a:ext cx="2664000" cy="50940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Variable zum Sammeln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es Ergebnis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63" name="Gerade Verbindung mit Pfeil 9"/>
          <p:cNvCxnSpPr/>
          <p:nvPr/>
        </p:nvCxnSpPr>
        <p:spPr>
          <a:xfrm flipH="1">
            <a:off x="6264000" y="1538280"/>
            <a:ext cx="1359360" cy="216720"/>
          </a:xfrm>
          <a:prstGeom prst="straightConnector1">
            <a:avLst/>
          </a:prstGeom>
          <a:ln w="540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264" name="Rechteck 11"/>
          <p:cNvSpPr/>
          <p:nvPr/>
        </p:nvSpPr>
        <p:spPr>
          <a:xfrm>
            <a:off x="6264360" y="2054160"/>
            <a:ext cx="2663640" cy="51120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Rückgabe der Variablen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beim Abbruch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65" name="Gerade Verbindung mit Pfeil 12"/>
          <p:cNvCxnSpPr/>
          <p:nvPr/>
        </p:nvCxnSpPr>
        <p:spPr>
          <a:xfrm flipH="1">
            <a:off x="5363280" y="2246040"/>
            <a:ext cx="901080" cy="1080"/>
          </a:xfrm>
          <a:prstGeom prst="straightConnector1">
            <a:avLst/>
          </a:prstGeom>
          <a:ln w="540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266" name="Rechteck 11"/>
          <p:cNvSpPr/>
          <p:nvPr/>
        </p:nvSpPr>
        <p:spPr>
          <a:xfrm>
            <a:off x="6300720" y="4037040"/>
            <a:ext cx="2664000" cy="51120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Variable output wird in der Rekursion erweiter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67" name="Gerade Verbindung mit Pfeil 12"/>
          <p:cNvCxnSpPr/>
          <p:nvPr/>
        </p:nvCxnSpPr>
        <p:spPr>
          <a:xfrm flipH="1" flipV="1">
            <a:off x="5363640" y="3933000"/>
            <a:ext cx="937440" cy="359640"/>
          </a:xfrm>
          <a:prstGeom prst="straightConnector1">
            <a:avLst/>
          </a:prstGeom>
          <a:ln w="54000">
            <a:solidFill>
              <a:srgbClr val="0070c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Zusatz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Eliminierung der Rekursio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823160" cy="4840200"/>
          </a:xfrm>
          <a:prstGeom prst="rect">
            <a:avLst/>
          </a:prstGeom>
          <a:ln w="0">
            <a:noFill/>
          </a:ln>
        </p:spPr>
      </p:pic>
      <p:sp>
        <p:nvSpPr>
          <p:cNvPr id="270" name="Rechteck 1"/>
          <p:cNvSpPr/>
          <p:nvPr/>
        </p:nvSpPr>
        <p:spPr>
          <a:xfrm>
            <a:off x="351000" y="6459480"/>
            <a:ext cx="29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Quelle: O. Bittel; Sept. 2007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Zusatz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Eliminierung der Rekursion mit einem Keller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72" name="Rechteck 1"/>
          <p:cNvSpPr/>
          <p:nvPr/>
        </p:nvSpPr>
        <p:spPr>
          <a:xfrm>
            <a:off x="351000" y="6459480"/>
            <a:ext cx="29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Quelle: O. Bittel; Sept. 2007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5471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hteck 1"/>
          <p:cNvSpPr/>
          <p:nvPr/>
        </p:nvSpPr>
        <p:spPr>
          <a:xfrm>
            <a:off x="1116000" y="4221000"/>
            <a:ext cx="6408720" cy="20876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116000" y="1989000"/>
            <a:ext cx="6408720" cy="2232000"/>
          </a:xfrm>
          <a:prstGeom prst="rect">
            <a:avLst/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042920" y="5046840"/>
            <a:ext cx="6408720" cy="430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2696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5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ublic class MethodenBsp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ublic static int maximum(int zahl1, int zahl2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 er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f (zahl1&gt;zahl2) erg=zahl1; else erg=zahl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turn er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ublic static void main (string[] args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 zahl1=5, zahl2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 maxZahl = maximum(zahl1,zahl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ole.WriteLine(maxZah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Definition und Aufruf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867280" y="1268280"/>
            <a:ext cx="1224000" cy="43200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Na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Line 17"/>
          <p:cNvSpPr/>
          <p:nvPr/>
        </p:nvSpPr>
        <p:spPr>
          <a:xfrm flipH="1">
            <a:off x="4464000" y="1701720"/>
            <a:ext cx="1620720" cy="3589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7307280" y="1268280"/>
            <a:ext cx="1368360" cy="57636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Eingabe-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paramet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4246560" y="1268280"/>
            <a:ext cx="1461960" cy="52236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Rückgabe-</a:t>
            </a:r>
            <a:br>
              <a:rPr sz="1800"/>
            </a:b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ty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Line 17"/>
          <p:cNvSpPr/>
          <p:nvPr/>
        </p:nvSpPr>
        <p:spPr>
          <a:xfrm flipH="1">
            <a:off x="5758920" y="1700280"/>
            <a:ext cx="1621080" cy="360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3132000" y="1773360"/>
            <a:ext cx="1619280" cy="360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6832440" y="3284640"/>
            <a:ext cx="1484640" cy="97308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Ergebn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Zurück</a:t>
            </a:r>
            <a:br>
              <a:rPr sz="1800"/>
            </a:b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geb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7704000" y="4797360"/>
            <a:ext cx="1332000" cy="93528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Methode</a:t>
            </a:r>
            <a:br>
              <a:rPr sz="1800"/>
            </a:b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aufruf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Line 17"/>
          <p:cNvSpPr/>
          <p:nvPr/>
        </p:nvSpPr>
        <p:spPr>
          <a:xfrm flipH="1">
            <a:off x="3348000" y="3540240"/>
            <a:ext cx="33703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Line 17"/>
          <p:cNvSpPr/>
          <p:nvPr/>
        </p:nvSpPr>
        <p:spPr>
          <a:xfrm flipH="1">
            <a:off x="6718320" y="5300640"/>
            <a:ext cx="9367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7020000" y="5827680"/>
            <a:ext cx="1987560" cy="93492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Variable </a:t>
            </a:r>
            <a:br>
              <a:rPr sz="1800"/>
            </a:b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für den</a:t>
            </a:r>
            <a:br>
              <a:rPr sz="1800"/>
            </a:b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Rückgabewer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Line 17"/>
          <p:cNvSpPr/>
          <p:nvPr/>
        </p:nvSpPr>
        <p:spPr>
          <a:xfrm flipH="1" flipV="1">
            <a:off x="2080800" y="6364440"/>
            <a:ext cx="4954680" cy="316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Line 17"/>
          <p:cNvSpPr/>
          <p:nvPr/>
        </p:nvSpPr>
        <p:spPr>
          <a:xfrm flipV="1">
            <a:off x="2076480" y="5479560"/>
            <a:ext cx="11160" cy="9018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Bemerkung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440" y="1676520"/>
            <a:ext cx="831996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Reihenfolge der Aufrufparameter ist wichti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ethode die nichts zurück gibt, erhält den Rückgabewer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id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ublic static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begruesseBenutzer() { …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Schlüsselunterscheidung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Wert ausgeben vs Wert zurück geb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2045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rt ausge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4014360"/>
            <a:ext cx="404028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Wert wird nur auf dem Bildschirm ausgegeben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weitere Verarbeitung mögli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4720" y="12045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rt zurück ge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4720" y="3974760"/>
            <a:ext cx="404172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Wert wird von der Methode zurück geliefert und meistens in einer Variable gespeich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Wert kann weiter verarbeitet werden (z.B. in eine Formel eingesetzt werd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hteck 7"/>
          <p:cNvSpPr/>
          <p:nvPr/>
        </p:nvSpPr>
        <p:spPr>
          <a:xfrm>
            <a:off x="4778280" y="1844640"/>
            <a:ext cx="3897360" cy="125424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public static int maximum(int zahl1, int zahl2) {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int erg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if (zahl1&gt;zahl2) erg=zahl1; else erg=zahl2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return erg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hteck 8"/>
          <p:cNvSpPr/>
          <p:nvPr/>
        </p:nvSpPr>
        <p:spPr>
          <a:xfrm>
            <a:off x="4770360" y="3138480"/>
            <a:ext cx="3897360" cy="762120"/>
          </a:xfrm>
          <a:prstGeom prst="rect">
            <a:avLst/>
          </a:prstGeom>
          <a:solidFill>
            <a:srgbClr val="ffcc99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int maxZahl = maximum(5, 10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maxZahl=maxZahl/2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Rechteck 9"/>
          <p:cNvSpPr/>
          <p:nvPr/>
        </p:nvSpPr>
        <p:spPr>
          <a:xfrm>
            <a:off x="528480" y="1844640"/>
            <a:ext cx="3969000" cy="125424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public static void ausgabeM(int zahl1, int zahl2) {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int erg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if (zahl1&gt;zahl2) erg=zahl1; else erg=zahl2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CW("Max: " + erg);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hteck 10"/>
          <p:cNvSpPr/>
          <p:nvPr/>
        </p:nvSpPr>
        <p:spPr>
          <a:xfrm>
            <a:off x="550800" y="3144960"/>
            <a:ext cx="3946680" cy="761760"/>
          </a:xfrm>
          <a:prstGeom prst="rect">
            <a:avLst/>
          </a:prstGeom>
          <a:solidFill>
            <a:srgbClr val="ffcc99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ausgabeM(5, 10); //Ausgabe: Max: 10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rbeitsauftrag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2700360" y="1415880"/>
            <a:ext cx="4389480" cy="33814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6"/>
          <p:cNvSpPr/>
          <p:nvPr/>
        </p:nvSpPr>
        <p:spPr>
          <a:xfrm>
            <a:off x="468360" y="4724280"/>
            <a:ext cx="8351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174240" indent="-174240" algn="ctr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ternefigur Hohlquadrat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 Unterprogramme aufteilen</a:t>
            </a:r>
            <a:br>
              <a:rPr sz="2800"/>
            </a:br>
            <a:br>
              <a:rPr sz="2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Ändern Sie Ihr Programm so ab, dass zusammenhängende Programmteile in Unterprogrammen ausgeführt werden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siehe Übungsblatt arbeitsblatt-1-rechteck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rbeitsauftrag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4389480" cy="33814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"/>
          <p:cNvSpPr/>
          <p:nvPr/>
        </p:nvSpPr>
        <p:spPr>
          <a:xfrm>
            <a:off x="468360" y="4869000"/>
            <a:ext cx="8675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89720" indent="-189720" algn="ctr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erechnung der Fakultät</a:t>
            </a:r>
            <a:br>
              <a:rPr sz="2800"/>
            </a:br>
            <a:br>
              <a:rPr sz="2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finieren Sie eine Methode, die die Fakultät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! = 1*2*3*…*n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echnet und rufen diese mit verschiedenen Parametern auf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7060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Weitere Details zu Method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46" name="Picture 2" descr="http://www.supportnet.de/articleimage/2374671/powerpoint-470.png"/>
          <p:cNvPicPr/>
          <p:nvPr/>
        </p:nvPicPr>
        <p:blipFill>
          <a:blip r:embed="rId1"/>
          <a:stretch/>
        </p:blipFill>
        <p:spPr>
          <a:xfrm>
            <a:off x="3348000" y="1989000"/>
            <a:ext cx="2448000" cy="24004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8"/>
          <p:cNvSpPr/>
          <p:nvPr/>
        </p:nvSpPr>
        <p:spPr>
          <a:xfrm>
            <a:off x="2604960" y="4653000"/>
            <a:ext cx="4415040" cy="97308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Sieh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Präsent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Verdana"/>
              </a:rPr>
              <a:t>00-methoden-ausführlic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1:48:01Z</dcterms:created>
  <dc:creator>Stephan Baldes</dc:creator>
  <dc:description/>
  <cp:keywords/>
  <dc:language>en-US</dc:language>
  <cp:lastModifiedBy>Stephan Baldes</cp:lastModifiedBy>
  <cp:lastPrinted>2001-11-26T12:30:42Z</cp:lastPrinted>
  <dcterms:modified xsi:type="dcterms:W3CDTF">2023-09-05T20:22:33Z</dcterms:modified>
  <cp:revision>1086</cp:revision>
  <dc:subject/>
  <dc:title>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1-9.1.0.4975</vt:lpwstr>
  </property>
</Properties>
</file>