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7880" y="736200"/>
            <a:ext cx="491328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6673-4491-48D6-A110-980D12D2700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E02F-32BF-4058-A6BA-2A2C28B2D8D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51BF-3289-45A5-B92D-85F5DC87BEB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8A94-3857-4D95-8098-92A5AD46978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A093-2472-4985-BF77-DF9DA603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50F3-71B5-4B3A-A420-614284C6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392-BFF1-40C1-8C74-062BF3C8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CC8-2C1B-4CB8-B528-5E02001A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95D8-2C9D-4D97-BB69-54D10827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7A46-A87E-4BBC-8846-04BF658B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99D-D7E2-4034-9F4D-467C0E0D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D6C-3FE6-4160-86F9-6FC11192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CA39-1D4F-42C1-A01B-54C32D39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8B05-4408-4A1D-827E-E37126E9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02C0-40C8-4F39-A0C0-6CD02224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2497-7D19-476D-A350-20DC1EC8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208F-ABD6-4E50-9EA4-863670D0404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tafel2"/>
          <p:cNvPicPr/>
          <p:nvPr/>
        </p:nvPicPr>
        <p:blipFill>
          <a:blip r:embed="rId1"/>
          <a:stretch/>
        </p:blipFill>
        <p:spPr>
          <a:xfrm>
            <a:off x="395280" y="142920"/>
            <a:ext cx="8313840" cy="65991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542520" y="636480"/>
            <a:ext cx="3861360" cy="61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ür kl = 0 bi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e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lechte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ür sch = 0 bi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(note[sch][kl]&gt; schlecht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lechte = note(schl,k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(note[sch][kl]&lt; beste) {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e = note(schl,k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sgabe Arbeit: ar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sgabe Beste: be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sgabe Schlechteste: schlech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tafel2"/>
          <p:cNvPicPr/>
          <p:nvPr/>
        </p:nvPicPr>
        <p:blipFill>
          <a:blip r:embed="rId1"/>
          <a:stretch/>
        </p:blipFill>
        <p:spPr>
          <a:xfrm>
            <a:off x="395280" y="142920"/>
            <a:ext cx="8313840" cy="6599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539280" y="636480"/>
            <a:ext cx="376056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ür sch = 0 bi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ür kl = 0 bi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stStudent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stGrade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(note[sch][kl]&gt; worstGrad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stGrade = note[sch][k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stStudent = sch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sgabe worst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sgabe worst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tafel2"/>
          <p:cNvPicPr/>
          <p:nvPr/>
        </p:nvPicPr>
        <p:blipFill>
          <a:blip r:embed="rId1"/>
          <a:stretch/>
        </p:blipFill>
        <p:spPr>
          <a:xfrm>
            <a:off x="395280" y="142920"/>
            <a:ext cx="8313840" cy="6599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543960" y="636480"/>
            <a:ext cx="3629520" cy="37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ingabe kl, ges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tVergeben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ür sch = 0 bis 3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(note[sch][kl]&gt; gesNot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tVergeben =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sgabe kl, gesNote, istVerge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3:35:52Z</dcterms:created>
  <dc:creator>Chitarup</dc:creator>
  <dc:description/>
  <dc:language>en-US</dc:language>
  <cp:lastModifiedBy>Stephan Baldes</cp:lastModifiedBy>
  <dcterms:modified xsi:type="dcterms:W3CDTF">2015-01-13T08:33:19Z</dcterms:modified>
  <cp:revision>6</cp:revision>
  <dc:subject/>
  <dc:title>Slide 1</dc:title>
</cp:coreProperties>
</file>