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Aufgabe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Halskette vergleich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fgab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85" name="Grafik 3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9232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xkurs Konstanten 1/3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ie Farbe der Perlen lassen sich als Strings darstellen:</a:t>
            </a:r>
            <a:br>
              <a:rPr sz="1700"/>
            </a:br>
            <a:br>
              <a:rPr sz="1700"/>
            </a:b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tring[] kette1 = {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"blau", "rot", "gelb", "rot" }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tatt dem Speichern von Strings ist es effizienter Zahlen zu speicher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t[] kette1 = {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0, 1, 2, 1}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blem: Welche Zahl entspricht welcher Farb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usweg: Konstant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t BLAU=0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t ROT=1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t GELB=2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t[] kette1 = {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LAU, ROT, GELB, ROT}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7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xkurs Konstanten 2/3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amit niemand aus Versehen die Werte der Konstanten verändert,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werden sie als unveränderlich deklariert: const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onst int BLAU=0; …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ie Ausgabe des Arrays ergibt die Zahlen, nicht die Farb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onsole.WriteLine(kette1[0]);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0 //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a int[] kette1 = {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0, 1, 2, 1}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finiere ein Array mit den Farbname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ring[] farbnamen={"Blau", "Rot", "Gelb"}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onsole.WriteLine(farbname[kette1[0]]);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"Blau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1258920" y="5084640"/>
            <a:ext cx="4465440" cy="151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258920" y="4365720"/>
            <a:ext cx="4465440" cy="431640"/>
          </a:xfrm>
          <a:prstGeom prst="rect">
            <a:avLst/>
          </a:prstGeom>
          <a:solidFill>
            <a:srgbClr val="ff99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258920" y="2205000"/>
            <a:ext cx="4465440" cy="201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xkurs Konstanten 3/3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4" name="Inhaltsplatzhalter 2"/>
          <p:cNvSpPr/>
          <p:nvPr/>
        </p:nvSpPr>
        <p:spPr>
          <a:xfrm>
            <a:off x="684360" y="1341360"/>
            <a:ext cx="832140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989280" indent="-36216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onst int BLAU=0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onst int ROT=1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onst int GELB=2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ring[] farbnamen={"Blau", "Rot", "Gelb"}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t[] kette1 = {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LAU, ROT, GELB, ROT}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f (kette1[i]==ROT) {…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or(int i=0;i&lt;kette1.length;i++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W(farbnamen[kette1[i]]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lau Rot Gelb Ro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89280" indent="-36216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356520" y="292428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nstan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61680" y="407664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bfrage von Zah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it Namen der Konsta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271200" y="530064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sgabe der Na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Konsta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19-04-11T10:16:27Z</cp:lastPrinted>
  <dcterms:modified xsi:type="dcterms:W3CDTF">2023-03-21T09:49:41Z</dcterms:modified>
  <cp:revision>1032</cp:revision>
  <dc:subject/>
  <dc:title>Titel</dc:title>
</cp:coreProperties>
</file>