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A4FB94F-FF5A-455C-BE98-42EA36FCC834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5F50F68-665A-4022-BFAB-4EE35E1036F7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88E5087-84D3-4124-8840-E4F219DE4C46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848582C-BF22-40DF-938D-5B3A336C344C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2"/>
          <p:cNvGraphicFramePr/>
          <p:nvPr/>
        </p:nvGraphicFramePr>
        <p:xfrm>
          <a:off x="88920" y="152280"/>
          <a:ext cx="8975880" cy="659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20" y="152280"/>
                    <a:ext cx="897588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Object 10"/>
          <p:cNvGraphicFramePr/>
          <p:nvPr/>
        </p:nvGraphicFramePr>
        <p:xfrm>
          <a:off x="101520" y="139680"/>
          <a:ext cx="8921880" cy="655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39680"/>
                    <a:ext cx="8921880" cy="655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Felder</a:t>
            </a:r>
            <a:br>
              <a:rPr sz="5400"/>
            </a:b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(Arrays)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1" descr="C Sharp (C#) Logo PNG Vector"/>
          <p:cNvPicPr/>
          <p:nvPr/>
        </p:nvPicPr>
        <p:blipFill>
          <a:blip r:embed="rId1"/>
          <a:stretch/>
        </p:blipFill>
        <p:spPr>
          <a:xfrm>
            <a:off x="7045200" y="260280"/>
            <a:ext cx="1847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beitsauftra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4389480" cy="3381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1476360" y="4869000"/>
            <a:ext cx="61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37944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inimum/Maximum im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-dimensionalen Feld fin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 algn="ctr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finieren Sie ein zweidimensionales Feld von Integer-Zahlen und lassen Sie den größten und kleinsten Wert ermittel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Syntax eines eindimensionalen Feldes.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132084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buSzPct val="1028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ff0000"/>
                </a:solidFill>
                <a:latin typeface="Arial"/>
              </a:rPr>
              <a:t>int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[]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wuerfel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Initial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buSzPct val="12095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uerfel =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new int[100]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  // Feld der Gr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öße 100 definie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// Wertzu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buSzPct val="10285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wuerfel[0]=3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uerfel[1] =3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uerfel[99]=2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Initialwerte mit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buSzPct val="12095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t[] wuerfel = {3,3,4,6,3,2,1,1, … ,5}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Abfrage der G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öße eines Fel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buSzPct val="12095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int len = wuerfel</a:t>
            </a:r>
            <a:r>
              <a:rPr b="1" lang="de-DE" sz="1700" spc="-1" strike="noStrike">
                <a:solidFill>
                  <a:srgbClr val="ff0000"/>
                </a:solidFill>
                <a:latin typeface="Arial"/>
              </a:rPr>
              <a:t>.Length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;  // len = 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buSzPct val="12095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buSzPct val="12095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buSzPct val="120952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25"/>
              </a:spcBef>
              <a:spcAft>
                <a:spcPts val="850"/>
              </a:spcAft>
              <a:buSzPct val="120952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Die foreach-Schleife in C#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0240"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[] werte = {3,3,4,6,3,2,1,1, … ,5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ld durchlaufen mithilfe des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240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(int i=0;i&lt;werte.Length;i++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CW(werte[i]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eld durchlaufen mithilfe der foreach-Schleife 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240"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241280" y="4508640"/>
            <a:ext cx="4392720" cy="129528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ach(int wert in werte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CW(wert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beitsauftra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3959280" cy="30495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1476360" y="4437000"/>
            <a:ext cx="619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37944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ürfel-Simulation schreib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 algn="ctr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nutzer gibt die Anzahl der Würfelrunden an.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 Feld dieser Größe soll mit zufälligen Würfen gefüllt und das Ergebnis angezeigt werd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 algn="ctr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atz: Berechnen Sie die Summe aller gewürfelten Augenzahl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 algn="ctr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hteck 1"/>
          <p:cNvSpPr/>
          <p:nvPr/>
        </p:nvSpPr>
        <p:spPr>
          <a:xfrm>
            <a:off x="5724360" y="1700280"/>
            <a:ext cx="3267360" cy="158436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fallszahl von 1…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ndom rnd = new Random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 rndNumber = rnd.Next(1, 7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beitsauftra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516720" y="1530360"/>
            <a:ext cx="2416320" cy="1862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611280" y="1736640"/>
            <a:ext cx="619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37944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ürfel-Augensumme-Statist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11280" y="3429000"/>
            <a:ext cx="83217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17440" indent="-4572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 gibt die Anzahl der Würfelrunden 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4572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 Feld für eine Statistik anlegen, das die  Häufigkeit der gewürfelten Augenzahlen zäh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4572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33400" indent="-457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tistik, welche Augenzahl wie oft vork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733400" indent="-457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äufigste Augenzahl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4572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4572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Mehrdimensionale Felder (Arrays)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11" descr="C Sharp (C#) Logo PNG Vector"/>
          <p:cNvPicPr/>
          <p:nvPr/>
        </p:nvPicPr>
        <p:blipFill>
          <a:blip r:embed="rId1"/>
          <a:stretch/>
        </p:blipFill>
        <p:spPr>
          <a:xfrm>
            <a:off x="7045200" y="260280"/>
            <a:ext cx="1847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873000" y="2725560"/>
            <a:ext cx="6029280" cy="1533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Beispiel: Noten von Klassenarbeiten</a:t>
            </a:r>
            <a:br>
              <a:rPr sz="2400"/>
            </a:b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Notation in Java, Javascript, …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2987640" y="1773360"/>
            <a:ext cx="3886200" cy="1800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7015320" y="2276640"/>
            <a:ext cx="173340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4"/>
          <a:stretch/>
        </p:blipFill>
        <p:spPr>
          <a:xfrm>
            <a:off x="2411280" y="4259160"/>
            <a:ext cx="1285920" cy="6289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1727280" y="5084640"/>
            <a:ext cx="6408720" cy="129564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loat[][] noten = new float[2][3]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loat[][] noten={ {1.5f, 2.5f, 1.4f}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{3.9f, 3.0f, 2.1f}  }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hteck 6"/>
          <p:cNvSpPr/>
          <p:nvPr/>
        </p:nvSpPr>
        <p:spPr>
          <a:xfrm>
            <a:off x="4317840" y="4332240"/>
            <a:ext cx="1949760" cy="61452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n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[0]</a:t>
            </a:r>
            <a:r>
              <a:rPr b="0" lang="en-US" sz="2400" spc="-1" strike="noStrike">
                <a:solidFill>
                  <a:srgbClr val="00b050"/>
                </a:solidFill>
                <a:latin typeface="Verdana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17" name="Gerade Verbindung mit Pfeil 8"/>
          <p:cNvCxnSpPr>
            <a:stCxn id="116" idx="0"/>
          </p:cNvCxnSpPr>
          <p:nvPr/>
        </p:nvCxnSpPr>
        <p:spPr>
          <a:xfrm flipH="1" flipV="1">
            <a:off x="4930200" y="3357000"/>
            <a:ext cx="362520" cy="97524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arrow" w="med"/>
          </a:ln>
        </p:spPr>
      </p:cxnSp>
      <p:sp>
        <p:nvSpPr>
          <p:cNvPr id="118" name="Wolkenförmige Legende 12"/>
          <p:cNvSpPr/>
          <p:nvPr/>
        </p:nvSpPr>
        <p:spPr>
          <a:xfrm>
            <a:off x="7164360" y="2733840"/>
            <a:ext cx="1979640" cy="1342800"/>
          </a:xfrm>
          <a:prstGeom prst="cloudCallout">
            <a:avLst>
              <a:gd name="adj1" fmla="val -100819"/>
              <a:gd name="adj2" fmla="val 100314"/>
            </a:avLst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Merk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Ze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zuer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7" descr="db-fullsize-41475-java-runtime-environment"/>
          <p:cNvPicPr/>
          <p:nvPr/>
        </p:nvPicPr>
        <p:blipFill>
          <a:blip r:embed="rId5"/>
          <a:stretch/>
        </p:blipFill>
        <p:spPr>
          <a:xfrm>
            <a:off x="7437600" y="304920"/>
            <a:ext cx="1396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873000" y="2725560"/>
            <a:ext cx="6029280" cy="1533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Beispiel: Noten von Klassenarbeiten</a:t>
            </a:r>
            <a:br>
              <a:rPr sz="2400"/>
            </a:b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Notation in C#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2987640" y="1773360"/>
            <a:ext cx="3886200" cy="1800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7015320" y="2276640"/>
            <a:ext cx="1733400" cy="457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4"/>
          <a:stretch/>
        </p:blipFill>
        <p:spPr>
          <a:xfrm>
            <a:off x="2411280" y="4259160"/>
            <a:ext cx="1285920" cy="628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1727280" y="5084640"/>
            <a:ext cx="6408720" cy="129564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loat</a:t>
            </a: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[,]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noten={  {1.5f, 2.5f, 1.4f}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{3.9f, 3.0f, 2.1f}  }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hteck 6"/>
          <p:cNvSpPr/>
          <p:nvPr/>
        </p:nvSpPr>
        <p:spPr>
          <a:xfrm>
            <a:off x="4317840" y="4332240"/>
            <a:ext cx="1949760" cy="61452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n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[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00b050"/>
                </a:solidFill>
                <a:latin typeface="Verdana"/>
              </a:rPr>
              <a:t>1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7" name="Gerade Verbindung mit Pfeil 8"/>
          <p:cNvCxnSpPr>
            <a:stCxn id="126" idx="0"/>
          </p:cNvCxnSpPr>
          <p:nvPr/>
        </p:nvCxnSpPr>
        <p:spPr>
          <a:xfrm flipH="1" flipV="1">
            <a:off x="4930200" y="3357000"/>
            <a:ext cx="362520" cy="97524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arrow" w="med"/>
          </a:ln>
        </p:spPr>
      </p:cxnSp>
      <p:sp>
        <p:nvSpPr>
          <p:cNvPr id="128" name="Wolkenförmige Legende 12"/>
          <p:cNvSpPr/>
          <p:nvPr/>
        </p:nvSpPr>
        <p:spPr>
          <a:xfrm>
            <a:off x="7164360" y="2733840"/>
            <a:ext cx="1979640" cy="1342800"/>
          </a:xfrm>
          <a:prstGeom prst="cloudCallout">
            <a:avLst>
              <a:gd name="adj1" fmla="val -100819"/>
              <a:gd name="adj2" fmla="val 100314"/>
            </a:avLst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Merk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Ze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zuer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11" descr="C Sharp (C#) Logo PNG Vector"/>
          <p:cNvPicPr/>
          <p:nvPr/>
        </p:nvPicPr>
        <p:blipFill>
          <a:blip r:embed="rId5"/>
          <a:stretch/>
        </p:blipFill>
        <p:spPr>
          <a:xfrm>
            <a:off x="7924680" y="189000"/>
            <a:ext cx="968400" cy="10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Mehrdimensionale Felder </a:t>
            </a:r>
            <a:br>
              <a:rPr sz="2400"/>
            </a:b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Zugriffe </a:t>
            </a: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über verschachtelte</a:t>
            </a: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 Schleif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46200" y="1773360"/>
            <a:ext cx="8056440" cy="295092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[,] noten = new float[2, 3]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zeile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0;zeile&lt;noten.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etLength(0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zeile++) {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</a:t>
            </a:r>
            <a:r>
              <a:rPr b="1" lang="de-DE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spalte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0; spalte&lt;noten.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etLength(1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spalte++) {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n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zeile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de-DE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spalte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rnd.Next(1, 7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ole.Write(noten[zeile, spalte]+" ")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}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ole.WriteLine()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de-DE" sz="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-36360" y="-1440"/>
            <a:ext cx="183960" cy="460080"/>
          </a:xfrm>
          <a:prstGeom prst="rect">
            <a:avLst/>
          </a:prstGeom>
          <a:solidFill>
            <a:srgbClr val="f8f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0:48:01Z</dcterms:created>
  <dc:creator>Patrick Gebhard</dc:creator>
  <dc:description/>
  <dc:language>en-US</dc:language>
  <cp:lastModifiedBy>Stephan Baldes</cp:lastModifiedBy>
  <cp:lastPrinted>2018-03-06T14:49:02Z</cp:lastPrinted>
  <dcterms:modified xsi:type="dcterms:W3CDTF">2023-03-09T11:30:02Z</dcterms:modified>
  <cp:revision>1047</cp:revision>
  <dc:subject/>
  <dc:title>Titel</dc:title>
</cp:coreProperties>
</file>