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788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778800" cy="9910800"/>
          </a:xfrm>
          <a:custGeom>
            <a:avLst/>
            <a:gdLst>
              <a:gd name="textAreaLeft" fmla="*/ 360 w 6778800"/>
              <a:gd name="textAreaRight" fmla="*/ 6778440 w 6778800"/>
              <a:gd name="textAreaTop" fmla="*/ 360 h 9910800"/>
              <a:gd name="textAreaBottom" fmla="*/ 9910440 h 9910800"/>
            </a:gdLst>
            <a:ahLst/>
            <a:rect l="textAreaLeft" t="textAreaTop" r="textAreaRight" b="textAreaBottom"/>
            <a:pathLst>
              <a:path w="21600" h="31579">
                <a:moveTo>
                  <a:pt x="5" y="0"/>
                </a:moveTo>
                <a:arcTo wR="5" hR="5" stAng="16200000" swAng="-5400000"/>
                <a:lnTo>
                  <a:pt x="0" y="31574"/>
                </a:lnTo>
                <a:arcTo wR="5" hR="5" stAng="10800000" swAng="-5400000"/>
                <a:lnTo>
                  <a:pt x="21595" y="3157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843360" y="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1440" cy="37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05040" y="4708440"/>
            <a:ext cx="49687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94154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1"/>
          </p:nvPr>
        </p:nvSpPr>
        <p:spPr>
          <a:xfrm>
            <a:off x="3843360" y="9415080"/>
            <a:ext cx="29354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8D83E-6C0C-48EB-9328-B94CBEE7312F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43360" y="9415440"/>
            <a:ext cx="29354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C4B01-E664-42EE-B2F2-567EA129610A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05040" y="4708080"/>
            <a:ext cx="49701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Aufgab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Die Würfelsumme größer als 4*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Solange würfeln, bis mindestens m 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bis genau 6 Sechs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Soviele 1en wie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3843360" y="94154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EE2375-08B1-4ED9-B84E-02242D529284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43360" y="9415440"/>
            <a:ext cx="29354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D306B-CDBD-4B9E-AF32-125D92C7E3F0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05040" y="4708080"/>
            <a:ext cx="49701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Aufgab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Die Würfelsumme größer als 4*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Solange würfeln, bis mindestens m 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bis genau 6 Sechs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Soviele 1en wie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3843360" y="94154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B4FE74-A8AE-46AA-894B-C80F4DD58FC3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43360" y="9415440"/>
            <a:ext cx="29354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23D52-68A8-4DEF-AEF7-418EB9880DCE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05040" y="4708080"/>
            <a:ext cx="49701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Aufgab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Die Würfelsumme größer als 4*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Solange würfeln, bis mindestens m 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bis genau 6 Sechs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Soviele 1en wie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3843360" y="94154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C96D71-690C-4AAC-BDF5-1AFA22CAFE90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43360" y="9415440"/>
            <a:ext cx="29354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CF44A-D1FB-4967-ABBB-C1BB869FA1F8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5040" y="4708080"/>
            <a:ext cx="49701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Aufgab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Die Würfelsumme größer als 4*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Solange würfeln, bis mindestens m 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bis genau 6 Sechs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Soviele 1en wie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843360" y="94154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9939D0-8098-41EB-B63A-E5DF32605470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3360" y="9415440"/>
            <a:ext cx="29354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ED36A-DAB1-4CAC-9ED5-E2B01A9586B7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5040" y="4708080"/>
            <a:ext cx="49701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Aufgab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Die Würfelsumme größer als 4*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Solange würfeln, bis mindestens m 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bis genau 6 Sechs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Soviele 1en wie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3843360" y="94154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B8226F-7AAA-4FBF-B1F7-7F7E44E6D9A5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5040" y="4708080"/>
            <a:ext cx="496872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gab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Die Würfelsumme größer als 4*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Solange würfeln, bis mindestens m 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bis genau 6 Sechs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Soviele 1en wie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oliennummernplatzhalter 3"/>
          <p:cNvSpPr/>
          <p:nvPr/>
        </p:nvSpPr>
        <p:spPr>
          <a:xfrm>
            <a:off x="3841920" y="94154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BC290F-1263-412F-96DB-8F5B11630C9A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43360" y="9415440"/>
            <a:ext cx="29354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4AC57-7C01-44BB-AA26-118F7946A759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05040" y="4708080"/>
            <a:ext cx="49701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Aufgab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Die Würfelsumme größer als 4*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Solange würfeln, bis mindestens m 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bis genau 6 Sechs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Soviele 1en wie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3843360" y="94154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323493-5CB9-4D99-B3CD-F3B2E8EA9D8A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43360" y="9415440"/>
            <a:ext cx="29354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030CD-9C16-4E01-9296-07A760711EB7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5040" y="4708080"/>
            <a:ext cx="49701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Aufgab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Die Würfelsumme größer als 4*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Solange würfeln, bis mindestens m 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bis genau 6 Sechs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Soviele 1en wie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3843360" y="94154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2FDF77-7E4F-4BEA-86EA-855E0D9F8466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43360" y="9415440"/>
            <a:ext cx="29354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7262B-3330-4DE2-917E-38AE0ABB7176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5040" y="4708080"/>
            <a:ext cx="49701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Aufgab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Die Würfelsumme größer als 4*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Solange würfeln, bis mindestens m 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bis genau 6 Sechs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Soviele 1en wie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3843360" y="94154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89BEA4-8B45-4607-8E5B-20938695D525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43360" y="9415440"/>
            <a:ext cx="29354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62403-0888-48FC-85BD-D01619DB2BE4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05040" y="4708080"/>
            <a:ext cx="49701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Aufgab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Die Würfelsumme größer als 4*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Solange würfeln, bis mindestens m 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bis genau 6 Sechs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Soviele 1en wie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3843360" y="94154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806CDF-21D6-4CBD-A242-41148F915522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3199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320000"/>
            <a:ext cx="83199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892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32000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48920" y="432000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8480" y="167652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11520" y="167652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32000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8480" y="432000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11520" y="432000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440" y="1676520"/>
            <a:ext cx="831996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31996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06008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48920" y="1676520"/>
            <a:ext cx="406008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18960" y="304560"/>
            <a:ext cx="7770600" cy="42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48920" y="1676520"/>
            <a:ext cx="406008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440" y="432000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676520"/>
            <a:ext cx="831996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06008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4892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48920" y="432000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4892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440" y="4320000"/>
            <a:ext cx="83199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3199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440" y="4320000"/>
            <a:ext cx="83199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892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440" y="432000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48920" y="432000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98480" y="167652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11520" y="167652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440" y="432000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98480" y="432000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11520" y="432000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31996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06008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48920" y="1676520"/>
            <a:ext cx="406008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18960" y="304560"/>
            <a:ext cx="7770600" cy="42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8920" y="1676520"/>
            <a:ext cx="406008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32000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06008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892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48920" y="432000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892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0000"/>
            <a:ext cx="83199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"/>
          <p:cNvGraphicFramePr/>
          <p:nvPr/>
        </p:nvGraphicFramePr>
        <p:xfrm>
          <a:off x="88920" y="152280"/>
          <a:ext cx="8975880" cy="659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920" y="152280"/>
                    <a:ext cx="8975880" cy="659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440" y="1676520"/>
            <a:ext cx="831996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" name="Object 1"/>
          <p:cNvGraphicFramePr/>
          <p:nvPr/>
        </p:nvGraphicFramePr>
        <p:xfrm>
          <a:off x="101520" y="139680"/>
          <a:ext cx="8921880" cy="655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1520" y="139680"/>
                    <a:ext cx="8921880" cy="655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440" y="1676520"/>
            <a:ext cx="831996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826920" y="2637000"/>
            <a:ext cx="800100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Sternchen-Bilder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Lösungen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2" name="Picture 11" descr="C Sharp (C#) Logo PNG Vector"/>
          <p:cNvPicPr/>
          <p:nvPr/>
        </p:nvPicPr>
        <p:blipFill>
          <a:blip r:embed="rId1"/>
          <a:stretch/>
        </p:blipFill>
        <p:spPr>
          <a:xfrm>
            <a:off x="7045200" y="260280"/>
            <a:ext cx="1847880" cy="20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Lösung Schachbrett</a:t>
            </a:r>
            <a:br>
              <a:rPr sz="16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755640" y="2924280"/>
            <a:ext cx="61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hteck 2"/>
          <p:cNvSpPr/>
          <p:nvPr/>
        </p:nvSpPr>
        <p:spPr>
          <a:xfrm>
            <a:off x="4284720" y="1484280"/>
            <a:ext cx="4707000" cy="1905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tern * bei ungerader Spalte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spalte%2!=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Hashtag # son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344600" y="1197000"/>
            <a:ext cx="200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=4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eile 1: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#*#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eile 2: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*#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eile 3: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#*#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eile 4: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*#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Textfeld 8"/>
          <p:cNvSpPr/>
          <p:nvPr/>
        </p:nvSpPr>
        <p:spPr>
          <a:xfrm>
            <a:off x="1806480" y="3487680"/>
            <a:ext cx="5818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t n=4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for(int zeile=1; zeile&lt;=n; zeile++) {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2400" spc="-1" strike="noStrike">
                <a:solidFill>
                  <a:srgbClr val="00b050"/>
                </a:solidFill>
                <a:latin typeface="Verdana"/>
              </a:rPr>
              <a:t>for(int spalte=1; spalte&lt;=n spalte++) {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Console.Write("*"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b050"/>
                </a:solidFill>
                <a:latin typeface="Verdana"/>
              </a:rPr>
              <a:t>    </a:t>
            </a:r>
            <a:r>
              <a:rPr b="0" lang="de-DE" sz="2400" spc="-1" strike="noStrike">
                <a:solidFill>
                  <a:srgbClr val="00b05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Console.WriteLine();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Textfeld 1"/>
          <p:cNvSpPr/>
          <p:nvPr/>
        </p:nvSpPr>
        <p:spPr>
          <a:xfrm>
            <a:off x="2012760" y="3581280"/>
            <a:ext cx="6916680" cy="314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t n=4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70c0"/>
                </a:solidFill>
                <a:latin typeface="Verdana"/>
              </a:rPr>
              <a:t>for(int zeile=1; zeile&lt;=n; zeile++) {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b050"/>
                </a:solidFill>
                <a:latin typeface="Verdana"/>
              </a:rPr>
              <a:t>    </a:t>
            </a:r>
            <a:r>
              <a:rPr b="0" lang="de-DE" sz="2000" spc="-1" strike="noStrike">
                <a:solidFill>
                  <a:srgbClr val="00b050"/>
                </a:solidFill>
                <a:latin typeface="Verdana"/>
              </a:rPr>
              <a:t>for(int spalte=1; spalte&lt;=n; spalte++) {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if (zeile%2!=0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if (spalte%2!=0) Console.Write("*"); else Console.Write("#");      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} else {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if (spalte%2!=0) Console.Write("#"); else Console.Write("*");      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b050"/>
                </a:solidFill>
                <a:latin typeface="Verdana"/>
              </a:rPr>
              <a:t>    </a:t>
            </a:r>
            <a:r>
              <a:rPr b="0" lang="de-DE" sz="2000" spc="-1" strike="noStrike">
                <a:solidFill>
                  <a:srgbClr val="00b05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Console.WriteLine();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70c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Textfeld 3"/>
          <p:cNvSpPr/>
          <p:nvPr/>
        </p:nvSpPr>
        <p:spPr>
          <a:xfrm>
            <a:off x="8334360" y="6021360"/>
            <a:ext cx="6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Lösung Dreieck zentriert</a:t>
            </a:r>
            <a:br>
              <a:rPr sz="16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755640" y="2924280"/>
            <a:ext cx="61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hteck 2"/>
          <p:cNvSpPr/>
          <p:nvPr/>
        </p:nvSpPr>
        <p:spPr>
          <a:xfrm>
            <a:off x="5003640" y="1484280"/>
            <a:ext cx="3529080" cy="1905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Verdana"/>
              </a:rPr>
              <a:t>In Zeile z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Verdana"/>
              </a:rPr>
              <a:t>n+1-z Leerzeich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Verdana"/>
              </a:rPr>
              <a:t>   </a:t>
            </a:r>
            <a:r>
              <a:rPr b="0" lang="de-DE" sz="2400" spc="-1" strike="noStrike">
                <a:solidFill>
                  <a:srgbClr val="ff0000"/>
                </a:solidFill>
                <a:latin typeface="Verdana"/>
              </a:rPr>
              <a:t>leer&lt;=n+1-zei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2*z-1 Ster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0" lang="de-DE" sz="2400" spc="-1" strike="noStrike">
                <a:solidFill>
                  <a:srgbClr val="ff0000"/>
                </a:solidFill>
                <a:latin typeface="Verdana"/>
              </a:rPr>
              <a:t>spalte&lt;=2*zeile-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1382760" y="1197000"/>
            <a:ext cx="291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=4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eile 1: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.*..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eile 2: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***.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eile 3: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*****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eile 4: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*******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Textfeld 8"/>
          <p:cNvSpPr/>
          <p:nvPr/>
        </p:nvSpPr>
        <p:spPr>
          <a:xfrm>
            <a:off x="1806480" y="3487680"/>
            <a:ext cx="5818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t n=4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for(int zeile=1; zeile&lt;=n; zeile++) {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2400" spc="-1" strike="noStrike">
                <a:solidFill>
                  <a:srgbClr val="00b050"/>
                </a:solidFill>
                <a:latin typeface="Verdana"/>
              </a:rPr>
              <a:t>for(int spalte=1; spalte&lt;=n spalte++) {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Console.Write("*"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b050"/>
                </a:solidFill>
                <a:latin typeface="Verdana"/>
              </a:rPr>
              <a:t>    </a:t>
            </a:r>
            <a:r>
              <a:rPr b="0" lang="de-DE" sz="2400" spc="-1" strike="noStrike">
                <a:solidFill>
                  <a:srgbClr val="00b05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Console.WriteLine();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feld 1"/>
          <p:cNvSpPr/>
          <p:nvPr/>
        </p:nvSpPr>
        <p:spPr>
          <a:xfrm>
            <a:off x="2089440" y="3429000"/>
            <a:ext cx="6668280" cy="28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t n=4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70c0"/>
                </a:solidFill>
                <a:latin typeface="Verdana"/>
              </a:rPr>
              <a:t>for(int zeile=1; zeile&lt;=n; zeile++) {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ff6600"/>
                </a:solidFill>
                <a:latin typeface="Verdana"/>
              </a:rPr>
              <a:t>    </a:t>
            </a:r>
            <a:r>
              <a:rPr b="0" lang="de-DE" sz="2000" spc="-1" strike="noStrike">
                <a:solidFill>
                  <a:srgbClr val="ff6600"/>
                </a:solidFill>
                <a:latin typeface="Verdana"/>
              </a:rPr>
              <a:t>for(int leer=1; </a:t>
            </a:r>
            <a:r>
              <a:rPr b="1" lang="de-DE" sz="2000" spc="-1" strike="noStrike">
                <a:solidFill>
                  <a:srgbClr val="ff0000"/>
                </a:solidFill>
                <a:latin typeface="Verdana"/>
              </a:rPr>
              <a:t>leer&lt;=n+1-zeile</a:t>
            </a:r>
            <a:r>
              <a:rPr b="0" lang="de-DE" sz="2000" spc="-1" strike="noStrike">
                <a:solidFill>
                  <a:srgbClr val="ff6600"/>
                </a:solidFill>
                <a:latin typeface="Verdana"/>
              </a:rPr>
              <a:t>; leer++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de-DE" sz="2000" spc="-1" strike="noStrike">
                <a:solidFill>
                  <a:srgbClr val="ff6600"/>
                </a:solidFill>
                <a:latin typeface="Verdana"/>
              </a:rPr>
              <a:t>Console.Write(" "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2000" spc="-1" strike="noStrike">
                <a:solidFill>
                  <a:srgbClr val="00b050"/>
                </a:solidFill>
                <a:latin typeface="Verdana"/>
              </a:rPr>
              <a:t>for(int spalte=1; </a:t>
            </a:r>
            <a:r>
              <a:rPr b="1" lang="de-DE" sz="2000" spc="-1" strike="noStrike">
                <a:solidFill>
                  <a:srgbClr val="ff0000"/>
                </a:solidFill>
                <a:latin typeface="Verdana"/>
              </a:rPr>
              <a:t>spalte&lt;=2*zeile-1</a:t>
            </a:r>
            <a:r>
              <a:rPr b="0" lang="de-DE" sz="2000" spc="-1" strike="noStrike">
                <a:solidFill>
                  <a:srgbClr val="00b050"/>
                </a:solidFill>
                <a:latin typeface="Verdana"/>
              </a:rPr>
              <a:t>; spalte++) {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Console.Write("*"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b050"/>
                </a:solidFill>
                <a:latin typeface="Verdana"/>
              </a:rPr>
              <a:t>    </a:t>
            </a:r>
            <a:r>
              <a:rPr b="0" lang="de-DE" sz="2000" spc="-1" strike="noStrike">
                <a:solidFill>
                  <a:srgbClr val="00b05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Console.WriteLine();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70c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Textfeld 4"/>
          <p:cNvSpPr/>
          <p:nvPr/>
        </p:nvSpPr>
        <p:spPr>
          <a:xfrm>
            <a:off x="8686800" y="2436840"/>
            <a:ext cx="3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Lösung umgekehrtes Dreieck zentriert</a:t>
            </a:r>
            <a:br>
              <a:rPr sz="16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755640" y="2924280"/>
            <a:ext cx="61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Rechteck 2"/>
          <p:cNvSpPr/>
          <p:nvPr/>
        </p:nvSpPr>
        <p:spPr>
          <a:xfrm>
            <a:off x="4572000" y="1484280"/>
            <a:ext cx="4500720" cy="1905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Verdana"/>
              </a:rPr>
              <a:t>In Zeile z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Verdana"/>
              </a:rPr>
              <a:t>z Leerzeich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Verdana"/>
              </a:rPr>
              <a:t>   </a:t>
            </a:r>
            <a:r>
              <a:rPr b="0" lang="de-DE" sz="2400" spc="-1" strike="noStrike">
                <a:solidFill>
                  <a:srgbClr val="ff0000"/>
                </a:solidFill>
                <a:latin typeface="Verdana"/>
              </a:rPr>
              <a:t>leer&lt;=zei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2*n+1-2*z Ster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0" lang="de-DE" sz="2400" spc="-1" strike="noStrike">
                <a:solidFill>
                  <a:srgbClr val="ff0000"/>
                </a:solidFill>
                <a:latin typeface="Verdana"/>
              </a:rPr>
              <a:t>spalte&lt;=2*n+1-2*zei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382760" y="1197000"/>
            <a:ext cx="291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=4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eile 1: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*******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eile 2: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*****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eile 3: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***.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eile 4: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.*..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Textfeld 8"/>
          <p:cNvSpPr/>
          <p:nvPr/>
        </p:nvSpPr>
        <p:spPr>
          <a:xfrm>
            <a:off x="1806480" y="3487680"/>
            <a:ext cx="5818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t n=4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for(int zeile=1; zeile&lt;=n; zeile++) {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2400" spc="-1" strike="noStrike">
                <a:solidFill>
                  <a:srgbClr val="00b050"/>
                </a:solidFill>
                <a:latin typeface="Verdana"/>
              </a:rPr>
              <a:t>for(int spalte=1; spalte&lt;=n spalte++) {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Console.Write("*"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b050"/>
                </a:solidFill>
                <a:latin typeface="Verdana"/>
              </a:rPr>
              <a:t>    </a:t>
            </a:r>
            <a:r>
              <a:rPr b="0" lang="de-DE" sz="2400" spc="-1" strike="noStrike">
                <a:solidFill>
                  <a:srgbClr val="00b05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Console.WriteLine();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Textfeld 1"/>
          <p:cNvSpPr/>
          <p:nvPr/>
        </p:nvSpPr>
        <p:spPr>
          <a:xfrm>
            <a:off x="900000" y="3429000"/>
            <a:ext cx="8172720" cy="28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t n=4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70c0"/>
                </a:solidFill>
                <a:latin typeface="Verdana"/>
              </a:rPr>
              <a:t>for(int zeile=1; zeile&lt;=n; zeile++) {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ff6600"/>
                </a:solidFill>
                <a:latin typeface="Verdana"/>
              </a:rPr>
              <a:t>    </a:t>
            </a:r>
            <a:r>
              <a:rPr b="0" lang="de-DE" sz="2000" spc="-1" strike="noStrike">
                <a:solidFill>
                  <a:srgbClr val="ff6600"/>
                </a:solidFill>
                <a:latin typeface="Verdana"/>
              </a:rPr>
              <a:t>for(int leer=1; </a:t>
            </a:r>
            <a:r>
              <a:rPr b="1" lang="de-DE" sz="2000" spc="-1" strike="noStrike">
                <a:solidFill>
                  <a:srgbClr val="ff0000"/>
                </a:solidFill>
                <a:latin typeface="Verdana"/>
              </a:rPr>
              <a:t>leer&lt;=zeile</a:t>
            </a:r>
            <a:r>
              <a:rPr b="0" lang="de-DE" sz="2000" spc="-1" strike="noStrike">
                <a:solidFill>
                  <a:srgbClr val="ff6600"/>
                </a:solidFill>
                <a:latin typeface="Verdana"/>
              </a:rPr>
              <a:t>; leer++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de-DE" sz="2000" spc="-1" strike="noStrike">
                <a:solidFill>
                  <a:srgbClr val="ff6600"/>
                </a:solidFill>
                <a:latin typeface="Verdana"/>
              </a:rPr>
              <a:t>Console.Write(" "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2000" spc="-1" strike="noStrike">
                <a:solidFill>
                  <a:srgbClr val="00b050"/>
                </a:solidFill>
                <a:latin typeface="Verdana"/>
              </a:rPr>
              <a:t>for(int spalte=1; </a:t>
            </a:r>
            <a:r>
              <a:rPr b="1" lang="de-DE" sz="2000" spc="-1" strike="noStrike">
                <a:solidFill>
                  <a:srgbClr val="ff0000"/>
                </a:solidFill>
                <a:latin typeface="Verdana"/>
              </a:rPr>
              <a:t>spalte&lt;=2*n+1-2*zeile</a:t>
            </a:r>
            <a:r>
              <a:rPr b="0" lang="de-DE" sz="2000" spc="-1" strike="noStrike">
                <a:solidFill>
                  <a:srgbClr val="00b050"/>
                </a:solidFill>
                <a:latin typeface="Verdana"/>
              </a:rPr>
              <a:t>; spalte++) {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Console.Write("*"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b050"/>
                </a:solidFill>
                <a:latin typeface="Verdana"/>
              </a:rPr>
              <a:t>    </a:t>
            </a:r>
            <a:r>
              <a:rPr b="0" lang="de-DE" sz="2000" spc="-1" strike="noStrike">
                <a:solidFill>
                  <a:srgbClr val="00b05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Console.WriteLine();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70c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feld 4"/>
          <p:cNvSpPr/>
          <p:nvPr/>
        </p:nvSpPr>
        <p:spPr>
          <a:xfrm>
            <a:off x="8686800" y="2436840"/>
            <a:ext cx="3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Sterne-Figur Quadrat</a:t>
            </a:r>
            <a:br>
              <a:rPr sz="16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755640" y="2924280"/>
            <a:ext cx="61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34960" y="1498680"/>
            <a:ext cx="832176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2546280" y="1368360"/>
            <a:ext cx="3718080" cy="3068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1800360" y="4643280"/>
            <a:ext cx="5688000" cy="2197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7121520" y="1671480"/>
            <a:ext cx="108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=4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 * * 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 * * 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 * * 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 * * 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rbeitsauftrag: Sterne-Figuren</a:t>
            </a:r>
            <a:br>
              <a:rPr sz="16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516720" y="1530360"/>
            <a:ext cx="2416320" cy="1862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755640" y="2924280"/>
            <a:ext cx="61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468360" y="1498680"/>
            <a:ext cx="832176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116000" indent="-45576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1901880"/>
                <a:tab algn="l" pos="2816280"/>
                <a:tab algn="l" pos="3730680"/>
                <a:tab algn="l" pos="4645080"/>
                <a:tab algn="l" pos="5559480"/>
                <a:tab algn="l" pos="6473880"/>
                <a:tab algn="l" pos="7388280"/>
                <a:tab algn="l" pos="8302680"/>
                <a:tab algn="l" pos="9217080"/>
                <a:tab algn="l" pos="1013148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uadrat       2. Rechteck      3. Dreiec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116000" indent="-45576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1901880"/>
                <a:tab algn="l" pos="2816280"/>
                <a:tab algn="l" pos="3730680"/>
                <a:tab algn="l" pos="4645080"/>
                <a:tab algn="l" pos="5559480"/>
                <a:tab algn="l" pos="6473880"/>
                <a:tab algn="l" pos="7388280"/>
                <a:tab algn="l" pos="8302680"/>
                <a:tab algn="l" pos="9217080"/>
                <a:tab algn="l" pos="10131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116000" indent="-45576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1901880"/>
                <a:tab algn="l" pos="2816280"/>
                <a:tab algn="l" pos="3730680"/>
                <a:tab algn="l" pos="4645080"/>
                <a:tab algn="l" pos="5559480"/>
                <a:tab algn="l" pos="6473880"/>
                <a:tab algn="l" pos="7388280"/>
                <a:tab algn="l" pos="8302680"/>
                <a:tab algn="l" pos="9217080"/>
                <a:tab algn="l" pos="10131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116000" indent="-45576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1901880"/>
                <a:tab algn="l" pos="2816280"/>
                <a:tab algn="l" pos="3730680"/>
                <a:tab algn="l" pos="4645080"/>
                <a:tab algn="l" pos="5559480"/>
                <a:tab algn="l" pos="6473880"/>
                <a:tab algn="l" pos="7388280"/>
                <a:tab algn="l" pos="8302680"/>
                <a:tab algn="l" pos="9217080"/>
                <a:tab algn="l" pos="10131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116000" indent="-45576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1901880"/>
                <a:tab algn="l" pos="2816280"/>
                <a:tab algn="l" pos="3730680"/>
                <a:tab algn="l" pos="4645080"/>
                <a:tab algn="l" pos="5559480"/>
                <a:tab algn="l" pos="6473880"/>
                <a:tab algn="l" pos="7388280"/>
                <a:tab algn="l" pos="8302680"/>
                <a:tab algn="l" pos="9217080"/>
                <a:tab algn="l" pos="10131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116000" indent="-45576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1901880"/>
                <a:tab algn="l" pos="2816280"/>
                <a:tab algn="l" pos="3730680"/>
                <a:tab algn="l" pos="4645080"/>
                <a:tab algn="l" pos="5559480"/>
                <a:tab algn="l" pos="6473880"/>
                <a:tab algn="l" pos="7388280"/>
                <a:tab algn="l" pos="8302680"/>
                <a:tab algn="l" pos="9217080"/>
                <a:tab algn="l" pos="1013148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. Parallelogramm    5. Hohlquadrat    6. Schachbret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116000" indent="-45576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1901880"/>
                <a:tab algn="l" pos="2816280"/>
                <a:tab algn="l" pos="3730680"/>
                <a:tab algn="l" pos="4645080"/>
                <a:tab algn="l" pos="5559480"/>
                <a:tab algn="l" pos="6473880"/>
                <a:tab algn="l" pos="7388280"/>
                <a:tab algn="l" pos="8302680"/>
                <a:tab algn="l" pos="9217080"/>
                <a:tab algn="l" pos="10131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343160" y="2060640"/>
            <a:ext cx="108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 * * 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 * * 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 * * 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 * * 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002400" y="2013120"/>
            <a:ext cx="118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**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**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**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4770360" y="1989000"/>
            <a:ext cx="85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622160" y="4365720"/>
            <a:ext cx="14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*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*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*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*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3909600" y="4365720"/>
            <a:ext cx="85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    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    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633280" y="4365720"/>
            <a:ext cx="90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#*#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#*#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#*#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#*#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rbeitsauftrag: Sterne-Figuren 2</a:t>
            </a:r>
            <a:br>
              <a:rPr sz="1600"/>
            </a:b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516720" y="1530360"/>
            <a:ext cx="2416320" cy="18622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755640" y="2924280"/>
            <a:ext cx="61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79440" indent="-379440" algn="ctr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1498680"/>
            <a:ext cx="832176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17440" indent="-457200"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reieck zentriert   2. Dreieck zentriert Kop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7440" indent="-457200"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7440" indent="-457200"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7440" indent="-457200"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7440" indent="-457200"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7440" indent="-457200"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reu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feld 9"/>
          <p:cNvSpPr/>
          <p:nvPr/>
        </p:nvSpPr>
        <p:spPr>
          <a:xfrm>
            <a:off x="1403280" y="2060640"/>
            <a:ext cx="20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=4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**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****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Textfeld 9"/>
          <p:cNvSpPr/>
          <p:nvPr/>
        </p:nvSpPr>
        <p:spPr>
          <a:xfrm>
            <a:off x="3708360" y="2060640"/>
            <a:ext cx="194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n=4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****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**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Textfeld 9"/>
          <p:cNvSpPr/>
          <p:nvPr/>
        </p:nvSpPr>
        <p:spPr>
          <a:xfrm>
            <a:off x="1332000" y="4451400"/>
            <a:ext cx="201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***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***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**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Lösung Rechteck</a:t>
            </a:r>
            <a:br>
              <a:rPr sz="16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755640" y="2924280"/>
            <a:ext cx="61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345320" y="1582560"/>
            <a:ext cx="1428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=3 m=6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**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**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**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Textfeld 1"/>
          <p:cNvSpPr/>
          <p:nvPr/>
        </p:nvSpPr>
        <p:spPr>
          <a:xfrm>
            <a:off x="1795680" y="3805200"/>
            <a:ext cx="5900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t n=3, m=6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for(int zeile=1; zeile&lt;=n; zeile++) {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2400" spc="-1" strike="noStrike">
                <a:solidFill>
                  <a:srgbClr val="00b050"/>
                </a:solidFill>
                <a:latin typeface="Verdana"/>
              </a:rPr>
              <a:t>for(int spalte=1; spalte&lt;=n; spalte++) {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Console.Write("*"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b050"/>
                </a:solidFill>
                <a:latin typeface="Verdana"/>
              </a:rPr>
              <a:t>    </a:t>
            </a:r>
            <a:r>
              <a:rPr b="0" lang="de-DE" sz="2400" spc="-1" strike="noStrike">
                <a:solidFill>
                  <a:srgbClr val="00b05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Console.WriteLine();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Rechteck 2"/>
          <p:cNvSpPr/>
          <p:nvPr/>
        </p:nvSpPr>
        <p:spPr>
          <a:xfrm>
            <a:off x="4284720" y="1989000"/>
            <a:ext cx="3527280" cy="1535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Verdana"/>
              </a:rPr>
              <a:t>Ändere die Endbedingung der Spalte ab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Verdana"/>
              </a:rPr>
              <a:t>spalte&lt;=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Textfeld 15"/>
          <p:cNvSpPr/>
          <p:nvPr/>
        </p:nvSpPr>
        <p:spPr>
          <a:xfrm>
            <a:off x="1807920" y="3827520"/>
            <a:ext cx="599616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t n=3, m=6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for(int zeile=1; zeile&lt;=n; zeile++) {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2400" spc="-1" strike="noStrike">
                <a:solidFill>
                  <a:srgbClr val="00b050"/>
                </a:solidFill>
                <a:latin typeface="Verdana"/>
              </a:rPr>
              <a:t>for(int spalte=1; </a:t>
            </a:r>
            <a:r>
              <a:rPr b="0" lang="de-DE" sz="2400" spc="-1" strike="noStrike">
                <a:solidFill>
                  <a:srgbClr val="ff0000"/>
                </a:solidFill>
                <a:latin typeface="Verdana"/>
              </a:rPr>
              <a:t>spalte&lt;=m</a:t>
            </a:r>
            <a:r>
              <a:rPr b="0" lang="de-DE" sz="2400" spc="-1" strike="noStrike">
                <a:solidFill>
                  <a:srgbClr val="00b050"/>
                </a:solidFill>
                <a:latin typeface="Verdana"/>
              </a:rPr>
              <a:t>; spalte++) {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Console.Write("*"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b050"/>
                </a:solidFill>
                <a:latin typeface="Verdana"/>
              </a:rPr>
              <a:t>    </a:t>
            </a:r>
            <a:r>
              <a:rPr b="0" lang="de-DE" sz="2400" spc="-1" strike="noStrike">
                <a:solidFill>
                  <a:srgbClr val="00b05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Console.WriteLine();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Lösung Dreieck</a:t>
            </a:r>
            <a:br>
              <a:rPr sz="16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755640" y="2924280"/>
            <a:ext cx="61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Textfeld 1"/>
          <p:cNvSpPr/>
          <p:nvPr/>
        </p:nvSpPr>
        <p:spPr>
          <a:xfrm>
            <a:off x="1809720" y="4076640"/>
            <a:ext cx="5900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t n=4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for(int zeile=1; zeile&lt;=n; zeile++) {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2400" spc="-1" strike="noStrike">
                <a:solidFill>
                  <a:srgbClr val="00b050"/>
                </a:solidFill>
                <a:latin typeface="Verdana"/>
              </a:rPr>
              <a:t>for(int spalte=1; spalte&lt;=n; spalte++) {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Console.Write("*"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b050"/>
                </a:solidFill>
                <a:latin typeface="Verdana"/>
              </a:rPr>
              <a:t>    </a:t>
            </a:r>
            <a:r>
              <a:rPr b="0" lang="de-DE" sz="2400" spc="-1" strike="noStrike">
                <a:solidFill>
                  <a:srgbClr val="00b05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Console.WriteLine();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Rechteck 2"/>
          <p:cNvSpPr/>
          <p:nvPr/>
        </p:nvSpPr>
        <p:spPr>
          <a:xfrm>
            <a:off x="4284720" y="1989000"/>
            <a:ext cx="3527280" cy="1535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Verdana"/>
              </a:rPr>
              <a:t>In jeder Zeile z werden nur z Sterne ausgegebe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Verdana"/>
              </a:rPr>
              <a:t>spalte&lt;=zei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Textfeld 15"/>
          <p:cNvSpPr/>
          <p:nvPr/>
        </p:nvSpPr>
        <p:spPr>
          <a:xfrm>
            <a:off x="1865520" y="4076640"/>
            <a:ext cx="635760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t n=4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for(int zeile=1; zeile&lt;=n; zeile++) {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2400" spc="-1" strike="noStrike">
                <a:solidFill>
                  <a:srgbClr val="00b050"/>
                </a:solidFill>
                <a:latin typeface="Verdana"/>
              </a:rPr>
              <a:t>for(int spalte=1; </a:t>
            </a:r>
            <a:r>
              <a:rPr b="0" lang="de-DE" sz="2400" spc="-1" strike="noStrike">
                <a:solidFill>
                  <a:srgbClr val="ff0000"/>
                </a:solidFill>
                <a:latin typeface="Verdana"/>
              </a:rPr>
              <a:t>spalte&lt;=zeile</a:t>
            </a:r>
            <a:r>
              <a:rPr b="0" lang="de-DE" sz="2400" spc="-1" strike="noStrike">
                <a:solidFill>
                  <a:srgbClr val="00b050"/>
                </a:solidFill>
                <a:latin typeface="Verdana"/>
              </a:rPr>
              <a:t>; spalte++) {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Console.Write("*"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b050"/>
                </a:solidFill>
                <a:latin typeface="Verdana"/>
              </a:rPr>
              <a:t>    </a:t>
            </a:r>
            <a:r>
              <a:rPr b="0" lang="de-DE" sz="2400" spc="-1" strike="noStrike">
                <a:solidFill>
                  <a:srgbClr val="00b05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Console.WriteLine();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374840" y="1582560"/>
            <a:ext cx="194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=4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eile 1: 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eile 2: 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eile 3: 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eile 4: *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Lösung Parallelogramm</a:t>
            </a:r>
            <a:br>
              <a:rPr sz="16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755640" y="2924280"/>
            <a:ext cx="61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Rechteck 2"/>
          <p:cNvSpPr/>
          <p:nvPr/>
        </p:nvSpPr>
        <p:spPr>
          <a:xfrm>
            <a:off x="4284720" y="1484280"/>
            <a:ext cx="3527280" cy="1905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Verdana"/>
              </a:rPr>
              <a:t>In jeder Zeile z werden nur z-1 Leerzeichen ausgegebe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Verdana"/>
              </a:rPr>
              <a:t>spalte&lt;=zeile-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325160" y="1197000"/>
            <a:ext cx="255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=4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eile 1: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eile 2: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*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eile 3: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*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eile 4: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*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Textfeld 8"/>
          <p:cNvSpPr/>
          <p:nvPr/>
        </p:nvSpPr>
        <p:spPr>
          <a:xfrm>
            <a:off x="1806480" y="3487680"/>
            <a:ext cx="5818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t n=4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for(int zeile=1; zeile&lt;=n; zeile++) {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2400" spc="-1" strike="noStrike">
                <a:solidFill>
                  <a:srgbClr val="00b050"/>
                </a:solidFill>
                <a:latin typeface="Verdana"/>
              </a:rPr>
              <a:t>for(int spalte=1; spalte&lt;=n spalte++) {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Console.Write("*"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b050"/>
                </a:solidFill>
                <a:latin typeface="Verdana"/>
              </a:rPr>
              <a:t>    </a:t>
            </a:r>
            <a:r>
              <a:rPr b="0" lang="de-DE" sz="2400" spc="-1" strike="noStrike">
                <a:solidFill>
                  <a:srgbClr val="00b05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Console.WriteLine();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Textfeld 1"/>
          <p:cNvSpPr/>
          <p:nvPr/>
        </p:nvSpPr>
        <p:spPr>
          <a:xfrm>
            <a:off x="2066760" y="3429000"/>
            <a:ext cx="677196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t n=4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for(int zeile=1; zeile&lt;=n; zeile++) {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   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for(int leer=1; leer&lt;=zeile-1; leer++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Console.Write(" "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2400" spc="-1" strike="noStrike">
                <a:solidFill>
                  <a:srgbClr val="00b050"/>
                </a:solidFill>
                <a:latin typeface="Verdana"/>
              </a:rPr>
              <a:t>for(int spalte=1; spalte&lt;=n; spalte++) {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Console.Write("*"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b050"/>
                </a:solidFill>
                <a:latin typeface="Verdana"/>
              </a:rPr>
              <a:t>    </a:t>
            </a:r>
            <a:r>
              <a:rPr b="0" lang="de-DE" sz="2400" spc="-1" strike="noStrike">
                <a:solidFill>
                  <a:srgbClr val="00b05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Console.WriteLine();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Lösung Hohlquadrat 1/2</a:t>
            </a:r>
            <a:br>
              <a:rPr sz="16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755640" y="2924280"/>
            <a:ext cx="61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Rechteck 2"/>
          <p:cNvSpPr/>
          <p:nvPr/>
        </p:nvSpPr>
        <p:spPr>
          <a:xfrm>
            <a:off x="4284720" y="1484280"/>
            <a:ext cx="4707000" cy="1905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206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Verdana"/>
              </a:rPr>
              <a:t>Erste und letzte Zeile sind wie beim Quadrat. </a:t>
            </a:r>
            <a:r>
              <a:rPr b="1" lang="de-DE" sz="2000" spc="-1" strike="noStrike">
                <a:solidFill>
                  <a:srgbClr val="00b050"/>
                </a:solidFill>
                <a:latin typeface="Verdana"/>
              </a:rPr>
              <a:t>√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206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Verdana"/>
              </a:rPr>
              <a:t>Ansonsten gib nur Leerzeichen aus außer bei der ersten und letzten Spalte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spalte==1 || spalte == 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344600" y="1197000"/>
            <a:ext cx="200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=4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eile 1: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eile 2: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..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eile 3: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..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eile 4: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Textfeld 8"/>
          <p:cNvSpPr/>
          <p:nvPr/>
        </p:nvSpPr>
        <p:spPr>
          <a:xfrm>
            <a:off x="1806480" y="3487680"/>
            <a:ext cx="5818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t n=4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for(int zeile=1; zeile&lt;=n; zeile++) {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2400" spc="-1" strike="noStrike">
                <a:solidFill>
                  <a:srgbClr val="00b050"/>
                </a:solidFill>
                <a:latin typeface="Verdana"/>
              </a:rPr>
              <a:t>for(int spalte=1; spalte&lt;=n spalte++) {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Console.Write("*"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b050"/>
                </a:solidFill>
                <a:latin typeface="Verdana"/>
              </a:rPr>
              <a:t>    </a:t>
            </a:r>
            <a:r>
              <a:rPr b="0" lang="de-DE" sz="2400" spc="-1" strike="noStrike">
                <a:solidFill>
                  <a:srgbClr val="00b05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Console.WriteLine();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Textfeld 1"/>
          <p:cNvSpPr/>
          <p:nvPr/>
        </p:nvSpPr>
        <p:spPr>
          <a:xfrm>
            <a:off x="1931400" y="3581280"/>
            <a:ext cx="5672880" cy="314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t n=4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70c0"/>
                </a:solidFill>
                <a:latin typeface="Verdana"/>
              </a:rPr>
              <a:t>for(int zeile=2; zeile&lt;=n-1; zeile++) {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b050"/>
                </a:solidFill>
                <a:latin typeface="Verdana"/>
              </a:rPr>
              <a:t>    </a:t>
            </a:r>
            <a:r>
              <a:rPr b="0" lang="de-DE" sz="2000" spc="-1" strike="noStrike">
                <a:solidFill>
                  <a:srgbClr val="00b050"/>
                </a:solidFill>
                <a:latin typeface="Verdana"/>
              </a:rPr>
              <a:t>for(int spalte=1; spalte&lt;=n; spalte++) {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if (spalte==1 || spalte == 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Console.Write("*"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els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Console.Write(".");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b050"/>
                </a:solidFill>
                <a:latin typeface="Verdana"/>
              </a:rPr>
              <a:t>    </a:t>
            </a:r>
            <a:r>
              <a:rPr b="0" lang="de-DE" sz="2000" spc="-1" strike="noStrike">
                <a:solidFill>
                  <a:srgbClr val="00b05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Console.WriteLine();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70c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Textfeld 3"/>
          <p:cNvSpPr/>
          <p:nvPr/>
        </p:nvSpPr>
        <p:spPr>
          <a:xfrm>
            <a:off x="8334360" y="6021360"/>
            <a:ext cx="6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Lösung Hohlquadrat 2/2</a:t>
            </a:r>
            <a:br>
              <a:rPr sz="16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Textfeld 2"/>
          <p:cNvSpPr/>
          <p:nvPr/>
        </p:nvSpPr>
        <p:spPr>
          <a:xfrm>
            <a:off x="1906560" y="1413000"/>
            <a:ext cx="4019760" cy="542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int n=4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b050"/>
                </a:solidFill>
                <a:latin typeface="Verdana"/>
              </a:rPr>
              <a:t>// erste Zeil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b050"/>
                </a:solidFill>
                <a:latin typeface="Verdana"/>
              </a:rPr>
              <a:t>for(int spalte=1; spalte&lt;=n; spalte++) {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  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de-DE" sz="1400" spc="-1" strike="noStrike">
                <a:solidFill>
                  <a:srgbClr val="00b050"/>
                </a:solidFill>
                <a:latin typeface="Verdana"/>
              </a:rPr>
              <a:t>Console.Write("*");      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b05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b050"/>
                </a:solidFill>
                <a:latin typeface="Verdana"/>
              </a:rPr>
              <a:t>Console.WriteLine();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70c0"/>
                </a:solidFill>
                <a:latin typeface="Verdana"/>
              </a:rPr>
              <a:t>//Mitt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70c0"/>
                </a:solidFill>
                <a:latin typeface="Verdana"/>
              </a:rPr>
              <a:t>for(int zeile=2; zeile&lt;=n-1; zeile++) {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b050"/>
                </a:solidFill>
                <a:latin typeface="Verdana"/>
              </a:rPr>
              <a:t>    </a:t>
            </a:r>
            <a:r>
              <a:rPr b="0" lang="de-DE" sz="1400" spc="-1" strike="noStrike">
                <a:solidFill>
                  <a:srgbClr val="00b050"/>
                </a:solidFill>
                <a:latin typeface="Verdana"/>
              </a:rPr>
              <a:t>for(int spalte=1; spalte&lt;=n; spalte++) {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  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de-DE" sz="1400" spc="-1" strike="noStrike">
                <a:solidFill>
                  <a:srgbClr val="ff0000"/>
                </a:solidFill>
                <a:latin typeface="Verdana"/>
              </a:rPr>
              <a:t>if (spalte==1 || spalte == n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de-DE" sz="1400" spc="-1" strike="noStrike">
                <a:solidFill>
                  <a:srgbClr val="ff0000"/>
                </a:solidFill>
                <a:latin typeface="Verdana"/>
              </a:rPr>
              <a:t>Console.Write("*"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0" lang="de-DE" sz="1400" spc="-1" strike="noStrike">
                <a:solidFill>
                  <a:srgbClr val="ff0000"/>
                </a:solidFill>
                <a:latin typeface="Verdana"/>
              </a:rPr>
              <a:t>else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0" lang="de-DE" sz="1400" spc="-1" strike="noStrike">
                <a:solidFill>
                  <a:srgbClr val="ff0000"/>
                </a:solidFill>
                <a:latin typeface="Verdana"/>
              </a:rPr>
              <a:t>Console.Write(".");      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b050"/>
                </a:solidFill>
                <a:latin typeface="Verdana"/>
              </a:rPr>
              <a:t>    </a:t>
            </a:r>
            <a:r>
              <a:rPr b="0" lang="de-DE" sz="1400" spc="-1" strike="noStrike">
                <a:solidFill>
                  <a:srgbClr val="00b05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Console.WriteLine();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70c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b050"/>
                </a:solidFill>
                <a:latin typeface="Verdana"/>
              </a:rPr>
              <a:t>// letzte Zeil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b050"/>
                </a:solidFill>
                <a:latin typeface="Verdana"/>
              </a:rPr>
              <a:t>for(int spalte=1; spalte&lt;=n; spalte++) {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  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de-DE" sz="1400" spc="-1" strike="noStrike">
                <a:solidFill>
                  <a:srgbClr val="00b050"/>
                </a:solidFill>
                <a:latin typeface="Verdana"/>
              </a:rPr>
              <a:t>Console.Write("*");      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b05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b050"/>
                </a:solidFill>
                <a:latin typeface="Verdana"/>
              </a:rPr>
              <a:t>Console.WriteLine();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11:48:01Z</dcterms:created>
  <dc:creator>Stephan Baldes</dc:creator>
  <dc:description/>
  <cp:keywords/>
  <dc:language>en-US</dc:language>
  <cp:lastModifiedBy>Stephan Baldes</cp:lastModifiedBy>
  <cp:lastPrinted>2001-11-26T12:30:42Z</cp:lastPrinted>
  <dcterms:modified xsi:type="dcterms:W3CDTF">2023-02-02T11:40:23Z</dcterms:modified>
  <cp:revision>1060</cp:revision>
  <dc:subject/>
  <dc:title>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1-9.1.0.4975</vt:lpwstr>
  </property>
</Properties>
</file>