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778800" cy="9910800"/>
          </a:xfrm>
          <a:custGeom>
            <a:avLst/>
            <a:gdLst>
              <a:gd name="textAreaLeft" fmla="*/ 360 w 6778800"/>
              <a:gd name="textAreaRight" fmla="*/ 6778440 w 6778800"/>
              <a:gd name="textAreaTop" fmla="*/ 360 h 9910800"/>
              <a:gd name="textAreaBottom" fmla="*/ 9910440 h 9910800"/>
            </a:gdLst>
            <a:ahLst/>
            <a:rect l="textAreaLeft" t="textAreaTop" r="textAreaRight" b="textAreaBottom"/>
            <a:pathLst>
              <a:path w="21600" h="31579">
                <a:moveTo>
                  <a:pt x="5" y="0"/>
                </a:moveTo>
                <a:arcTo wR="5" hR="5" stAng="16200000" swAng="-5400000"/>
                <a:lnTo>
                  <a:pt x="0" y="31574"/>
                </a:lnTo>
                <a:arcTo wR="5" hR="5" stAng="10800000" swAng="-5400000"/>
                <a:lnTo>
                  <a:pt x="21595" y="3157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43360" y="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1440" cy="37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1"/>
          </p:nvPr>
        </p:nvSpPr>
        <p:spPr>
          <a:xfrm>
            <a:off x="3843360" y="9415080"/>
            <a:ext cx="2935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E20EA-F401-49B3-BAF2-88708AC1941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oliennummernplatzhalter 3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6384F-C0FF-4F01-85D1-7168250C813B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AF0BC-C75C-445D-9B80-29F415F5F0B2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76CA9A-E107-49E0-A38F-93AAEBB2806B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C5D5D-5AE6-4E3E-A446-392B8B863E5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CB225B-F14E-4041-AE59-0B825F0A7D68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893C4-6B8B-48F8-AEC3-2CE7B6EB21C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083775-BCB9-4D62-8B3D-19FFF5EB1EC3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6872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oliennummernplatzhalter 3"/>
          <p:cNvSpPr/>
          <p:nvPr/>
        </p:nvSpPr>
        <p:spPr>
          <a:xfrm>
            <a:off x="384192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AF30E5-D102-4D7F-8E00-FE1D331367F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liennummernplatzhalter 3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EA7F5E-C43A-4600-A104-5AECE95023BC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oliennummernplatzhalter 3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41481-2DF7-4794-A180-CFEFF6BF496E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32000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892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848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152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848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152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8960" y="304560"/>
            <a:ext cx="77706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4892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440" y="432000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4892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848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152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44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848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152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304560"/>
            <a:ext cx="77706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892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1"/>
          <p:cNvGraphicFramePr/>
          <p:nvPr/>
        </p:nvGraphicFramePr>
        <p:xfrm>
          <a:off x="101520" y="139680"/>
          <a:ext cx="8921880" cy="655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39680"/>
                    <a:ext cx="892188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Schleifen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  <p:sp>
        <p:nvSpPr>
          <p:cNvPr id="93" name="Rechteck 1"/>
          <p:cNvSpPr/>
          <p:nvPr/>
        </p:nvSpPr>
        <p:spPr>
          <a:xfrm>
            <a:off x="2386440" y="494172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02060"/>
                </a:solidFill>
                <a:latin typeface="Courier New"/>
                <a:ea typeface="Courier New"/>
              </a:rPr>
              <a:t>while (!asleep()) sheep++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Mit continue eine Schleife vorzeitig fortsetze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hteck 2"/>
          <p:cNvSpPr/>
          <p:nvPr/>
        </p:nvSpPr>
        <p:spPr>
          <a:xfrm>
            <a:off x="684360" y="1628640"/>
            <a:ext cx="8280360" cy="475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/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// Addiere alle geraden Zahl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/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int zahl=0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while(</a:t>
            </a: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zahl&lt;10_000</a:t>
            </a: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) 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zahl=zahl+1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if (zahl%2==1) 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continue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summe=summe+zahl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Console.WriteLine("summe:"+summe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hteck 3"/>
          <p:cNvSpPr/>
          <p:nvPr/>
        </p:nvSpPr>
        <p:spPr>
          <a:xfrm>
            <a:off x="6227640" y="3213000"/>
            <a:ext cx="2305080" cy="1511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etzt die Schleif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vorzeit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fo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69" name="Gerade Verbindung mit Pfeil 5"/>
          <p:cNvCxnSpPr/>
          <p:nvPr/>
        </p:nvCxnSpPr>
        <p:spPr>
          <a:xfrm flipH="1" flipV="1">
            <a:off x="3347280" y="4002840"/>
            <a:ext cx="2880360" cy="25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170" name="Gerade Verbindung mit Pfeil 13"/>
          <p:cNvCxnSpPr/>
          <p:nvPr/>
        </p:nvCxnSpPr>
        <p:spPr>
          <a:xfrm flipV="1">
            <a:off x="1618920" y="3141000"/>
            <a:ext cx="1080" cy="82764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terne-Figur Quadrat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755640" y="2924280"/>
            <a:ext cx="61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2546280" y="1368360"/>
            <a:ext cx="3718080" cy="30686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7174800" y="16714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=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7225560" y="1689120"/>
            <a:ext cx="108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feld 1"/>
          <p:cNvSpPr/>
          <p:nvPr/>
        </p:nvSpPr>
        <p:spPr>
          <a:xfrm>
            <a:off x="2161440" y="4687920"/>
            <a:ext cx="6764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n = 4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for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(</a:t>
            </a: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zeile = 0; zeile &lt; n; zeile++) 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for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(</a:t>
            </a: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spalte = 0; spalte &lt; n; spalte++) 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Console.Write(</a:t>
            </a:r>
            <a:r>
              <a:rPr b="0" lang="de-DE" sz="1800" spc="-1" strike="noStrike">
                <a:solidFill>
                  <a:srgbClr val="a31515"/>
                </a:solidFill>
                <a:latin typeface="Consolas"/>
              </a:rPr>
              <a:t>"*"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Console.WriteLine(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terne-Figur Quadrat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755640" y="2924280"/>
            <a:ext cx="61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4960" y="1498680"/>
            <a:ext cx="832176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2546280" y="1368360"/>
            <a:ext cx="3718080" cy="3068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7174800" y="16714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=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7225560" y="1689120"/>
            <a:ext cx="108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hteck 1"/>
          <p:cNvSpPr/>
          <p:nvPr/>
        </p:nvSpPr>
        <p:spPr>
          <a:xfrm>
            <a:off x="2568600" y="1355760"/>
            <a:ext cx="3706920" cy="66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hteck 9"/>
          <p:cNvSpPr/>
          <p:nvPr/>
        </p:nvSpPr>
        <p:spPr>
          <a:xfrm>
            <a:off x="2700360" y="2425680"/>
            <a:ext cx="3579840" cy="12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hteck 10"/>
          <p:cNvSpPr/>
          <p:nvPr/>
        </p:nvSpPr>
        <p:spPr>
          <a:xfrm>
            <a:off x="2575080" y="3645000"/>
            <a:ext cx="3705120" cy="58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hteck 12"/>
          <p:cNvSpPr/>
          <p:nvPr/>
        </p:nvSpPr>
        <p:spPr>
          <a:xfrm>
            <a:off x="2575080" y="1978200"/>
            <a:ext cx="3676320" cy="4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Rechteck 13"/>
          <p:cNvSpPr/>
          <p:nvPr/>
        </p:nvSpPr>
        <p:spPr>
          <a:xfrm>
            <a:off x="2536920" y="4227480"/>
            <a:ext cx="373860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hteck 16"/>
          <p:cNvSpPr/>
          <p:nvPr/>
        </p:nvSpPr>
        <p:spPr>
          <a:xfrm>
            <a:off x="2440080" y="2440080"/>
            <a:ext cx="255600" cy="17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feld 2"/>
          <p:cNvSpPr/>
          <p:nvPr/>
        </p:nvSpPr>
        <p:spPr>
          <a:xfrm>
            <a:off x="2161440" y="4687920"/>
            <a:ext cx="6764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n = 4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for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(</a:t>
            </a: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zeile = 0; zeile &lt; n; zeile++) 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for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(</a:t>
            </a: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spalte = 0; spalte &lt; n; spalte++) 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Console.Write(</a:t>
            </a:r>
            <a:r>
              <a:rPr b="0" lang="de-DE" sz="1800" spc="-1" strike="noStrike">
                <a:solidFill>
                  <a:srgbClr val="a31515"/>
                </a:solidFill>
                <a:latin typeface="Consolas"/>
              </a:rPr>
              <a:t>"*"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Console.WriteLine(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: Sterne-Figuren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6516720" y="1530360"/>
            <a:ext cx="2416320" cy="18622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755640" y="2924280"/>
            <a:ext cx="61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68360" y="1498680"/>
            <a:ext cx="832176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16000" indent="-4557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1901880"/>
                <a:tab algn="l" pos="2816280"/>
                <a:tab algn="l" pos="3730680"/>
                <a:tab algn="l" pos="4645080"/>
                <a:tab algn="l" pos="5559480"/>
                <a:tab algn="l" pos="6473880"/>
                <a:tab algn="l" pos="7388280"/>
                <a:tab algn="l" pos="8302680"/>
                <a:tab algn="l" pos="9217080"/>
                <a:tab algn="l" pos="1013148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drat       2. Rechteck      3. Dreiec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116000" indent="-4557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901880"/>
                <a:tab algn="l" pos="2816280"/>
                <a:tab algn="l" pos="3730680"/>
                <a:tab algn="l" pos="4645080"/>
                <a:tab algn="l" pos="5559480"/>
                <a:tab algn="l" pos="6473880"/>
                <a:tab algn="l" pos="7388280"/>
                <a:tab algn="l" pos="8302680"/>
                <a:tab algn="l" pos="9217080"/>
                <a:tab algn="l" pos="10131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116000" indent="-4557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901880"/>
                <a:tab algn="l" pos="2816280"/>
                <a:tab algn="l" pos="3730680"/>
                <a:tab algn="l" pos="4645080"/>
                <a:tab algn="l" pos="5559480"/>
                <a:tab algn="l" pos="6473880"/>
                <a:tab algn="l" pos="7388280"/>
                <a:tab algn="l" pos="8302680"/>
                <a:tab algn="l" pos="9217080"/>
                <a:tab algn="l" pos="10131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116000" indent="-4557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901880"/>
                <a:tab algn="l" pos="2816280"/>
                <a:tab algn="l" pos="3730680"/>
                <a:tab algn="l" pos="4645080"/>
                <a:tab algn="l" pos="5559480"/>
                <a:tab algn="l" pos="6473880"/>
                <a:tab algn="l" pos="7388280"/>
                <a:tab algn="l" pos="8302680"/>
                <a:tab algn="l" pos="9217080"/>
                <a:tab algn="l" pos="10131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116000" indent="-4557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901880"/>
                <a:tab algn="l" pos="2816280"/>
                <a:tab algn="l" pos="3730680"/>
                <a:tab algn="l" pos="4645080"/>
                <a:tab algn="l" pos="5559480"/>
                <a:tab algn="l" pos="6473880"/>
                <a:tab algn="l" pos="7388280"/>
                <a:tab algn="l" pos="8302680"/>
                <a:tab algn="l" pos="9217080"/>
                <a:tab algn="l" pos="10131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116000" indent="-4557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901880"/>
                <a:tab algn="l" pos="2816280"/>
                <a:tab algn="l" pos="3730680"/>
                <a:tab algn="l" pos="4645080"/>
                <a:tab algn="l" pos="5559480"/>
                <a:tab algn="l" pos="6473880"/>
                <a:tab algn="l" pos="7388280"/>
                <a:tab algn="l" pos="8302680"/>
                <a:tab algn="l" pos="9217080"/>
                <a:tab algn="l" pos="1013148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 Parallelogramm    5. Hohlquadrat    6. Schachbret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116000" indent="-45576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901880"/>
                <a:tab algn="l" pos="2816280"/>
                <a:tab algn="l" pos="3730680"/>
                <a:tab algn="l" pos="4645080"/>
                <a:tab algn="l" pos="5559480"/>
                <a:tab algn="l" pos="6473880"/>
                <a:tab algn="l" pos="7388280"/>
                <a:tab algn="l" pos="8302680"/>
                <a:tab algn="l" pos="9217080"/>
                <a:tab algn="l" pos="10131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343160" y="2060640"/>
            <a:ext cx="108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* *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002400" y="2013120"/>
            <a:ext cx="11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4770360" y="1989000"/>
            <a:ext cx="85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622160" y="4365720"/>
            <a:ext cx="14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3909600" y="4365720"/>
            <a:ext cx="85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  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    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5633280" y="4365720"/>
            <a:ext cx="90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#*#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#*#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*#*#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#*#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: Sterne-Figuren 2</a:t>
            </a:r>
            <a:br>
              <a:rPr sz="1600"/>
            </a:b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6516720" y="1530360"/>
            <a:ext cx="2416320" cy="18622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755640" y="2924280"/>
            <a:ext cx="61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498680"/>
            <a:ext cx="83217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17440" indent="-45720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eieck zentriert   2. Dreieck zentriert Ko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45720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reuz                          Spiegelschr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feld 9"/>
          <p:cNvSpPr/>
          <p:nvPr/>
        </p:nvSpPr>
        <p:spPr>
          <a:xfrm>
            <a:off x="1403280" y="2060640"/>
            <a:ext cx="20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4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feld 9"/>
          <p:cNvSpPr/>
          <p:nvPr/>
        </p:nvSpPr>
        <p:spPr>
          <a:xfrm>
            <a:off x="3708360" y="2060640"/>
            <a:ext cx="194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n=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feld 9"/>
          <p:cNvSpPr/>
          <p:nvPr/>
        </p:nvSpPr>
        <p:spPr>
          <a:xfrm>
            <a:off x="1332000" y="4437000"/>
            <a:ext cx="201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*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feld 9"/>
          <p:cNvSpPr/>
          <p:nvPr/>
        </p:nvSpPr>
        <p:spPr>
          <a:xfrm>
            <a:off x="3556080" y="4449600"/>
            <a:ext cx="339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=</a:t>
            </a: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"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llo Wara</a:t>
            </a: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******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 ollaH *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  araW *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Verdana"/>
              </a:rPr>
              <a:t>*********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Rechteck 1"/>
          <p:cNvSpPr/>
          <p:nvPr/>
        </p:nvSpPr>
        <p:spPr>
          <a:xfrm>
            <a:off x="824400" y="440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600360" cy="2773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6"/>
          <p:cNvSpPr/>
          <p:nvPr/>
        </p:nvSpPr>
        <p:spPr>
          <a:xfrm>
            <a:off x="1476360" y="4238640"/>
            <a:ext cx="655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59120" indent="-15912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ürfel-Simulation schreib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59120" indent="-159120" algn="ctr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nutzer würfelt mit zwei Würfeln solange, bis beide die gleiche Augenzahl anzeigen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 Ergebnis jeder Würfelrunde soll angezeigt werde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59120" indent="-159120" algn="ctr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tz: Die Summe aller gewürfelten Augenzahlen wird berechnet und ausgegebe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59120" indent="-159120" algn="ctr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Rechteck 1"/>
          <p:cNvSpPr/>
          <p:nvPr/>
        </p:nvSpPr>
        <p:spPr>
          <a:xfrm>
            <a:off x="5460840" y="1165320"/>
            <a:ext cx="3529080" cy="14414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Zufallszahl von 1…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//import rand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zufall1 = random.randint(1, 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11872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3 Arten von Schleifen in C#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685800" y="1676520"/>
            <a:ext cx="832176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ählschleif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pfgesteuerte Schleife (While-Schleif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ßgesteuerte Schleife (Do-While-Schleif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4"/>
          <a:stretch/>
        </p:blipFill>
        <p:spPr>
          <a:xfrm>
            <a:off x="7164360" y="1830240"/>
            <a:ext cx="1800360" cy="80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5"/>
          <a:stretch/>
        </p:blipFill>
        <p:spPr>
          <a:xfrm>
            <a:off x="7134120" y="3068640"/>
            <a:ext cx="1901880" cy="1660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6"/>
          <a:stretch/>
        </p:blipFill>
        <p:spPr>
          <a:xfrm>
            <a:off x="7134120" y="4924440"/>
            <a:ext cx="1901880" cy="1673280"/>
          </a:xfrm>
          <a:prstGeom prst="rect">
            <a:avLst/>
          </a:prstGeom>
          <a:ln w="0">
            <a:noFill/>
          </a:ln>
        </p:spPr>
      </p:pic>
      <p:sp>
        <p:nvSpPr>
          <p:cNvPr id="99" name="Textfeld 1"/>
          <p:cNvSpPr/>
          <p:nvPr/>
        </p:nvSpPr>
        <p:spPr>
          <a:xfrm>
            <a:off x="1055880" y="2073240"/>
            <a:ext cx="45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n-NO" sz="1800" spc="-1" strike="noStrike">
                <a:solidFill>
                  <a:srgbClr val="0000ff"/>
                </a:solidFill>
                <a:latin typeface="Consolas"/>
              </a:rPr>
              <a:t>for</a:t>
            </a:r>
            <a:r>
              <a:rPr b="0" lang="nn-NO" sz="1800" spc="-1" strike="noStrike">
                <a:solidFill>
                  <a:srgbClr val="000000"/>
                </a:solidFill>
                <a:latin typeface="Consolas"/>
              </a:rPr>
              <a:t> (</a:t>
            </a:r>
            <a:r>
              <a:rPr b="0" lang="nn-NO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nn-NO" sz="1800" spc="-1" strike="noStrike">
                <a:solidFill>
                  <a:srgbClr val="000000"/>
                </a:solidFill>
                <a:latin typeface="Consolas"/>
              </a:rPr>
              <a:t> i= 1; i &lt;=10; i++) 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Console.WriteLine(</a:t>
            </a:r>
            <a:r>
              <a:rPr b="0" lang="de-DE" sz="1800" spc="-1" strike="noStrike">
                <a:solidFill>
                  <a:srgbClr val="a31515"/>
                </a:solidFill>
                <a:latin typeface="Consolas"/>
              </a:rPr>
              <a:t>"Zahl "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+i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Textfeld 2"/>
          <p:cNvSpPr/>
          <p:nvPr/>
        </p:nvSpPr>
        <p:spPr>
          <a:xfrm>
            <a:off x="1006920" y="3392640"/>
            <a:ext cx="456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i = 1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while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(i&lt;=10) 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Console.WriteLine(</a:t>
            </a:r>
            <a:r>
              <a:rPr b="0" lang="de-DE" sz="1800" spc="-1" strike="noStrike">
                <a:solidFill>
                  <a:srgbClr val="a31515"/>
                </a:solidFill>
                <a:latin typeface="Consolas"/>
              </a:rPr>
              <a:t>"Zahl "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+i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i++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feld 4"/>
          <p:cNvSpPr/>
          <p:nvPr/>
        </p:nvSpPr>
        <p:spPr>
          <a:xfrm>
            <a:off x="845640" y="5264280"/>
            <a:ext cx="49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i = 1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do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Console.WriteLine(</a:t>
            </a:r>
            <a:r>
              <a:rPr b="0" lang="de-DE" sz="1800" spc="-1" strike="noStrike">
                <a:solidFill>
                  <a:srgbClr val="a31515"/>
                </a:solidFill>
                <a:latin typeface="Consolas"/>
              </a:rPr>
              <a:t>"Zahl "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+ i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i++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 </a:t>
            </a: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while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(i &lt;= 10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Grafik 3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667560" cy="4876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leifentyp geschickt auswähl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leifentyp geschickt auswähl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669960" y="1341360"/>
            <a:ext cx="832176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79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ählschleif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ang und Ende bekann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=1;i&lt;=10;i++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hile-Schleif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ngung der Schleife wird am Anfang geprüf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ie Schleife wird nur durchlaufen falls die Bedingung am Anfang zutriff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file.hasNext()) {...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-While-Schleif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dingung der Schleife wird am Ende geprüft, die Schleife wir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jeden Fall einmal durchlauf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{insekt.fliegen()} while(insekt.blumeGefunden()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feld 4"/>
          <p:cNvSpPr/>
          <p:nvPr/>
        </p:nvSpPr>
        <p:spPr>
          <a:xfrm>
            <a:off x="1176840" y="4581360"/>
            <a:ext cx="456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i = 1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Consolas"/>
              </a:rPr>
              <a:t>while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(i&lt;=10) 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Console.WriteLine(</a:t>
            </a:r>
            <a:r>
              <a:rPr b="0" lang="de-DE" sz="1800" spc="-1" strike="noStrike">
                <a:solidFill>
                  <a:srgbClr val="a31515"/>
                </a:solidFill>
                <a:latin typeface="Consolas"/>
              </a:rPr>
              <a:t>"Zahl "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+i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i++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Textfeld 1"/>
          <p:cNvSpPr/>
          <p:nvPr/>
        </p:nvSpPr>
        <p:spPr>
          <a:xfrm>
            <a:off x="1053000" y="2127240"/>
            <a:ext cx="45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n-NO" sz="1800" spc="-1" strike="noStrike">
                <a:solidFill>
                  <a:srgbClr val="0000ff"/>
                </a:solidFill>
                <a:latin typeface="Consolas"/>
              </a:rPr>
              <a:t>for</a:t>
            </a:r>
            <a:r>
              <a:rPr b="0" lang="nn-NO" sz="1800" spc="-1" strike="noStrike">
                <a:solidFill>
                  <a:srgbClr val="000000"/>
                </a:solidFill>
                <a:latin typeface="Consolas"/>
              </a:rPr>
              <a:t> (</a:t>
            </a:r>
            <a:r>
              <a:rPr b="0" lang="nn-NO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nn-NO" sz="1800" spc="-1" strike="noStrike">
                <a:solidFill>
                  <a:srgbClr val="000000"/>
                </a:solidFill>
                <a:latin typeface="Consolas"/>
              </a:rPr>
              <a:t> i= 1; i &lt;=10; i++) 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Console.WriteLine(</a:t>
            </a:r>
            <a:r>
              <a:rPr b="0" lang="de-DE" sz="1800" spc="-1" strike="noStrike">
                <a:solidFill>
                  <a:srgbClr val="a31515"/>
                </a:solidFill>
                <a:latin typeface="Consolas"/>
              </a:rPr>
              <a:t>"Zahl "</a:t>
            </a: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+i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lle Schleifen sind gleichwertig (äquivalen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93720" y="1700280"/>
            <a:ext cx="832176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ählschleif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hile-Schleif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hteck 2"/>
          <p:cNvSpPr/>
          <p:nvPr/>
        </p:nvSpPr>
        <p:spPr>
          <a:xfrm>
            <a:off x="1835280" y="2133720"/>
            <a:ext cx="914400" cy="358560"/>
          </a:xfrm>
          <a:prstGeom prst="rect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hteck 11"/>
          <p:cNvSpPr/>
          <p:nvPr/>
        </p:nvSpPr>
        <p:spPr>
          <a:xfrm>
            <a:off x="1414440" y="4586400"/>
            <a:ext cx="914400" cy="355320"/>
          </a:xfrm>
          <a:prstGeom prst="rect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hteck 12"/>
          <p:cNvSpPr/>
          <p:nvPr/>
        </p:nvSpPr>
        <p:spPr>
          <a:xfrm>
            <a:off x="3132000" y="2133720"/>
            <a:ext cx="814680" cy="358560"/>
          </a:xfrm>
          <a:prstGeom prst="rect">
            <a:avLst/>
          </a:prstGeom>
          <a:solidFill>
            <a:srgbClr val="ffc000">
              <a:alpha val="1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Rechteck 13"/>
          <p:cNvSpPr/>
          <p:nvPr/>
        </p:nvSpPr>
        <p:spPr>
          <a:xfrm>
            <a:off x="2205000" y="4851360"/>
            <a:ext cx="773280" cy="360360"/>
          </a:xfrm>
          <a:prstGeom prst="rect">
            <a:avLst/>
          </a:prstGeom>
          <a:solidFill>
            <a:srgbClr val="ffc000">
              <a:alpha val="1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hteck 17"/>
          <p:cNvSpPr/>
          <p:nvPr/>
        </p:nvSpPr>
        <p:spPr>
          <a:xfrm>
            <a:off x="4141800" y="2133720"/>
            <a:ext cx="501480" cy="358560"/>
          </a:xfrm>
          <a:prstGeom prst="rect">
            <a:avLst/>
          </a:prstGeom>
          <a:solidFill>
            <a:srgbClr val="00b050">
              <a:alpha val="1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Rechteck 18"/>
          <p:cNvSpPr/>
          <p:nvPr/>
        </p:nvSpPr>
        <p:spPr>
          <a:xfrm>
            <a:off x="1763640" y="5373720"/>
            <a:ext cx="492120" cy="360360"/>
          </a:xfrm>
          <a:prstGeom prst="rect">
            <a:avLst/>
          </a:prstGeom>
          <a:solidFill>
            <a:srgbClr val="00b050">
              <a:alpha val="1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feld 3"/>
          <p:cNvSpPr/>
          <p:nvPr/>
        </p:nvSpPr>
        <p:spPr>
          <a:xfrm>
            <a:off x="4846320" y="297180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Verdana"/>
              </a:rPr>
              <a:t>Anlegen der Laufvari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Textfeld 20"/>
          <p:cNvSpPr/>
          <p:nvPr/>
        </p:nvSpPr>
        <p:spPr>
          <a:xfrm>
            <a:off x="4750200" y="349092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c000"/>
                </a:solidFill>
                <a:latin typeface="Verdana"/>
              </a:rPr>
              <a:t>Bedingu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Textfeld 23"/>
          <p:cNvSpPr/>
          <p:nvPr/>
        </p:nvSpPr>
        <p:spPr>
          <a:xfrm>
            <a:off x="4833000" y="40226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b050"/>
                </a:solidFill>
                <a:latin typeface="Verdana"/>
              </a:rPr>
              <a:t>Erhöhung der Laufvari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19" name="Gerade Verbindung mit Pfeil 5"/>
          <p:cNvCxnSpPr/>
          <p:nvPr/>
        </p:nvCxnSpPr>
        <p:spPr>
          <a:xfrm flipH="1" flipV="1">
            <a:off x="2484000" y="2631960"/>
            <a:ext cx="2232720" cy="5814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0" name="Gerade Verbindung mit Pfeil 26"/>
          <p:cNvCxnSpPr>
            <a:stCxn id="116" idx="1"/>
          </p:cNvCxnSpPr>
          <p:nvPr/>
        </p:nvCxnSpPr>
        <p:spPr>
          <a:xfrm flipH="1">
            <a:off x="1979640" y="3203640"/>
            <a:ext cx="2737080" cy="1270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1" name="Gerade Verbindung mit Pfeil 29"/>
          <p:cNvCxnSpPr/>
          <p:nvPr/>
        </p:nvCxnSpPr>
        <p:spPr>
          <a:xfrm flipH="1" flipV="1">
            <a:off x="3563280" y="2622240"/>
            <a:ext cx="1145160" cy="108504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122" name="Gerade Verbindung mit Pfeil 30"/>
          <p:cNvCxnSpPr/>
          <p:nvPr/>
        </p:nvCxnSpPr>
        <p:spPr>
          <a:xfrm flipH="1">
            <a:off x="2700000" y="3696840"/>
            <a:ext cx="2008800" cy="106596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123" name="Gerade Verbindung mit Pfeil 34"/>
          <p:cNvCxnSpPr/>
          <p:nvPr/>
        </p:nvCxnSpPr>
        <p:spPr>
          <a:xfrm flipH="1" flipV="1">
            <a:off x="4436280" y="2631240"/>
            <a:ext cx="261000" cy="161388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24" name="Gerade Verbindung mit Pfeil 35"/>
          <p:cNvCxnSpPr/>
          <p:nvPr/>
        </p:nvCxnSpPr>
        <p:spPr>
          <a:xfrm flipH="1">
            <a:off x="2243880" y="4235400"/>
            <a:ext cx="2453400" cy="135504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triangle" w="med"/>
          </a:ln>
        </p:spPr>
      </p:cxn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317520"/>
            <a:ext cx="777060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: Schleife zählt rückwärts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69600" y="141300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lgende Schleife gibt die Zahlen vo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 bis 99 a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lautet die for-Schleife, die die Zahlen rückwärts, also von 99 bis 0 ausgib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hteck 1"/>
          <p:cNvSpPr/>
          <p:nvPr/>
        </p:nvSpPr>
        <p:spPr>
          <a:xfrm>
            <a:off x="1403280" y="2492280"/>
            <a:ext cx="417672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or(int i=0; i&lt;100; i++)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W(i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Rechteck 1"/>
          <p:cNvSpPr/>
          <p:nvPr/>
        </p:nvSpPr>
        <p:spPr>
          <a:xfrm>
            <a:off x="1403280" y="4992840"/>
            <a:ext cx="4176720" cy="93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or(int i=99; i&gt;=0; i--)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W(i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573960" y="1325520"/>
            <a:ext cx="24159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29" descr=""/>
          <p:cNvPicPr/>
          <p:nvPr/>
        </p:nvPicPr>
        <p:blipFill>
          <a:blip r:embed="rId1"/>
          <a:stretch/>
        </p:blipFill>
        <p:spPr>
          <a:xfrm>
            <a:off x="2916360" y="2828880"/>
            <a:ext cx="4057560" cy="3552840"/>
          </a:xfrm>
          <a:prstGeom prst="rect">
            <a:avLst/>
          </a:prstGeom>
          <a:ln w="0">
            <a:noFill/>
          </a:ln>
        </p:spPr>
      </p:pic>
      <p:sp>
        <p:nvSpPr>
          <p:cNvPr id="131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W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hteck 6"/>
          <p:cNvSpPr/>
          <p:nvPr/>
        </p:nvSpPr>
        <p:spPr>
          <a:xfrm>
            <a:off x="504720" y="1935000"/>
            <a:ext cx="2305080" cy="1295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Für jede Variabl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eine Spal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Sonstiges, Ausgab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Rechteck 39"/>
          <p:cNvSpPr/>
          <p:nvPr/>
        </p:nvSpPr>
        <p:spPr>
          <a:xfrm>
            <a:off x="465120" y="3732120"/>
            <a:ext cx="2306520" cy="6159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Nur eine Anweisung pro Zei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35" name="Gerade Verbindung mit Pfeil 28"/>
          <p:cNvCxnSpPr/>
          <p:nvPr/>
        </p:nvCxnSpPr>
        <p:spPr>
          <a:xfrm>
            <a:off x="2784240" y="2349360"/>
            <a:ext cx="500760" cy="4327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136" name="Gerade Verbindung mit Pfeil 7168"/>
          <p:cNvCxnSpPr/>
          <p:nvPr/>
        </p:nvCxnSpPr>
        <p:spPr>
          <a:xfrm>
            <a:off x="2809800" y="2349000"/>
            <a:ext cx="1532880" cy="42804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137" name="Gerade Verbindung mit Pfeil 7172"/>
          <p:cNvCxnSpPr/>
          <p:nvPr/>
        </p:nvCxnSpPr>
        <p:spPr>
          <a:xfrm>
            <a:off x="2771640" y="2288880"/>
            <a:ext cx="2626560" cy="46260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138" name="Gerade Verbindung mit Pfeil 7174"/>
          <p:cNvCxnSpPr/>
          <p:nvPr/>
        </p:nvCxnSpPr>
        <p:spPr>
          <a:xfrm>
            <a:off x="2809800" y="2273040"/>
            <a:ext cx="3418560" cy="50868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139" name="Gerade Verbindung mit Pfeil 50"/>
          <p:cNvCxnSpPr/>
          <p:nvPr/>
        </p:nvCxnSpPr>
        <p:spPr>
          <a:xfrm flipV="1">
            <a:off x="2124000" y="3277800"/>
            <a:ext cx="753120" cy="4485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140" name="Gerade Verbindung mit Pfeil 53"/>
          <p:cNvCxnSpPr/>
          <p:nvPr/>
        </p:nvCxnSpPr>
        <p:spPr>
          <a:xfrm>
            <a:off x="2124000" y="4348080"/>
            <a:ext cx="753120" cy="196128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141" name="Textfeld 7180"/>
          <p:cNvSpPr/>
          <p:nvPr/>
        </p:nvSpPr>
        <p:spPr>
          <a:xfrm>
            <a:off x="2415240" y="4414680"/>
            <a:ext cx="5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600" spc="-1" strike="noStrike">
                <a:solidFill>
                  <a:srgbClr val="00b0f0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hteck 1"/>
          <p:cNvSpPr/>
          <p:nvPr/>
        </p:nvSpPr>
        <p:spPr>
          <a:xfrm>
            <a:off x="4140360" y="463680"/>
            <a:ext cx="2952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x = 50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(int i=10;i&lt;=25;i=i+7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x=x+i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W("x="+x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2589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reibtischtest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Überbli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Rechteck 73"/>
          <p:cNvSpPr/>
          <p:nvPr/>
        </p:nvSpPr>
        <p:spPr>
          <a:xfrm>
            <a:off x="5978520" y="6137280"/>
            <a:ext cx="934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Grafik 36" descr=""/>
          <p:cNvPicPr/>
          <p:nvPr/>
        </p:nvPicPr>
        <p:blipFill>
          <a:blip r:embed="rId1"/>
          <a:stretch/>
        </p:blipFill>
        <p:spPr>
          <a:xfrm>
            <a:off x="1940040" y="2351160"/>
            <a:ext cx="4114800" cy="3529080"/>
          </a:xfrm>
          <a:prstGeom prst="rect">
            <a:avLst/>
          </a:prstGeom>
          <a:ln w="0">
            <a:noFill/>
          </a:ln>
        </p:spPr>
      </p:pic>
      <p:sp>
        <p:nvSpPr>
          <p:cNvPr id="146" name="Rechteck 7"/>
          <p:cNvSpPr/>
          <p:nvPr/>
        </p:nvSpPr>
        <p:spPr>
          <a:xfrm>
            <a:off x="7085160" y="2924280"/>
            <a:ext cx="2023920" cy="834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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Laufvariable bekommt Initialwer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hteck 8"/>
          <p:cNvSpPr/>
          <p:nvPr/>
        </p:nvSpPr>
        <p:spPr>
          <a:xfrm>
            <a:off x="7085160" y="3860640"/>
            <a:ext cx="2023920" cy="792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Bedingung überprüf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hteck 9"/>
          <p:cNvSpPr/>
          <p:nvPr/>
        </p:nvSpPr>
        <p:spPr>
          <a:xfrm>
            <a:off x="7085160" y="5754600"/>
            <a:ext cx="2023920" cy="8874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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Am Ende der Schleife: Lauf-variable erhöh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hteck 20"/>
          <p:cNvSpPr/>
          <p:nvPr/>
        </p:nvSpPr>
        <p:spPr>
          <a:xfrm>
            <a:off x="7085160" y="4797360"/>
            <a:ext cx="2033280" cy="792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Schleifen-rumpf ausführ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Rechteck 23"/>
          <p:cNvSpPr/>
          <p:nvPr/>
        </p:nvSpPr>
        <p:spPr>
          <a:xfrm>
            <a:off x="3204000" y="2708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hteck 24"/>
          <p:cNvSpPr/>
          <p:nvPr/>
        </p:nvSpPr>
        <p:spPr>
          <a:xfrm>
            <a:off x="4793040" y="29955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hteck 25"/>
          <p:cNvSpPr/>
          <p:nvPr/>
        </p:nvSpPr>
        <p:spPr>
          <a:xfrm>
            <a:off x="2348280" y="3254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hteck 26"/>
          <p:cNvSpPr/>
          <p:nvPr/>
        </p:nvSpPr>
        <p:spPr>
          <a:xfrm>
            <a:off x="3206160" y="35002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hteck 30"/>
          <p:cNvSpPr/>
          <p:nvPr/>
        </p:nvSpPr>
        <p:spPr>
          <a:xfrm>
            <a:off x="4762800" y="375768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hteck 31"/>
          <p:cNvSpPr/>
          <p:nvPr/>
        </p:nvSpPr>
        <p:spPr>
          <a:xfrm>
            <a:off x="2319840" y="397044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hteck 32"/>
          <p:cNvSpPr/>
          <p:nvPr/>
        </p:nvSpPr>
        <p:spPr>
          <a:xfrm>
            <a:off x="3177360" y="42609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hteck 33"/>
          <p:cNvSpPr/>
          <p:nvPr/>
        </p:nvSpPr>
        <p:spPr>
          <a:xfrm>
            <a:off x="4762800" y="45086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hteck 34"/>
          <p:cNvSpPr/>
          <p:nvPr/>
        </p:nvSpPr>
        <p:spPr>
          <a:xfrm>
            <a:off x="2319840" y="4707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hteck 70"/>
          <p:cNvSpPr/>
          <p:nvPr/>
        </p:nvSpPr>
        <p:spPr>
          <a:xfrm>
            <a:off x="4907160" y="52689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hteck 35"/>
          <p:cNvSpPr/>
          <p:nvPr/>
        </p:nvSpPr>
        <p:spPr>
          <a:xfrm>
            <a:off x="3177360" y="50115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Mit break eine Schleife vorzeitig verlasse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hteck 2"/>
          <p:cNvSpPr/>
          <p:nvPr/>
        </p:nvSpPr>
        <p:spPr>
          <a:xfrm>
            <a:off x="684360" y="1628640"/>
            <a:ext cx="8280360" cy="475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int summe=0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int zahl=0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while(true) 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Console.WriteLine("Geben Sie eine Zahl ein (0 = Ende):"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zahl=Convert.ToInt32(Console.ReadLine());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if (zahl==0) 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break</a:t>
            </a: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summe=summe+zahl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Verdana"/>
              </a:rPr>
              <a:t>Console.WriteLine("summe:"+summe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hteck 3"/>
          <p:cNvSpPr/>
          <p:nvPr/>
        </p:nvSpPr>
        <p:spPr>
          <a:xfrm>
            <a:off x="6227640" y="3429000"/>
            <a:ext cx="2305080" cy="1295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Bricht die Schleif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vorzeitig a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64" name="Gerade Verbindung mit Pfeil 5"/>
          <p:cNvCxnSpPr/>
          <p:nvPr/>
        </p:nvCxnSpPr>
        <p:spPr>
          <a:xfrm flipH="1">
            <a:off x="2842920" y="3998880"/>
            <a:ext cx="3242160" cy="720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165" name="Gerade Verbindung mit Pfeil 13"/>
          <p:cNvCxnSpPr/>
          <p:nvPr/>
        </p:nvCxnSpPr>
        <p:spPr>
          <a:xfrm flipH="1">
            <a:off x="1547280" y="3860280"/>
            <a:ext cx="504000" cy="8643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1:48:01Z</dcterms:created>
  <dc:creator>Stephan Baldes</dc:creator>
  <dc:description/>
  <cp:keywords/>
  <dc:language>en-US</dc:language>
  <cp:lastModifiedBy>Stephan Baldes</cp:lastModifiedBy>
  <cp:lastPrinted>2001-11-26T12:30:42Z</cp:lastPrinted>
  <dcterms:modified xsi:type="dcterms:W3CDTF">2022-11-29T10:03:13Z</dcterms:modified>
  <cp:revision>1078</cp:revision>
  <dc:subject/>
  <dc:title>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1-9.1.0.4975</vt:lpwstr>
  </property>
</Properties>
</file>