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FD4E82-2EA9-4C95-8CCD-BDCBF93A007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BC9D3B-93D0-439E-8FCE-904C05DEC73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637-2DD2-40FC-A26E-06137949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17A-BF08-4356-BB21-E85FC716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254-8B0A-4C36-AA14-E047D278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612B-62B0-4F50-AEEA-45973EB9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657-9A82-4C5F-9415-FF31319A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30A-329A-4509-8655-E3001B3B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1CC-6060-423A-B7F6-DF7DA901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0B8-AB6A-4551-B542-07E2A31E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02E-1739-470B-A598-5A750BBD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02E-E5A9-46C9-807B-21A0E41C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651A-9DFE-450F-B6BB-EA7583D8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BAD-3FD9-4541-8808-11866F4A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d09d"/>
            </a:gs>
            <a:gs pos="100000">
              <a:srgbClr val="d8ead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889E-2BF9-4D8D-B558-75B0D18221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atum und Z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excel"/>
          <p:cNvPicPr/>
          <p:nvPr/>
        </p:nvPicPr>
        <p:blipFill>
          <a:blip r:embed="rId1"/>
          <a:stretch/>
        </p:blipFill>
        <p:spPr>
          <a:xfrm>
            <a:off x="179280" y="189000"/>
            <a:ext cx="2390760" cy="2476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052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.Bal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Arial"/>
              </a:rPr>
              <a:t>Excel: Datum = Zah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edes Datum wird in Excel als Zahl gespeich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 = 1.1.1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DF8F-303F-418F-9D05-876944DF772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Grafik 5" descr=""/>
          <p:cNvPicPr/>
          <p:nvPr/>
        </p:nvPicPr>
        <p:blipFill>
          <a:blip r:embed="rId1"/>
          <a:stretch/>
        </p:blipFill>
        <p:spPr>
          <a:xfrm>
            <a:off x="4187880" y="3935520"/>
            <a:ext cx="2876400" cy="1609560"/>
          </a:xfrm>
          <a:prstGeom prst="rect">
            <a:avLst/>
          </a:prstGeom>
          <a:ln w="0">
            <a:noFill/>
          </a:ln>
        </p:spPr>
      </p:pic>
      <p:pic>
        <p:nvPicPr>
          <p:cNvPr id="55" name="Grafik 6" descr=""/>
          <p:cNvPicPr/>
          <p:nvPr/>
        </p:nvPicPr>
        <p:blipFill>
          <a:blip r:embed="rId2"/>
          <a:stretch/>
        </p:blipFill>
        <p:spPr>
          <a:xfrm>
            <a:off x="1488960" y="5506920"/>
            <a:ext cx="2543400" cy="514440"/>
          </a:xfrm>
          <a:prstGeom prst="rect">
            <a:avLst/>
          </a:prstGeom>
          <a:ln w="0">
            <a:noFill/>
          </a:ln>
        </p:spPr>
      </p:pic>
      <p:pic>
        <p:nvPicPr>
          <p:cNvPr id="56" name="Grafik 7" descr=""/>
          <p:cNvPicPr/>
          <p:nvPr/>
        </p:nvPicPr>
        <p:blipFill>
          <a:blip r:embed="rId3"/>
          <a:stretch/>
        </p:blipFill>
        <p:spPr>
          <a:xfrm>
            <a:off x="1403280" y="3552840"/>
            <a:ext cx="2629080" cy="514440"/>
          </a:xfrm>
          <a:prstGeom prst="rect">
            <a:avLst/>
          </a:prstGeom>
          <a:ln w="0">
            <a:noFill/>
          </a:ln>
        </p:spPr>
      </p:pic>
      <p:sp>
        <p:nvSpPr>
          <p:cNvPr id="57" name="Pfeil nach unten 8"/>
          <p:cNvSpPr/>
          <p:nvPr/>
        </p:nvSpPr>
        <p:spPr>
          <a:xfrm>
            <a:off x="2544840" y="4246560"/>
            <a:ext cx="431640" cy="108108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hteck 9"/>
          <p:cNvSpPr/>
          <p:nvPr/>
        </p:nvSpPr>
        <p:spPr>
          <a:xfrm>
            <a:off x="3159000" y="5668920"/>
            <a:ext cx="935280" cy="362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hteck 10"/>
          <p:cNvSpPr/>
          <p:nvPr/>
        </p:nvSpPr>
        <p:spPr>
          <a:xfrm>
            <a:off x="1619280" y="5661000"/>
            <a:ext cx="936720" cy="361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Arial"/>
              </a:rPr>
              <a:t>Rechnen mit Da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1833-F3E3-41B3-9EDF-2720FA0B46B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Grafik 6" descr=""/>
          <p:cNvPicPr/>
          <p:nvPr/>
        </p:nvPicPr>
        <p:blipFill>
          <a:blip r:embed="rId1"/>
          <a:stretch/>
        </p:blipFill>
        <p:spPr>
          <a:xfrm>
            <a:off x="1170000" y="1476360"/>
            <a:ext cx="5418000" cy="1665360"/>
          </a:xfrm>
          <a:prstGeom prst="rect">
            <a:avLst/>
          </a:prstGeom>
          <a:ln w="0">
            <a:noFill/>
          </a:ln>
        </p:spPr>
      </p:pic>
      <p:pic>
        <p:nvPicPr>
          <p:cNvPr id="63" name="Grafik 5" descr=""/>
          <p:cNvPicPr/>
          <p:nvPr/>
        </p:nvPicPr>
        <p:blipFill>
          <a:blip r:embed="rId2"/>
          <a:stretch/>
        </p:blipFill>
        <p:spPr>
          <a:xfrm>
            <a:off x="5200560" y="2093760"/>
            <a:ext cx="1362240" cy="1040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3"/>
          <p:cNvSpPr/>
          <p:nvPr/>
        </p:nvSpPr>
        <p:spPr>
          <a:xfrm>
            <a:off x="6948360" y="1870200"/>
            <a:ext cx="1800360" cy="68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= C3 - B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Grafik 12" descr=""/>
          <p:cNvPicPr/>
          <p:nvPr/>
        </p:nvPicPr>
        <p:blipFill>
          <a:blip r:embed="rId3"/>
          <a:stretch/>
        </p:blipFill>
        <p:spPr>
          <a:xfrm>
            <a:off x="1166760" y="4076640"/>
            <a:ext cx="5526000" cy="18734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6948360" y="4518000"/>
            <a:ext cx="18003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= C3 - B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Grafik 14" descr=""/>
          <p:cNvPicPr/>
          <p:nvPr/>
        </p:nvPicPr>
        <p:blipFill>
          <a:blip r:embed="rId4"/>
          <a:stretch/>
        </p:blipFill>
        <p:spPr>
          <a:xfrm>
            <a:off x="5403960" y="4560840"/>
            <a:ext cx="1280880" cy="1382760"/>
          </a:xfrm>
          <a:prstGeom prst="rect">
            <a:avLst/>
          </a:prstGeom>
          <a:ln w="0">
            <a:noFill/>
          </a:ln>
        </p:spPr>
      </p:pic>
      <p:sp>
        <p:nvSpPr>
          <p:cNvPr id="68" name="Titel 1"/>
          <p:cNvSpPr/>
          <p:nvPr/>
        </p:nvSpPr>
        <p:spPr>
          <a:xfrm>
            <a:off x="468360" y="307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Arial"/>
              </a:rPr>
              <a:t>Rechnen mit Z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Arial"/>
              </a:rPr>
              <a:t>Rechnen mit Zeit</a:t>
            </a:r>
            <a:br>
              <a:rPr sz="3600"/>
            </a:br>
            <a:r>
              <a:rPr b="1" lang="de-DE" sz="3600" spc="-1" strike="noStrike">
                <a:solidFill>
                  <a:srgbClr val="333399"/>
                </a:solidFill>
                <a:latin typeface="Arial"/>
              </a:rPr>
              <a:t>Übertrag nächster Ta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4756-3E51-4A05-BEAF-2C8F1E67A9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6875640" y="2133720"/>
            <a:ext cx="2089080" cy="71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= C3 - B3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Grafik 10" descr=""/>
          <p:cNvPicPr/>
          <p:nvPr/>
        </p:nvPicPr>
        <p:blipFill>
          <a:blip r:embed="rId1"/>
          <a:stretch/>
        </p:blipFill>
        <p:spPr>
          <a:xfrm>
            <a:off x="1101600" y="1717560"/>
            <a:ext cx="5480280" cy="18716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3"/>
          <p:cNvSpPr/>
          <p:nvPr/>
        </p:nvSpPr>
        <p:spPr>
          <a:xfrm>
            <a:off x="1101600" y="4005360"/>
            <a:ext cx="7215480" cy="71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=WENN(C3&lt;B3;C3-B3+1;C3-B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hteck 16"/>
          <p:cNvSpPr/>
          <p:nvPr/>
        </p:nvSpPr>
        <p:spPr>
          <a:xfrm>
            <a:off x="2987640" y="2290680"/>
            <a:ext cx="3741840" cy="362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Arial"/>
              </a:rPr>
              <a:t>Rechnen mit Zeit als Dezimalzah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414A-C81B-4AB6-BCBB-F7D089F6149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Grafik 11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5526360" cy="1871640"/>
          </a:xfrm>
          <a:prstGeom prst="rect">
            <a:avLst/>
          </a:prstGeom>
          <a:ln w="0">
            <a:noFill/>
          </a:ln>
        </p:spPr>
      </p:pic>
      <p:pic>
        <p:nvPicPr>
          <p:cNvPr id="78" name="Grafik 7" descr=""/>
          <p:cNvPicPr/>
          <p:nvPr/>
        </p:nvPicPr>
        <p:blipFill>
          <a:blip r:embed="rId2"/>
          <a:stretch/>
        </p:blipFill>
        <p:spPr>
          <a:xfrm>
            <a:off x="5140440" y="2735280"/>
            <a:ext cx="1261800" cy="1155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3"/>
          <p:cNvSpPr/>
          <p:nvPr/>
        </p:nvSpPr>
        <p:spPr>
          <a:xfrm>
            <a:off x="6516720" y="2419200"/>
            <a:ext cx="251928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= (C3 – B3)*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Grafik 14" descr=""/>
          <p:cNvPicPr/>
          <p:nvPr/>
        </p:nvPicPr>
        <p:blipFill>
          <a:blip r:embed="rId3"/>
          <a:stretch/>
        </p:blipFill>
        <p:spPr>
          <a:xfrm>
            <a:off x="901800" y="4005360"/>
            <a:ext cx="5460840" cy="2808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3"/>
          <p:cNvSpPr/>
          <p:nvPr/>
        </p:nvSpPr>
        <p:spPr>
          <a:xfrm>
            <a:off x="6516720" y="4941720"/>
            <a:ext cx="251928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=$C$1*B4*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2322360" y="1144440"/>
            <a:ext cx="449928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eit * 24 = Dezimalz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.B. 9:00 * 24 = 9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Arial"/>
              </a:rPr>
              <a:t>Jahre berech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31BD-3007-4C8E-84F3-83876276C4F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6372360" y="2421000"/>
            <a:ext cx="262728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= (C3 - B3)/3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372360" y="3521160"/>
            <a:ext cx="2627280" cy="1360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=ganzzahl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C3-B3)/3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2322360" y="1144440"/>
            <a:ext cx="449928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atum / 365 = Ja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Grafik 1" descr=""/>
          <p:cNvPicPr/>
          <p:nvPr/>
        </p:nvPicPr>
        <p:blipFill>
          <a:blip r:embed="rId1"/>
          <a:stretch/>
        </p:blipFill>
        <p:spPr>
          <a:xfrm>
            <a:off x="826920" y="2419200"/>
            <a:ext cx="5400720" cy="846360"/>
          </a:xfrm>
          <a:prstGeom prst="rect">
            <a:avLst/>
          </a:prstGeom>
          <a:ln w="0">
            <a:noFill/>
          </a:ln>
        </p:spPr>
      </p:pic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838080" y="3521160"/>
            <a:ext cx="538956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Arial"/>
              </a:rPr>
              <a:t>Funktionen für Datum und Z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178D-93E3-465F-A0EC-1E861F118D3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Grafik 8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81342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onsti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ahl „15091970“ in Datum umrechn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=ZEIT(GANZZAHL(A6/10000);REST(GANZZAHL(A6/100);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00);REST(A6;100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tgeschrit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d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hrzeit über 24 h addieren: Form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h]: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efangene Stunden: Aufru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Übertrag 24h (Addiere dann 1) eleg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=[Ende]+([Ende]&lt;[Anfang])-[Anfang]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712F-B829-49D2-99CB-BB5A37025C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5:17:37Z</dcterms:created>
  <dc:creator>Chitarup</dc:creator>
  <dc:description/>
  <dc:language>en-US</dc:language>
  <cp:lastModifiedBy>Walther Rathenau</cp:lastModifiedBy>
  <dcterms:modified xsi:type="dcterms:W3CDTF">2019-01-18T11:38:34Z</dcterms:modified>
  <cp:revision>126</cp:revision>
  <dc:subject/>
  <dc:title>Pädagogik</dc:title>
</cp:coreProperties>
</file>