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85E701-CA89-4F27-A67C-614726543E9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57507C-46FB-4313-9C54-3CF1A4F7C44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4A731F-D1AE-44D4-B216-F4321DF49F9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1E1E1C-EE72-4C13-9948-8F2158BB6BF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FDB5C9-ECEB-44E6-A99E-B073F34BA00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FCA1C6-D9FA-4DCF-A738-B6673AB2F4D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450ECB-ECD4-4EE4-95BA-1E66825DDB8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605-6965-4391-9BBE-DD3C1EEB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049-10A1-4BE0-8AEC-8011A4C0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4A7-0355-4412-A5A9-5838C30A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717-145A-4932-9532-21FF36EC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C33-148A-4F04-9565-D53AF03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641-2EE3-4844-BBB3-D7E9B910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B7C-9A1B-4DDF-9581-CAF6C542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A06-2134-4658-95A8-AB1273C2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50F-F160-4CB7-84A1-D0C0B603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678-CD5E-4A25-99D3-EDB2A233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D82-FD8B-45C3-842A-5164196D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D0B-C59A-4BEA-8D37-AF26A42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09d"/>
            </a:gs>
            <a:gs pos="100000">
              <a:srgbClr val="d8ead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3D74-2F8A-415E-A7DB-96545E1597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Verw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excel"/>
          <p:cNvPicPr/>
          <p:nvPr/>
        </p:nvPicPr>
        <p:blipFill>
          <a:blip r:embed="rId1"/>
          <a:stretch/>
        </p:blipFill>
        <p:spPr>
          <a:xfrm>
            <a:off x="179280" y="189000"/>
            <a:ext cx="2390760" cy="2476440"/>
          </a:xfrm>
          <a:prstGeom prst="rect">
            <a:avLst/>
          </a:prstGeom>
          <a:ln w="0">
            <a:noFill/>
          </a:ln>
        </p:spPr>
      </p:pic>
      <p:sp>
        <p:nvSpPr>
          <p:cNvPr id="50" name="Untertitel 1"/>
          <p:cNvSpPr/>
          <p:nvPr/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.Bal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59C9-D6B6-4E8D-ADA4-C54257A5AE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33360" y="192240"/>
            <a:ext cx="8477280" cy="4028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468360" y="4437000"/>
            <a:ext cx="8174160" cy="1873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 Aufgabe könnte mit ei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achtelten WENN-Funktion gelöst werden, das wäre jedoch umständl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ser: Funktio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VERW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963D-B602-4800-B11D-AED02F668C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Verw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33360" y="836640"/>
            <a:ext cx="8477280" cy="40291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44360" y="4984920"/>
            <a:ext cx="8820360" cy="892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VERWEIS(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Suchkriteriu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2800" spc="-1" strike="noStrike">
                <a:solidFill>
                  <a:srgbClr val="33cc33"/>
                </a:solidFill>
                <a:latin typeface="Arial"/>
              </a:rPr>
              <a:t>Suchberei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2800" spc="-1" strike="noStrike">
                <a:solidFill>
                  <a:srgbClr val="3399ff"/>
                </a:solidFill>
                <a:latin typeface="Arial"/>
              </a:rPr>
              <a:t>Spalteninde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728880" y="1822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835280" y="1844640"/>
            <a:ext cx="1296720" cy="252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6100920" y="2111400"/>
            <a:ext cx="2719080" cy="2757600"/>
          </a:xfrm>
          <a:prstGeom prst="rect">
            <a:avLst/>
          </a:prstGeom>
          <a:solidFill>
            <a:srgbClr val="33cc3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 flipV="1">
            <a:off x="7236000" y="835920"/>
            <a:ext cx="934920" cy="1297080"/>
          </a:xfrm>
          <a:prstGeom prst="upArrow">
            <a:avLst>
              <a:gd name="adj1" fmla="val 50000"/>
              <a:gd name="adj2" fmla="val 346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46160" y="5921280"/>
            <a:ext cx="8820000" cy="892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4: =SVERWEIS(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B4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2800" spc="-1" strike="noStrike">
                <a:solidFill>
                  <a:srgbClr val="33cc33"/>
                </a:solidFill>
                <a:latin typeface="Arial"/>
              </a:rPr>
              <a:t>$F$5:$G$15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2800" spc="-1" strike="noStrike">
                <a:solidFill>
                  <a:srgbClr val="66ccff"/>
                </a:solidFill>
                <a:latin typeface="Arial"/>
              </a:rPr>
              <a:t>2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059280" y="0"/>
            <a:ext cx="3671640" cy="1727280"/>
          </a:xfrm>
          <a:prstGeom prst="wedgeEllipseCallout">
            <a:avLst>
              <a:gd name="adj1" fmla="val 36986"/>
              <a:gd name="adj2" fmla="val 7996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chti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se Tabelle m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steige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kleinste Zahl zue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tiert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8BE3-A45D-4BB9-A351-69F0DBE7E7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Verweis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ei unsortieren Wer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44360" y="4984920"/>
            <a:ext cx="8820360" cy="892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VERWEIS(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Suchkriteriu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2800" spc="-1" strike="noStrike">
                <a:solidFill>
                  <a:srgbClr val="33cc33"/>
                </a:solidFill>
                <a:latin typeface="Arial"/>
              </a:rPr>
              <a:t>Suchberei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2800" spc="-1" strike="noStrike">
                <a:solidFill>
                  <a:srgbClr val="3399ff"/>
                </a:solidFill>
                <a:latin typeface="Arial"/>
              </a:rPr>
              <a:t>Spalteninde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S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46160" y="5921280"/>
            <a:ext cx="8820000" cy="892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7: =SVERWEIS(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I7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2800" spc="-1" strike="noStrike">
                <a:solidFill>
                  <a:srgbClr val="33cc33"/>
                </a:solidFill>
                <a:latin typeface="Arial"/>
              </a:rPr>
              <a:t>$B$5:$G$55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de-DE" sz="2800" spc="-1" strike="noStrike">
                <a:solidFill>
                  <a:srgbClr val="66ccff"/>
                </a:solidFill>
                <a:latin typeface="Arial"/>
              </a:rPr>
              <a:t>5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FAL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286880" y="292428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SVERWEIS(I7;$B$5:$G$55;5;FALS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40720" cy="33530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756400" y="3559320"/>
            <a:ext cx="1911240" cy="252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33240" y="3035160"/>
            <a:ext cx="4586400" cy="1689120"/>
          </a:xfrm>
          <a:prstGeom prst="rect">
            <a:avLst/>
          </a:prstGeom>
          <a:solidFill>
            <a:srgbClr val="33cc3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 flipV="1">
            <a:off x="3419640" y="1483560"/>
            <a:ext cx="934920" cy="1297080"/>
          </a:xfrm>
          <a:prstGeom prst="upArrow">
            <a:avLst>
              <a:gd name="adj1" fmla="val 50000"/>
              <a:gd name="adj2" fmla="val 346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050320" y="3500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xcel_3D"/>
          <p:cNvPicPr/>
          <p:nvPr/>
        </p:nvPicPr>
        <p:blipFill>
          <a:blip r:embed="rId1"/>
          <a:stretch/>
        </p:blipFill>
        <p:spPr>
          <a:xfrm>
            <a:off x="0" y="-531720"/>
            <a:ext cx="4390920" cy="4390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765440" y="11682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zü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392720" cy="426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excel"/>
          <p:cNvPicPr/>
          <p:nvPr/>
        </p:nvPicPr>
        <p:blipFill>
          <a:blip r:embed="rId3"/>
          <a:stretch/>
        </p:blipFill>
        <p:spPr>
          <a:xfrm>
            <a:off x="971640" y="447840"/>
            <a:ext cx="2390760" cy="2476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720680" y="624996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SUMME(Tabelle1:Tabelle3!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0EFB-5D5A-4D4B-B22A-20723C108E8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D Bezü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zeichen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'...'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inschließ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'Tabelle 2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B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inamen in eckige Klamm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Rechnung.xls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elle2!B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adangaben mögl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'c:\daten\[daten.xls]Tabelle1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C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44360" y="1052640"/>
            <a:ext cx="8820360" cy="892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&lt;Tabellennamen&gt;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&lt;Bezug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abelle1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5:17:37Z</dcterms:created>
  <dc:creator>Chitarup</dc:creator>
  <dc:description/>
  <dc:language>en-US</dc:language>
  <cp:lastModifiedBy>Stephan Baldes</cp:lastModifiedBy>
  <dcterms:modified xsi:type="dcterms:W3CDTF">2016-08-15T10:11:45Z</dcterms:modified>
  <cp:revision>100</cp:revision>
  <dc:subject/>
  <dc:title>Pädagogik</dc:title>
</cp:coreProperties>
</file>