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BCDF06-B9AE-40AB-882F-A4156DE62250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8AB0FA-761C-4CA5-9D5C-56EF0002CFA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458C3F-B501-4254-992D-D3348D387D98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1707DFB-7464-42D5-B8ED-FFE3080B18A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FAF1CE-589A-48A7-8E6D-4A39B58EB33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71BCE8-A6FC-4AA2-A83A-01F7F47DD5D0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2ABD-466B-4C78-B29F-61D3D0C6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F36A-6537-473A-8B3A-DDBD9351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8E3D-37DC-4B7E-95EB-4EBF593C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9751-329F-43C6-B41B-939020D3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A2C3-0E7D-42D2-AE75-1C12BF9C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8DCB-52AB-4D36-ACF9-3701C8EF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FC4F-618F-4D7F-B5EC-12311521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F316-88AF-4224-A6E8-C6D1B753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6D17-6FEB-43AF-AECB-5E5CBCB3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F85C-7ABD-41EB-A7F9-5EA06A4F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4DE7-4EDC-48AD-8004-15B53A09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C7E6-F6A9-450B-8931-5833B0BF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d09d"/>
            </a:gs>
            <a:gs pos="100000">
              <a:srgbClr val="d8ead4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9004-5C19-42B1-A2B2-B8EDD6F2689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Zählenwenn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ummewen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excel"/>
          <p:cNvPicPr/>
          <p:nvPr/>
        </p:nvPicPr>
        <p:blipFill>
          <a:blip r:embed="rId1"/>
          <a:stretch/>
        </p:blipFill>
        <p:spPr>
          <a:xfrm>
            <a:off x="179280" y="189000"/>
            <a:ext cx="2390760" cy="2476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052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.Bal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4DB3-EF0A-4A2E-84C3-41165AA0221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Funktionen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nzahl / Anzahl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786040" y="5316480"/>
            <a:ext cx="2843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=anzahl(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B20:B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-1800" y="4724280"/>
            <a:ext cx="84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zahl der Umsatzzahlen (Zellen mit Zahle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2060640" y="968400"/>
            <a:ext cx="5040360" cy="36766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471240" y="5797440"/>
            <a:ext cx="74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zahl der Produkte (nicht-leere Zelle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2641680" y="6334200"/>
            <a:ext cx="3132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=anzahl2(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B20:B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4572000" y="1268280"/>
            <a:ext cx="2521080" cy="30243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5943960" y="530064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5943960" y="635652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F4C5-8A72-47C5-A55A-54648980D67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Funktionen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Zählenwe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30320" y="4076640"/>
            <a:ext cx="4968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=zählenwenn(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A28:A31;"Äpfel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30320" y="3429000"/>
            <a:ext cx="419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äufigkeit von "Äpfel"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30680" y="4653000"/>
            <a:ext cx="35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äufigkeit von A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6408720" cy="19908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131040" y="5697360"/>
            <a:ext cx="43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äufigkeit Anzahl &gt; 8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130320" y="6202440"/>
            <a:ext cx="4968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=zählenwenn(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B28:B31;"&gt;80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130320" y="5229360"/>
            <a:ext cx="4968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=zählenwenn(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A28:A31;A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4"/>
          <p:cNvSpPr/>
          <p:nvPr/>
        </p:nvSpPr>
        <p:spPr>
          <a:xfrm>
            <a:off x="5292720" y="3573360"/>
            <a:ext cx="3851280" cy="3095640"/>
          </a:xfrm>
          <a:prstGeom prst="wedgeEllipseCallout">
            <a:avLst>
              <a:gd name="adj1" fmla="val -53958"/>
              <a:gd name="adj2" fmla="val -2984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r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Zählenwen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t wie di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nzahl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t Suchkrite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5296320" y="405144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5296320" y="5229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5296320" y="616572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4B86-C707-4E57-9922-978B0FED071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Funktionen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ummewe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30320" y="4076640"/>
            <a:ext cx="63864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=summewenn(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A28:A31;"Äpfel";B28:B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30680" y="3429000"/>
            <a:ext cx="36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zahl von "Äpfel"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30320" y="4653000"/>
            <a:ext cx="595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zahl von Produkt in Zelle A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6408720" cy="19908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131760" y="5697360"/>
            <a:ext cx="24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zahl &gt; 8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30320" y="6202440"/>
            <a:ext cx="63864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=summewenn(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B28:B31;"&gt;80";B28:B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130320" y="5229360"/>
            <a:ext cx="63864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=summewenn(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A28:A31;A28;B28:B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6952680" y="405144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6952680" y="522936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6952680" y="616572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7DFF-4302-4B0E-8772-D23EE033BDA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Zusammenfassung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nzahl / Zählenwenn / Summewe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79280"/>
            <a:ext cx="822960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zahl(Berei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zahl(B1:B20)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Anzahl Zellen mit Zah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zahl2(B1:B20)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Anzahl nicht-leere Zelle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ZÄHLENWENN(Bereich;Kriteriu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Anzahl Zellen, die das Kriterium erfü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ZÄHLENWENN(B1:B20;"gut")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ZÄHLENWENN(B1:B20;$C$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ZÄHLENWENN(B1:B20;"&gt;100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SUMMEWENN(Bereich;Kriterien;BereichSum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Summe aus BereichSumme, die in Bereich das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Kriterium erfü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SUMMEWENN(B1:B20;"Hardware";C1:C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SUMMEWENN(B1:B20;"&gt;160000";C1:C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5:17:37Z</dcterms:created>
  <dc:creator>Chitarup</dc:creator>
  <dc:description/>
  <dc:language>en-US</dc:language>
  <cp:lastModifiedBy>Stephan Baldes</cp:lastModifiedBy>
  <dcterms:modified xsi:type="dcterms:W3CDTF">2016-08-15T10:11:30Z</dcterms:modified>
  <cp:revision>107</cp:revision>
  <dc:subject/>
  <dc:title>Pädagogik</dc:title>
</cp:coreProperties>
</file>