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C3FFF5-21CF-4E7A-8AB0-9C410E48186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73869EF-D3D1-4FE6-871D-70A20C33256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8DFDDC-4A1D-4C97-9F8C-305DAEBE664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18DCB7-F1A4-4AF9-B234-AAEE0EBAB6B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D9AE3F1-4F6F-4070-AC98-B8085DB79E3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D3A9F7-FCC0-4548-9EBD-360CF9A7CDA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E15270-536B-4235-86BB-84321B75F84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A9CB49-BCB6-40D7-9DCF-6A5D4773124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171D77-F650-412E-8C6E-481935999C9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766DBA-4CE4-4D88-8653-00185EB5661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B2AA0F-38FC-489E-BF82-7111575B3A8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fld id="{8FD780EE-DCA2-49A8-8A33-32C9DC0528A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0DC76F-FD18-422D-8737-1B3FC02B72B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E69686-634F-4A86-95BB-8C845AF7AA0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B34AF2-0276-4656-90EF-46BFE1FDEF1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968A6A2-AD92-43F9-841F-3F762E083AD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74B-8B45-44D2-9CD1-8FE7C509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4F99-EE07-4F57-A3B1-3D731F34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D4B-FFEA-42E9-BA11-E5196173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387-D7C7-4373-B90B-2AC955B9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39C-9525-4E75-B5BB-937F7FD1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EDE4-8791-4700-B413-10E8131B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DF02-6E36-4547-8DB1-460CB66B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762-3432-4877-81FF-B8AB1176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509-2CC4-452B-A563-20B3A90E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2C39-5541-40BE-8248-CF3FDDD7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329-0097-4665-AD9C-CAE9D8B9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205-2B5D-4BB4-B0E0-3945F9BA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d09d"/>
            </a:gs>
            <a:gs pos="100000">
              <a:srgbClr val="d8ead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CC9F-7AB9-4541-8358-F65229FA18D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Tabellenkalk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052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.Bal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excel"/>
          <p:cNvPicPr/>
          <p:nvPr/>
        </p:nvPicPr>
        <p:blipFill>
          <a:blip r:embed="rId1"/>
          <a:stretch/>
        </p:blipFill>
        <p:spPr>
          <a:xfrm>
            <a:off x="179280" y="189000"/>
            <a:ext cx="23907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CFB6-34E6-4CB8-8466-D13D2C80458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enn-Funk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863640"/>
            <a:ext cx="8686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isp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Bonus beträgt 4% des Umsatzes, wenn der Umsatz unter 300.000 EUR bleibt, ansonsten werden 8% Bonus ausgezah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556000" y="3068640"/>
            <a:ext cx="3800520" cy="20271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5234040" y="4264200"/>
            <a:ext cx="1081080" cy="215640"/>
          </a:xfrm>
          <a:prstGeom prst="rect">
            <a:avLst/>
          </a:prstGeom>
          <a:solidFill>
            <a:srgbClr val="0099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5219640" y="4567320"/>
            <a:ext cx="1081080" cy="215640"/>
          </a:xfrm>
          <a:prstGeom prst="rect">
            <a:avLst/>
          </a:prstGeom>
          <a:solidFill>
            <a:srgbClr val="33cccc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5219640" y="4854600"/>
            <a:ext cx="1081080" cy="216000"/>
          </a:xfrm>
          <a:prstGeom prst="rect">
            <a:avLst/>
          </a:prstGeom>
          <a:solidFill>
            <a:srgbClr val="33cccc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BB85-5229-4C18-9EBD-1E3A9AF12A1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95200" y="826920"/>
            <a:ext cx="8661600" cy="649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enn-Funk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=WENN(</a:t>
            </a:r>
            <a:r>
              <a:rPr b="1" i="1" lang="de-DE" sz="3200" spc="-1" strike="noStrike">
                <a:solidFill>
                  <a:srgbClr val="ff0000"/>
                </a:solidFill>
                <a:latin typeface="Arial"/>
              </a:rPr>
              <a:t>Bedingung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de-DE" sz="3200" spc="-1" strike="noStrike">
                <a:solidFill>
                  <a:srgbClr val="009900"/>
                </a:solidFill>
                <a:latin typeface="Arial"/>
              </a:rPr>
              <a:t>Dann_Wert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de-DE" sz="3200" spc="-1" strike="noStrike">
                <a:solidFill>
                  <a:srgbClr val="0099ff"/>
                </a:solidFill>
                <a:latin typeface="Arial"/>
              </a:rPr>
              <a:t>Sonst_Wert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ispi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735280" y="4687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99ff"/>
                </a:solidFill>
                <a:latin typeface="Arial"/>
              </a:rPr>
              <a:t>Sonst_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789120" y="4651200"/>
            <a:ext cx="19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9900"/>
                </a:solidFill>
                <a:latin typeface="Arial"/>
              </a:rPr>
              <a:t>Dann_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941480" y="1916280"/>
            <a:ext cx="19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edin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139760" y="6143760"/>
            <a:ext cx="7013520" cy="58140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=WENN(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B4&lt;300000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de-DE" sz="3200" spc="-1" strike="noStrike">
                <a:solidFill>
                  <a:srgbClr val="009900"/>
                </a:solidFill>
                <a:latin typeface="Arial"/>
              </a:rPr>
              <a:t>B4*4%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de-DE" sz="3200" spc="-1" strike="noStrike">
                <a:solidFill>
                  <a:srgbClr val="0099ff"/>
                </a:solidFill>
                <a:latin typeface="Arial"/>
              </a:rPr>
              <a:t>B4*8%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5148360" y="2349360"/>
            <a:ext cx="3800520" cy="2027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7907400" y="3573360"/>
            <a:ext cx="1008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8008920" y="3429000"/>
            <a:ext cx="7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?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1979640" y="2311560"/>
            <a:ext cx="201600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4&lt;3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1187280" y="3822840"/>
            <a:ext cx="1224000" cy="72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4*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3132000" y="3822840"/>
            <a:ext cx="1224000" cy="7207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4*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15"/>
          <p:cNvCxnSpPr>
            <a:stCxn id="135" idx="2"/>
            <a:endCxn id="136" idx="0"/>
          </p:cNvCxnSpPr>
          <p:nvPr/>
        </p:nvCxnSpPr>
        <p:spPr>
          <a:xfrm flipH="1">
            <a:off x="1800360" y="3319560"/>
            <a:ext cx="118764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16"/>
          <p:cNvCxnSpPr>
            <a:stCxn id="135" idx="2"/>
            <a:endCxn id="137" idx="0"/>
          </p:cNvCxnSpPr>
          <p:nvPr/>
        </p:nvCxnSpPr>
        <p:spPr>
          <a:xfrm>
            <a:off x="2987640" y="3319560"/>
            <a:ext cx="75816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7"/>
          <p:cNvSpPr/>
          <p:nvPr/>
        </p:nvSpPr>
        <p:spPr>
          <a:xfrm>
            <a:off x="1771920" y="33926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3488760" y="33926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9"/>
          <p:cNvSpPr/>
          <p:nvPr/>
        </p:nvSpPr>
        <p:spPr>
          <a:xfrm>
            <a:off x="7910640" y="3860640"/>
            <a:ext cx="1008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7910640" y="4137120"/>
            <a:ext cx="1008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2B89-8218-4B6B-85B9-843644F1CF7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08000" y="5734080"/>
            <a:ext cx="8964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erschachtelte Wenn-Funk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86364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isp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08000" y="4149720"/>
            <a:ext cx="8964720" cy="15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ach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at der Kunde z.B. erst seit 10 Tagen nicht bezahlt, so erfolgt noch keine Ak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02040" y="5680080"/>
            <a:ext cx="61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onst: Keine Aktion notwend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08000" y="6311880"/>
            <a:ext cx="8964720" cy="43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marL="236520" indent="-236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r müssen hier 3 Fälle beach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79200" y="1603440"/>
            <a:ext cx="899964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CB2B-A5A1-45CF-81CE-7FF6CC93F60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4102200" y="2701800"/>
            <a:ext cx="3743280" cy="28814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erschachtelte Wenn-Funk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971640" y="5661000"/>
            <a:ext cx="7920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=WENN(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D42&gt;60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de-DE" sz="2400" spc="-1" strike="noStrike">
                <a:solidFill>
                  <a:srgbClr val="009900"/>
                </a:solidFill>
                <a:latin typeface="Arial"/>
              </a:rPr>
              <a:t>"Mahnung"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2400" spc="-1" strike="noStrike">
                <a:solidFill>
                  <a:srgbClr val="0099ff"/>
                </a:solidFill>
                <a:latin typeface="Arial"/>
              </a:rPr>
              <a:t>Wenn(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D42&gt;30</a:t>
            </a:r>
            <a:r>
              <a:rPr b="1" lang="de-DE" sz="2400" spc="-1" strike="noStrike">
                <a:solidFill>
                  <a:srgbClr val="0099ff"/>
                </a:solidFill>
                <a:latin typeface="Arial"/>
              </a:rPr>
              <a:t>;</a:t>
            </a:r>
            <a:r>
              <a:rPr b="1" lang="de-DE" sz="2400" spc="-1" strike="noStrike">
                <a:solidFill>
                  <a:srgbClr val="008000"/>
                </a:solidFill>
                <a:latin typeface="Arial"/>
              </a:rPr>
              <a:t>"Zahlungserinnerung"</a:t>
            </a:r>
            <a:r>
              <a:rPr b="1" lang="de-DE" sz="2400" spc="-1" strike="noStrike">
                <a:solidFill>
                  <a:srgbClr val="0099ff"/>
                </a:solidFill>
                <a:latin typeface="Arial"/>
              </a:rPr>
              <a:t>;""</a:t>
            </a:r>
            <a:r>
              <a:rPr b="1" lang="de-DE" sz="2400" spc="-1" strike="noStrike">
                <a:solidFill>
                  <a:srgbClr val="3399ff"/>
                </a:solidFill>
                <a:latin typeface="Arial"/>
              </a:rPr>
              <a:t>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740040" y="1370160"/>
            <a:ext cx="1513080" cy="830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42&gt;60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2228760" y="2847960"/>
            <a:ext cx="1511280" cy="83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"Mahn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AutoShape 7"/>
          <p:cNvCxnSpPr>
            <a:stCxn id="156" idx="2"/>
            <a:endCxn id="157" idx="0"/>
          </p:cNvCxnSpPr>
          <p:nvPr/>
        </p:nvCxnSpPr>
        <p:spPr>
          <a:xfrm flipH="1">
            <a:off x="2983680" y="2199960"/>
            <a:ext cx="15138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Text Box 8"/>
          <p:cNvSpPr/>
          <p:nvPr/>
        </p:nvSpPr>
        <p:spPr>
          <a:xfrm>
            <a:off x="3245040" y="22701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5471280" y="23432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5253120" y="2846520"/>
            <a:ext cx="1512720" cy="830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42&gt;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4245120" y="4214880"/>
            <a:ext cx="1511280" cy="83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"Zah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inner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6045120" y="4214880"/>
            <a:ext cx="1511280" cy="8319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" 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AutoShape 13"/>
          <p:cNvCxnSpPr>
            <a:stCxn id="156" idx="2"/>
            <a:endCxn id="161" idx="0"/>
          </p:cNvCxnSpPr>
          <p:nvPr/>
        </p:nvCxnSpPr>
        <p:spPr>
          <a:xfrm>
            <a:off x="4497480" y="2199960"/>
            <a:ext cx="151344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AutoShape 14"/>
          <p:cNvCxnSpPr>
            <a:stCxn id="161" idx="2"/>
            <a:endCxn id="162" idx="0"/>
          </p:cNvCxnSpPr>
          <p:nvPr/>
        </p:nvCxnSpPr>
        <p:spPr>
          <a:xfrm flipH="1">
            <a:off x="5000400" y="3676320"/>
            <a:ext cx="101016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AutoShape 15"/>
          <p:cNvCxnSpPr>
            <a:stCxn id="161" idx="2"/>
            <a:endCxn id="163" idx="0"/>
          </p:cNvCxnSpPr>
          <p:nvPr/>
        </p:nvCxnSpPr>
        <p:spPr>
          <a:xfrm>
            <a:off x="6010200" y="3676320"/>
            <a:ext cx="79128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Text Box 16"/>
          <p:cNvSpPr/>
          <p:nvPr/>
        </p:nvSpPr>
        <p:spPr>
          <a:xfrm>
            <a:off x="4896000" y="37101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6617520" y="37828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4047480" y="5294160"/>
            <a:ext cx="38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nst-Teil der ersten Wenn-Abf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1440" y="56577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4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0" descr=""/>
          <p:cNvPicPr/>
          <p:nvPr/>
        </p:nvPicPr>
        <p:blipFill>
          <a:blip r:embed="rId1"/>
          <a:stretch/>
        </p:blipFill>
        <p:spPr>
          <a:xfrm>
            <a:off x="971640" y="115920"/>
            <a:ext cx="73008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1069-D1BC-4AB5-A1E9-17697381919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4102200" y="2701800"/>
            <a:ext cx="3743280" cy="28814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unktioniert das auc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740040" y="1370160"/>
            <a:ext cx="1513080" cy="830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42&gt;30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228760" y="2847960"/>
            <a:ext cx="1511280" cy="83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"Zah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inner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AutoShape 6"/>
          <p:cNvCxnSpPr>
            <a:stCxn id="175" idx="2"/>
            <a:endCxn id="176" idx="0"/>
          </p:cNvCxnSpPr>
          <p:nvPr/>
        </p:nvCxnSpPr>
        <p:spPr>
          <a:xfrm flipH="1">
            <a:off x="2983680" y="2199960"/>
            <a:ext cx="15138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Text Box 7"/>
          <p:cNvSpPr/>
          <p:nvPr/>
        </p:nvSpPr>
        <p:spPr>
          <a:xfrm>
            <a:off x="3245040" y="22701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5471280" y="23432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253120" y="2846520"/>
            <a:ext cx="1512720" cy="830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42&gt;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245120" y="4214880"/>
            <a:ext cx="1511280" cy="83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"Mahn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6045120" y="4214880"/>
            <a:ext cx="1511280" cy="8319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" 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12"/>
          <p:cNvCxnSpPr>
            <a:stCxn id="175" idx="2"/>
            <a:endCxn id="180" idx="0"/>
          </p:cNvCxnSpPr>
          <p:nvPr/>
        </p:nvCxnSpPr>
        <p:spPr>
          <a:xfrm>
            <a:off x="4497480" y="2199960"/>
            <a:ext cx="151344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AutoShape 13"/>
          <p:cNvCxnSpPr>
            <a:stCxn id="180" idx="2"/>
            <a:endCxn id="181" idx="0"/>
          </p:cNvCxnSpPr>
          <p:nvPr/>
        </p:nvCxnSpPr>
        <p:spPr>
          <a:xfrm flipH="1">
            <a:off x="5000400" y="3676320"/>
            <a:ext cx="101016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AutoShape 14"/>
          <p:cNvCxnSpPr>
            <a:stCxn id="180" idx="2"/>
            <a:endCxn id="182" idx="0"/>
          </p:cNvCxnSpPr>
          <p:nvPr/>
        </p:nvCxnSpPr>
        <p:spPr>
          <a:xfrm>
            <a:off x="6010200" y="3676320"/>
            <a:ext cx="79128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Text Box 15"/>
          <p:cNvSpPr/>
          <p:nvPr/>
        </p:nvSpPr>
        <p:spPr>
          <a:xfrm>
            <a:off x="4896000" y="37101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6617520" y="37828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4047480" y="5294160"/>
            <a:ext cx="38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nst-Teil der ersten Wenn-Abf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8"/>
          <p:cNvSpPr/>
          <p:nvPr/>
        </p:nvSpPr>
        <p:spPr>
          <a:xfrm flipH="1">
            <a:off x="4716360" y="1628640"/>
            <a:ext cx="4283280" cy="50403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 rot="17827200">
            <a:off x="6082200" y="3148560"/>
            <a:ext cx="21006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e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e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660D-02D3-43F9-8666-642D5E57821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unktionen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e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79280"/>
            <a:ext cx="868680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</a:t>
            </a:r>
            <a:r>
              <a:rPr b="1" i="1" lang="de-DE" sz="2400" spc="-1" strike="noStrike">
                <a:solidFill>
                  <a:srgbClr val="009900"/>
                </a:solidFill>
                <a:latin typeface="Arial"/>
              </a:rPr>
              <a:t>Dann_W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1" i="1" lang="de-DE" sz="2400" spc="-1" strike="noStrike">
                <a:solidFill>
                  <a:srgbClr val="0099ff"/>
                </a:solidFill>
                <a:latin typeface="Arial"/>
              </a:rPr>
              <a:t>Sonst_W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s in Anführungszeichen gesetz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123"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//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Zahl als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3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//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Zahl, es kann damit gerechne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ding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B$1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1 = “t”, B1 &lt;&gt; “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(B1)&gt;0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//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Länge des Zelleninhal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mplexe Bedingungen: Und / Oder / N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d(B1="x";B2="x";B3="x")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//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All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Bedingungen müssen erfüllt s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der(B1="x";B2="x";B3="x")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// Mindestens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eine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Bedingung muss erfüllt s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icht(B1="x")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// Der Ausdruck ist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WAHR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 wenn die Bedingung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LSCH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ist 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// (Wenn in B1 kein x ste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abellenkalkulation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aru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542960" y="1131840"/>
            <a:ext cx="5621400" cy="553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rundlagen Begrif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965480" cy="4495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4232160" y="3500280"/>
            <a:ext cx="96876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ab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52360" y="29242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e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52720" y="1628640"/>
            <a:ext cx="13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n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ü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53440" y="17733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ymbol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V="1">
            <a:off x="971640" y="2420640"/>
            <a:ext cx="165564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 flipH="1">
            <a:off x="4427640" y="1967040"/>
            <a:ext cx="2952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867040" y="2133720"/>
            <a:ext cx="503280" cy="367164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2195640" y="2349360"/>
            <a:ext cx="4824360" cy="14292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1685880" y="1822320"/>
            <a:ext cx="2736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 flipH="1">
            <a:off x="3205080" y="5516640"/>
            <a:ext cx="417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 flipH="1" flipV="1">
            <a:off x="3663720" y="2747880"/>
            <a:ext cx="3787560" cy="140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1692360" y="2104920"/>
            <a:ext cx="2736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109440" y="212580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arbeitungs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293040" y="33577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eilenko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7381440" y="248616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altenko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9"/>
          <p:cNvSpPr/>
          <p:nvPr/>
        </p:nvSpPr>
        <p:spPr>
          <a:xfrm>
            <a:off x="1691640" y="3535200"/>
            <a:ext cx="587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7453800" y="400536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ktive Z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1"/>
          <p:cNvSpPr/>
          <p:nvPr/>
        </p:nvSpPr>
        <p:spPr>
          <a:xfrm flipH="1" flipV="1">
            <a:off x="6516360" y="2204640"/>
            <a:ext cx="86364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7453440" y="5373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a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B439-95C1-40CD-9546-6D27285F49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rundlagen Edit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79200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sorta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pelklick auf Zelle oder F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löscht Zelleninh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C: Bricht Eingabe Zelle 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g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: nächste Ze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 / Shift-Tab : nächste / vorherige Spa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 – Enter: Zeilenumbruch innerhalb Z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ltenbreite, Zeilenhöhe anp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uszeiger auf Begrenzung Spalten-/Zeilenkopf zi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pelklick auf Begrenzung Spaltenkopf passt Breite automatisch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30E0-C332-4134-BE61-C91764EB5BA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Zellen formatieren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Übersic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leiste: Schrift, Ausrichtung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lle formatieren: Strg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pin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llen verbind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trenn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uterdefiniert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,00 "EUR"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31,13 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4211640" y="356076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5452920" y="1700280"/>
            <a:ext cx="35020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2909-95BB-4E11-AB2C-9E7DD89A00D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erechnen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ormeln und Funktion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856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l beginnt mit ‘=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schied 4+6 und =4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,-,*,/,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chnungen mit Funktion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summe(a1;a2;a3;a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gabe per Tastatur oder M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zelwerte: a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g-reMa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eiche: a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1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msch-reMa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fache Funktio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e(...), Mittelwert(...), Min(...), Max(...)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nn(), ZählenWenn(…), SummeWenn(…), Sverweis(…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7E97-304D-4A2A-B877-137D5C246C9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5"/>
          <p:cNvGraphicFramePr/>
          <p:nvPr/>
        </p:nvGraphicFramePr>
        <p:xfrm>
          <a:off x="2411280" y="2276640"/>
          <a:ext cx="4392720" cy="240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276640"/>
                    <a:ext cx="439272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1744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Übersicht Funktionen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m Beispi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3"/>
          <a:stretch/>
        </p:blipFill>
        <p:spPr>
          <a:xfrm>
            <a:off x="0" y="1557360"/>
            <a:ext cx="9144000" cy="4152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"/>
          <p:cNvPicPr/>
          <p:nvPr/>
        </p:nvPicPr>
        <p:blipFill>
          <a:blip r:embed="rId4"/>
          <a:stretch/>
        </p:blipFill>
        <p:spPr>
          <a:xfrm>
            <a:off x="5780160" y="3878280"/>
            <a:ext cx="104148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13C5-5297-498F-9322-18369954EB7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Kopieren von Formel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268360" y="4941720"/>
            <a:ext cx="4658040" cy="1562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7812000" y="5113440"/>
            <a:ext cx="1133640" cy="1390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3"/>
          <a:stretch/>
        </p:blipFill>
        <p:spPr>
          <a:xfrm>
            <a:off x="2238480" y="907920"/>
            <a:ext cx="4667040" cy="1562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4"/>
          <a:stretch/>
        </p:blipFill>
        <p:spPr>
          <a:xfrm>
            <a:off x="2195640" y="2905200"/>
            <a:ext cx="4752720" cy="160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5"/>
          <a:stretch/>
        </p:blipFill>
        <p:spPr>
          <a:xfrm>
            <a:off x="7769160" y="2847960"/>
            <a:ext cx="1174680" cy="1736640"/>
          </a:xfrm>
          <a:prstGeom prst="rect">
            <a:avLst/>
          </a:prstGeom>
          <a:ln w="0">
            <a:noFill/>
          </a:ln>
        </p:spPr>
      </p:pic>
      <p:sp>
        <p:nvSpPr>
          <p:cNvPr id="99" name="Rechteck 2"/>
          <p:cNvSpPr/>
          <p:nvPr/>
        </p:nvSpPr>
        <p:spPr>
          <a:xfrm>
            <a:off x="8532720" y="3716280"/>
            <a:ext cx="287280" cy="297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feil nach unten 4"/>
          <p:cNvSpPr/>
          <p:nvPr/>
        </p:nvSpPr>
        <p:spPr>
          <a:xfrm>
            <a:off x="4284720" y="2519280"/>
            <a:ext cx="431640" cy="365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feil nach unten 14"/>
          <p:cNvSpPr/>
          <p:nvPr/>
        </p:nvSpPr>
        <p:spPr>
          <a:xfrm>
            <a:off x="4275000" y="4549680"/>
            <a:ext cx="432000" cy="365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Gerade Verbindung mit Pfeil 6"/>
          <p:cNvCxnSpPr/>
          <p:nvPr/>
        </p:nvCxnSpPr>
        <p:spPr>
          <a:xfrm>
            <a:off x="6659280" y="3500280"/>
            <a:ext cx="1080" cy="866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9F3A-2062-4368-AE5A-496E965E321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lative und Absolute Bezü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187280" y="735120"/>
            <a:ext cx="3876840" cy="2981160"/>
          </a:xfrm>
          <a:prstGeom prst="rect">
            <a:avLst/>
          </a:prstGeom>
          <a:ln w="0">
            <a:noFill/>
          </a:ln>
        </p:spPr>
      </p:pic>
      <p:sp>
        <p:nvSpPr>
          <p:cNvPr id="106" name="Textfeld 4"/>
          <p:cNvSpPr/>
          <p:nvPr/>
        </p:nvSpPr>
        <p:spPr>
          <a:xfrm>
            <a:off x="6388920" y="162864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= B5 * $C$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hteck 5"/>
          <p:cNvSpPr/>
          <p:nvPr/>
        </p:nvSpPr>
        <p:spPr>
          <a:xfrm>
            <a:off x="5364000" y="2490840"/>
            <a:ext cx="1800360" cy="115236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ive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zug, verändert sich beim Kop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hteck 14"/>
          <p:cNvSpPr/>
          <p:nvPr/>
        </p:nvSpPr>
        <p:spPr>
          <a:xfrm>
            <a:off x="7308720" y="2482920"/>
            <a:ext cx="1800360" cy="115236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solut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zug, bleibt unveränder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m Kopier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Gerade Verbindung mit Pfeil 7"/>
          <p:cNvCxnSpPr/>
          <p:nvPr/>
        </p:nvCxnSpPr>
        <p:spPr>
          <a:xfrm>
            <a:off x="5435640" y="5732640"/>
            <a:ext cx="915120" cy="9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10" name="Rechteck 8"/>
          <p:cNvSpPr/>
          <p:nvPr/>
        </p:nvSpPr>
        <p:spPr>
          <a:xfrm>
            <a:off x="6694560" y="1628640"/>
            <a:ext cx="431640" cy="462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hteck 18"/>
          <p:cNvSpPr/>
          <p:nvPr/>
        </p:nvSpPr>
        <p:spPr>
          <a:xfrm>
            <a:off x="7380360" y="1658880"/>
            <a:ext cx="828720" cy="461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Gerade Verbindung mit Pfeil 10"/>
          <p:cNvCxnSpPr>
            <a:stCxn id="107" idx="0"/>
            <a:endCxn id="110" idx="2"/>
          </p:cNvCxnSpPr>
          <p:nvPr/>
        </p:nvCxnSpPr>
        <p:spPr>
          <a:xfrm flipV="1">
            <a:off x="6264000" y="2090160"/>
            <a:ext cx="646920" cy="400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Gerade Verbindung mit Pfeil 21"/>
          <p:cNvCxnSpPr/>
          <p:nvPr/>
        </p:nvCxnSpPr>
        <p:spPr>
          <a:xfrm flipV="1">
            <a:off x="7884720" y="2118960"/>
            <a:ext cx="1080" cy="364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1187280" y="3832200"/>
            <a:ext cx="3867480" cy="2981520"/>
          </a:xfrm>
          <a:prstGeom prst="rect">
            <a:avLst/>
          </a:prstGeom>
          <a:ln w="0">
            <a:noFill/>
          </a:ln>
        </p:spPr>
      </p:pic>
      <p:sp>
        <p:nvSpPr>
          <p:cNvPr id="115" name="Rechteck 12"/>
          <p:cNvSpPr/>
          <p:nvPr/>
        </p:nvSpPr>
        <p:spPr>
          <a:xfrm>
            <a:off x="5435640" y="4508640"/>
            <a:ext cx="3529080" cy="168120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ip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st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chselt zwisc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lativem und absolutem Bez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feld 16"/>
          <p:cNvSpPr/>
          <p:nvPr/>
        </p:nvSpPr>
        <p:spPr>
          <a:xfrm>
            <a:off x="3351240" y="169236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5:17:37Z</dcterms:created>
  <dc:creator>Chitarup</dc:creator>
  <dc:description/>
  <dc:language>en-US</dc:language>
  <cp:lastModifiedBy>Walther Rathenau</cp:lastModifiedBy>
  <dcterms:modified xsi:type="dcterms:W3CDTF">2019-01-18T08:31:40Z</dcterms:modified>
  <cp:revision>95</cp:revision>
  <dc:subject/>
  <dc:title>Pädagogik</dc:title>
</cp:coreProperties>
</file>