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-360"/>
            <a:ext cx="2951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9400"/>
            <a:ext cx="2951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329400"/>
            <a:ext cx="2951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ED3E-2BBF-44FC-BD0D-A234235AB9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BAB3-853D-45B5-BF06-B55BB3AE6CD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964A-DEAA-4219-8FFA-C5AC789DB41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28FF-F8D3-484F-A1EB-744B8E07C0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6094-8D24-42DA-B5D2-F2DAF50124E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8CB9-D0C4-4606-A23F-3F210C8087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BB00-DC0C-4316-9C75-F061C43A7D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D8F8-0ABD-49EC-9356-A684791AE6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BF5-80C9-4A05-AA34-81C0551E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F16-915E-45F5-A675-D159CD48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37B-D8E9-4F6E-A161-D33B265E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30C-6C24-4412-9F8A-77E297C3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6FA-52DB-44CB-BF2B-300BD4E1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DA5-4A88-4CDA-9A58-BA68ACD4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0F3-3D6B-4ABA-B7AF-F4870D56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CE0-782D-4BE3-BB69-F23B667A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8E9-0090-46A9-B6B2-78FF2FD5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5BA-EA1D-47B1-BC6A-BCE9D431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F63-BE6C-4EAC-9346-8FD1BEDE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1B9-1C28-4646-85BD-5E39887F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89FC-357E-44D2-A495-C2EA82CD07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724360" y="3456000"/>
          <a:ext cx="23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3456000"/>
                    <a:ext cx="23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755640" y="3716280"/>
          <a:ext cx="2741760" cy="309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716280"/>
                    <a:ext cx="2741760" cy="30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AutoShape 4"/>
          <p:cNvSpPr/>
          <p:nvPr/>
        </p:nvSpPr>
        <p:spPr>
          <a:xfrm>
            <a:off x="0" y="260280"/>
            <a:ext cx="4427640" cy="2808360"/>
          </a:xfrm>
          <a:prstGeom prst="cloudCallout">
            <a:avLst>
              <a:gd name="adj1" fmla="val -4282"/>
              <a:gd name="adj2" fmla="val 7199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 Got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Englisch- und Physikbücher am Montag mitschleppe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716360" y="189000"/>
            <a:ext cx="4427640" cy="2592360"/>
          </a:xfrm>
          <a:prstGeom prst="cloudCallout">
            <a:avLst>
              <a:gd name="adj1" fmla="val -5574"/>
              <a:gd name="adj2" fmla="val 764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den anderen Tagen der Woche brauche ich zum Glück weniger Bü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3"/>
          <p:cNvGraphicFramePr/>
          <p:nvPr/>
        </p:nvGraphicFramePr>
        <p:xfrm>
          <a:off x="5076720" y="3357720"/>
          <a:ext cx="274176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3357720"/>
                    <a:ext cx="274176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6"/>
          <p:cNvGraphicFramePr/>
          <p:nvPr/>
        </p:nvGraphicFramePr>
        <p:xfrm>
          <a:off x="539640" y="4221000"/>
          <a:ext cx="216216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21000"/>
                    <a:ext cx="21621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AutoShape 10"/>
          <p:cNvSpPr/>
          <p:nvPr/>
        </p:nvSpPr>
        <p:spPr>
          <a:xfrm>
            <a:off x="1474920" y="1773360"/>
            <a:ext cx="3816360" cy="2160360"/>
          </a:xfrm>
          <a:prstGeom prst="wedgeRoundRectCallout">
            <a:avLst>
              <a:gd name="adj1" fmla="val -45384"/>
              <a:gd name="adj2" fmla="val 65356"/>
              <a:gd name="adj3" fmla="val 1666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t! Es ist Dienstag! Die Englisch- und Physikbücher brauchst Du heute n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8" descr="wt1"/>
          <p:cNvPicPr/>
          <p:nvPr/>
        </p:nvPicPr>
        <p:blipFill>
          <a:blip r:embed="rId1"/>
          <a:stretch/>
        </p:blipFill>
        <p:spPr>
          <a:xfrm>
            <a:off x="250920" y="620640"/>
            <a:ext cx="4321080" cy="284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2"/>
          <a:stretch/>
        </p:blipFill>
        <p:spPr>
          <a:xfrm>
            <a:off x="200160" y="3789360"/>
            <a:ext cx="6027480" cy="2679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4"/>
          <p:cNvSpPr/>
          <p:nvPr/>
        </p:nvSpPr>
        <p:spPr>
          <a:xfrm>
            <a:off x="684360" y="1159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felbil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5" descr=""/>
          <p:cNvPicPr/>
          <p:nvPr/>
        </p:nvPicPr>
        <p:blipFill>
          <a:blip r:embed="rId3"/>
          <a:stretch/>
        </p:blipFill>
        <p:spPr>
          <a:xfrm>
            <a:off x="2916360" y="2349360"/>
            <a:ext cx="7668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5076720" y="3357720"/>
          <a:ext cx="274176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3357720"/>
                    <a:ext cx="274176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539640" y="4221000"/>
          <a:ext cx="216216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21000"/>
                    <a:ext cx="21621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AutoShape 4"/>
          <p:cNvSpPr/>
          <p:nvPr/>
        </p:nvSpPr>
        <p:spPr>
          <a:xfrm>
            <a:off x="2843280" y="2276640"/>
            <a:ext cx="2808360" cy="1657080"/>
          </a:xfrm>
          <a:prstGeom prst="wedgeRoundRectCallout">
            <a:avLst>
              <a:gd name="adj1" fmla="val -85273"/>
              <a:gd name="adj2" fmla="val 76532"/>
              <a:gd name="adj3" fmla="val 1666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Englisch- und Physikbücher brauchst Du heute n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476360" y="260280"/>
            <a:ext cx="2808360" cy="1657440"/>
          </a:xfrm>
          <a:prstGeom prst="wedgeRoundRectCallout">
            <a:avLst>
              <a:gd name="adj1" fmla="val -44064"/>
              <a:gd name="adj2" fmla="val 189657"/>
              <a:gd name="adj3" fmla="val 1666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te ist Monta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Englisch- und Physikbücher nicht vergess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wt2"/>
          <p:cNvPicPr/>
          <p:nvPr/>
        </p:nvPicPr>
        <p:blipFill>
          <a:blip r:embed="rId1"/>
          <a:stretch/>
        </p:blipFill>
        <p:spPr>
          <a:xfrm>
            <a:off x="179280" y="817560"/>
            <a:ext cx="481644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250920" y="3425760"/>
            <a:ext cx="7896240" cy="3171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684360" y="1159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felbil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1908000" y="4221000"/>
          <a:ext cx="2162520" cy="21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221000"/>
                    <a:ext cx="21625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AutoShape 3"/>
          <p:cNvSpPr/>
          <p:nvPr/>
        </p:nvSpPr>
        <p:spPr>
          <a:xfrm>
            <a:off x="3780000" y="2276640"/>
            <a:ext cx="3456000" cy="2232000"/>
          </a:xfrm>
          <a:prstGeom prst="wedgeRoundRectCallout">
            <a:avLst>
              <a:gd name="adj1" fmla="val -64560"/>
              <a:gd name="adj2" fmla="val 48861"/>
              <a:gd name="adj3" fmla="val 1666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t! Es ist Dienstag! Die Englisch- und Physikbücher brauchst Du heute n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2627280" y="404640"/>
            <a:ext cx="2808360" cy="1657440"/>
          </a:xfrm>
          <a:prstGeom prst="wedgeRoundRectCallout">
            <a:avLst>
              <a:gd name="adj1" fmla="val -28347"/>
              <a:gd name="adj2" fmla="val 195976"/>
              <a:gd name="adj3" fmla="val 1666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te ist Monta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Englisch- und Physikbücher nicht vergess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5003640" y="4941720"/>
            <a:ext cx="2808360" cy="1657440"/>
          </a:xfrm>
          <a:prstGeom prst="wedgeRoundRectCallout">
            <a:avLst>
              <a:gd name="adj1" fmla="val -110768"/>
              <a:gd name="adj2" fmla="val -73180"/>
              <a:gd name="adj3" fmla="val 1666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önen Tag no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wt3"/>
          <p:cNvPicPr/>
          <p:nvPr/>
        </p:nvPicPr>
        <p:blipFill>
          <a:blip r:embed="rId1"/>
          <a:stretch/>
        </p:blipFill>
        <p:spPr>
          <a:xfrm>
            <a:off x="179280" y="115920"/>
            <a:ext cx="7427880" cy="3543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108000" y="3776760"/>
            <a:ext cx="584676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41:35Z</dcterms:created>
  <dc:creator>Chitarup</dc:creator>
  <dc:description/>
  <dc:language>en-US</dc:language>
  <cp:lastModifiedBy>Walther Rathenau</cp:lastModifiedBy>
  <dcterms:modified xsi:type="dcterms:W3CDTF">2014-11-18T10:38:22Z</dcterms:modified>
  <cp:revision>17</cp:revision>
  <dc:subject/>
  <dc:title>Slide 1</dc:title>
</cp:coreProperties>
</file>