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3.wmf" ContentType="image/x-wmf"/>
  <Override PartName="/ppt/media/image5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778800" cy="991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688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43360" y="0"/>
            <a:ext cx="293688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5288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53a3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05040" y="4708080"/>
            <a:ext cx="497016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0" y="9415440"/>
            <a:ext cx="293688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43360" y="9415440"/>
            <a:ext cx="293688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44B5159-2F53-400A-A2BF-030747ED1905}" type="slidenum"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05040" y="4708080"/>
            <a:ext cx="497016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ufgabe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+ Würfel simulie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+ 3 Würfeln, so lange bis gleiche Augenzahl herauskomm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+ 2 Würfel, so lange bis 2 Würfel gleich s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Foliennummernplatzhalter 3"/>
          <p:cNvSpPr/>
          <p:nvPr/>
        </p:nvSpPr>
        <p:spPr>
          <a:xfrm>
            <a:off x="3843360" y="9415440"/>
            <a:ext cx="29368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91C9EE4-D017-47B1-8648-7915D9569EA1}" type="slidenum"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05040" y="4708080"/>
            <a:ext cx="497016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ufgabe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+ Würfel simulie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+ 3 Würfeln, so lange bis gleiche Augenzahl herauskomm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+ 2 Würfel, so lange bis 2 Würfel gleich s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Foliennummernplatzhalter 3"/>
          <p:cNvSpPr/>
          <p:nvPr/>
        </p:nvSpPr>
        <p:spPr>
          <a:xfrm>
            <a:off x="3843360" y="9415440"/>
            <a:ext cx="29368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EB7B867-29B0-4951-BA3A-3ADEB04281F4}" type="slidenum"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05040" y="4708080"/>
            <a:ext cx="497016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ufgabe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+ Würfel simulie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+ 3 Würfeln, so lange bis gleiche Augenzahl herauskomm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+ 2 Würfel, so lange bis 2 Würfel gleich s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Foliennummernplatzhalter 3"/>
          <p:cNvSpPr/>
          <p:nvPr/>
        </p:nvSpPr>
        <p:spPr>
          <a:xfrm>
            <a:off x="3843360" y="9415440"/>
            <a:ext cx="29368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2A164F9-B6FF-45C8-A857-0E47275503A4}" type="slidenum"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05040" y="4708080"/>
            <a:ext cx="497016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ufgabe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+ Würfel simulie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+ 3 Würfeln, so lange bis gleiche Augenzahl herauskomm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+ 2 Würfel, so lange bis 2 Würfel gleich s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Foliennummernplatzhalter 3"/>
          <p:cNvSpPr/>
          <p:nvPr/>
        </p:nvSpPr>
        <p:spPr>
          <a:xfrm>
            <a:off x="3843360" y="9415440"/>
            <a:ext cx="29368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2C40680-55A3-4CF2-9A78-153352E84892}" type="slidenum"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05040" y="4708080"/>
            <a:ext cx="49701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Foliennummernplatzhalter 3"/>
          <p:cNvSpPr/>
          <p:nvPr/>
        </p:nvSpPr>
        <p:spPr>
          <a:xfrm>
            <a:off x="3843360" y="9415440"/>
            <a:ext cx="29368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F92B341-887E-4B2C-8596-C96D08E6D762}" type="slidenum"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05040" y="4708080"/>
            <a:ext cx="49701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Foliennummernplatzhalter 3"/>
          <p:cNvSpPr/>
          <p:nvPr/>
        </p:nvSpPr>
        <p:spPr>
          <a:xfrm>
            <a:off x="3843360" y="9415440"/>
            <a:ext cx="29368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99D3DDB-1C2C-4237-919B-0AB7CEF02B1C}" type="slidenum"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05040" y="4708080"/>
            <a:ext cx="497016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ufgabe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+ Würfel simulie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+ 3 Würfeln, so lange bis gleiche Augenzahl herauskomm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+ 2 Würfel, so lange bis 2 Würfel gleich s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Foliennummernplatzhalter 3"/>
          <p:cNvSpPr/>
          <p:nvPr/>
        </p:nvSpPr>
        <p:spPr>
          <a:xfrm>
            <a:off x="3843360" y="9415440"/>
            <a:ext cx="29368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B61BA52-426E-47CF-BF08-734058D40E54}" type="slidenum"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05040" y="4708080"/>
            <a:ext cx="49701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Foliennummernplatzhalter 3"/>
          <p:cNvSpPr/>
          <p:nvPr/>
        </p:nvSpPr>
        <p:spPr>
          <a:xfrm>
            <a:off x="3843360" y="9415440"/>
            <a:ext cx="29368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77678ED-433F-4672-A7D8-28E4F7D3BBEC}" type="slidenum"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05040" y="4708080"/>
            <a:ext cx="49701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Foliennummernplatzhalter 3"/>
          <p:cNvSpPr/>
          <p:nvPr/>
        </p:nvSpPr>
        <p:spPr>
          <a:xfrm>
            <a:off x="3843360" y="9415440"/>
            <a:ext cx="29368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C54C597-0634-4859-B340-28CBACE61DCF}" type="slidenum"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05040" y="4708080"/>
            <a:ext cx="49701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Foliennummernplatzhalter 3"/>
          <p:cNvSpPr/>
          <p:nvPr/>
        </p:nvSpPr>
        <p:spPr>
          <a:xfrm>
            <a:off x="3843360" y="9415440"/>
            <a:ext cx="29368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D1136F2-637A-4794-A899-F6D7FC25AC3F}" type="slidenum"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321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320720"/>
            <a:ext cx="8321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00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3207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50000" y="43207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99560" y="16765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13320" y="16765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3207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99560" y="43207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313320" y="43207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8321760" cy="50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32176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06080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50000" y="1676520"/>
            <a:ext cx="406080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21932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50000" y="1676520"/>
            <a:ext cx="406080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3207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8321760" cy="50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06080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500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50000" y="43207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500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320720"/>
            <a:ext cx="8321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321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320720"/>
            <a:ext cx="8321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00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3207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950000" y="43207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99560" y="16765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313320" y="16765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3207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99560" y="43207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313320" y="43207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32176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06080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50000" y="1676520"/>
            <a:ext cx="406080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21932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50000" y="1676520"/>
            <a:ext cx="406080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3207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06080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500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0000" y="43207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500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320720"/>
            <a:ext cx="8321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22"/>
          <p:cNvGraphicFramePr/>
          <p:nvPr/>
        </p:nvGraphicFramePr>
        <p:xfrm>
          <a:off x="88920" y="152280"/>
          <a:ext cx="8975880" cy="6599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2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920" y="152280"/>
                    <a:ext cx="8975880" cy="659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53a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832176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9440" indent="-379440"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8124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657440" indent="-32400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133720" indent="-28584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571840" indent="-24768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571840" indent="-24768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571840" indent="-24768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" name="Object 10"/>
          <p:cNvGraphicFramePr/>
          <p:nvPr/>
        </p:nvGraphicFramePr>
        <p:xfrm>
          <a:off x="101520" y="139680"/>
          <a:ext cx="8921880" cy="655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1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1520" y="139680"/>
                    <a:ext cx="8921880" cy="655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53a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832176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9440" indent="-379440"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8124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657440" indent="-32400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133720" indent="-28584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571840" indent="-24768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571840" indent="-24768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571840" indent="-24768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26560" y="2637000"/>
            <a:ext cx="8001000" cy="158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5400" spc="-1" strike="noStrike">
                <a:solidFill>
                  <a:srgbClr val="003399"/>
                </a:solidFill>
                <a:latin typeface="Arial"/>
                <a:ea typeface="Times New Roman"/>
              </a:rPr>
              <a:t>Sequenzen:</a:t>
            </a:r>
            <a:br>
              <a:rPr sz="5400"/>
            </a:br>
            <a:r>
              <a:rPr b="1" i="1" lang="de-DE" sz="5400" spc="-1" strike="noStrike">
                <a:solidFill>
                  <a:srgbClr val="003399"/>
                </a:solidFill>
                <a:latin typeface="Arial"/>
                <a:ea typeface="Times New Roman"/>
              </a:rPr>
              <a:t>Lineare Programme</a:t>
            </a:r>
            <a:endParaRPr b="1" lang="en-US" sz="5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88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11" descr="C Sharp (C#) Logo PNG Vector"/>
          <p:cNvPicPr/>
          <p:nvPr/>
        </p:nvPicPr>
        <p:blipFill>
          <a:blip r:embed="rId1"/>
          <a:stretch/>
        </p:blipFill>
        <p:spPr>
          <a:xfrm>
            <a:off x="7045200" y="260280"/>
            <a:ext cx="184788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26560" y="2637000"/>
            <a:ext cx="8001000" cy="158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5400" spc="-1" strike="noStrike">
                <a:solidFill>
                  <a:srgbClr val="003399"/>
                </a:solidFill>
                <a:latin typeface="Arial"/>
                <a:ea typeface="Times New Roman"/>
              </a:rPr>
              <a:t>Struktogramme</a:t>
            </a:r>
            <a:endParaRPr b="1" lang="en-US" sz="5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29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Picture 11" descr="C Sharp (C#) Logo PNG Vector"/>
          <p:cNvPicPr/>
          <p:nvPr/>
        </p:nvPicPr>
        <p:blipFill>
          <a:blip r:embed="rId1"/>
          <a:stretch/>
        </p:blipFill>
        <p:spPr>
          <a:xfrm>
            <a:off x="7045200" y="260280"/>
            <a:ext cx="184788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Beispiel Lineares Programm: Brutto berechnen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pic>
        <p:nvPicPr>
          <p:cNvPr id="134" name="Picture 11" descr=""/>
          <p:cNvPicPr/>
          <p:nvPr/>
        </p:nvPicPr>
        <p:blipFill>
          <a:blip r:embed="rId1"/>
          <a:stretch/>
        </p:blipFill>
        <p:spPr>
          <a:xfrm>
            <a:off x="2124000" y="1628640"/>
            <a:ext cx="5400720" cy="46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Arbeitsauftrag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2700360" y="1484280"/>
            <a:ext cx="4389480" cy="338148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6"/>
          <p:cNvSpPr/>
          <p:nvPr/>
        </p:nvSpPr>
        <p:spPr>
          <a:xfrm>
            <a:off x="1476360" y="5084640"/>
            <a:ext cx="61927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79440" indent="-379440" algn="ctr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chreiben Sie das C#-Program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79440" indent="-379440" algn="ctr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zum Struktogramm „Brutto“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Arbeitsauftrag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2700360" y="1484280"/>
            <a:ext cx="4389480" cy="338148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6"/>
          <p:cNvSpPr/>
          <p:nvPr/>
        </p:nvSpPr>
        <p:spPr>
          <a:xfrm>
            <a:off x="900000" y="5084640"/>
            <a:ext cx="7704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79440" indent="-379440" algn="ctr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Entwickeln Sie ein Struktogramm „Netto“ </a:t>
            </a:r>
            <a:br>
              <a:rPr sz="2800"/>
            </a:b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(aus Brutto und Prozent wird Netto ausgerechnet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Arbeitsauftrag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6588000" y="541440"/>
            <a:ext cx="2448000" cy="188568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6"/>
          <p:cNvSpPr/>
          <p:nvPr/>
        </p:nvSpPr>
        <p:spPr>
          <a:xfrm>
            <a:off x="1476360" y="5084640"/>
            <a:ext cx="61927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79440" indent="-379440" algn="ctr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Entwickeln Sie ein Struktogramm, das den Abstand von zwei Punkten in der Ebene ermittel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2"/>
          <a:stretch/>
        </p:blipFill>
        <p:spPr>
          <a:xfrm>
            <a:off x="2484360" y="1700280"/>
            <a:ext cx="3876840" cy="32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Arbeitsauftrag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2700360" y="1484280"/>
            <a:ext cx="4389480" cy="338148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6"/>
          <p:cNvSpPr/>
          <p:nvPr/>
        </p:nvSpPr>
        <p:spPr>
          <a:xfrm>
            <a:off x="1476360" y="5084640"/>
            <a:ext cx="61927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79440" indent="-379440" algn="ctr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Würfel-Simulation schreib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3132000" y="5675400"/>
            <a:ext cx="3168720" cy="691920"/>
          </a:xfrm>
          <a:prstGeom prst="rect">
            <a:avLst/>
          </a:prstGeom>
          <a:solidFill>
            <a:srgbClr val="ffff66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99"/>
                </a:solidFill>
                <a:latin typeface="Verdana"/>
              </a:rPr>
              <a:t>Random random = new Random()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99"/>
                </a:solidFill>
                <a:latin typeface="Verdana"/>
              </a:rPr>
              <a:t>int wuerfel = random.Next(0, 2)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6560" y="2637000"/>
            <a:ext cx="8001000" cy="158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5400" spc="-1" strike="noStrike">
                <a:solidFill>
                  <a:srgbClr val="003399"/>
                </a:solidFill>
                <a:latin typeface="Arial"/>
                <a:ea typeface="Times New Roman"/>
              </a:rPr>
              <a:t>Typumwandlungen</a:t>
            </a:r>
            <a:br>
              <a:rPr sz="5400"/>
            </a:br>
            <a:r>
              <a:rPr b="1" i="1" lang="de-DE" sz="5400" spc="-1" strike="noStrike">
                <a:solidFill>
                  <a:srgbClr val="003399"/>
                </a:solidFill>
                <a:latin typeface="Arial"/>
                <a:ea typeface="Times New Roman"/>
              </a:rPr>
              <a:t>(Typecasting)</a:t>
            </a:r>
            <a:endParaRPr b="1" lang="en-US" sz="5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50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3" name="Picture 11" descr="C Sharp (C#) Logo PNG Vector"/>
          <p:cNvPicPr/>
          <p:nvPr/>
        </p:nvPicPr>
        <p:blipFill>
          <a:blip r:embed="rId1"/>
          <a:stretch/>
        </p:blipFill>
        <p:spPr>
          <a:xfrm>
            <a:off x="7045200" y="260280"/>
            <a:ext cx="184788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Implizites und explizites Typecasting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1676520"/>
            <a:ext cx="8321760" cy="50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9440" indent="-37944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SzPct val="1122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int </a:t>
            </a:r>
            <a:r>
              <a:rPr b="0" lang="de-D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lo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81240">
              <a:lnSpc>
                <a:spcPct val="90000"/>
              </a:lnSpc>
              <a:spcBef>
                <a:spcPts val="476"/>
              </a:spcBef>
              <a:spcAft>
                <a:spcPts val="950"/>
              </a:spcAft>
              <a:buSzPct val="108316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int iZahl=1000;</a:t>
            </a:r>
            <a:br>
              <a:rPr sz="1900"/>
            </a:b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long loZahl=1000000;</a:t>
            </a:r>
            <a:br>
              <a:rPr sz="1900"/>
            </a:br>
            <a:r>
              <a:rPr b="0" lang="de-DE" sz="1900" spc="-1" strike="noStrike">
                <a:solidFill>
                  <a:srgbClr val="ff0000"/>
                </a:solidFill>
                <a:latin typeface="Arial"/>
              </a:rPr>
              <a:t>loZahl=iZahl; // funktioniert implizi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SzPct val="11229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long </a:t>
            </a:r>
            <a:r>
              <a:rPr b="0" lang="de-D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i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81240">
              <a:lnSpc>
                <a:spcPct val="90000"/>
              </a:lnSpc>
              <a:spcBef>
                <a:spcPts val="476"/>
              </a:spcBef>
              <a:spcAft>
                <a:spcPts val="950"/>
              </a:spcAft>
              <a:buSzPct val="108316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iZahl = </a:t>
            </a:r>
            <a:r>
              <a:rPr b="0" lang="de-DE" sz="1900" spc="-1" strike="noStrike">
                <a:solidFill>
                  <a:srgbClr val="ff0000"/>
                </a:solidFill>
                <a:latin typeface="Arial"/>
              </a:rPr>
              <a:t>(int)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loZahl; </a:t>
            </a:r>
            <a:r>
              <a:rPr b="0" lang="de-DE" sz="1900" spc="-1" strike="noStrike">
                <a:solidFill>
                  <a:srgbClr val="ff0000"/>
                </a:solidFill>
                <a:latin typeface="Arial"/>
              </a:rPr>
              <a:t>// explizit durch den Typecast-Operato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SzPct val="11229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float </a:t>
            </a:r>
            <a:r>
              <a:rPr b="0" lang="de-D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dou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81240">
              <a:lnSpc>
                <a:spcPct val="90000"/>
              </a:lnSpc>
              <a:spcBef>
                <a:spcPts val="476"/>
              </a:spcBef>
              <a:spcAft>
                <a:spcPts val="950"/>
              </a:spcAft>
              <a:buSzPct val="108316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float fZahl=3.14f;</a:t>
            </a:r>
            <a:br>
              <a:rPr sz="1900"/>
            </a:b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double dZahl=77.7;</a:t>
            </a:r>
            <a:br>
              <a:rPr sz="1900"/>
            </a:br>
            <a:r>
              <a:rPr b="0" lang="de-DE" sz="1900" spc="-1" strike="noStrike">
                <a:solidFill>
                  <a:srgbClr val="ff0000"/>
                </a:solidFill>
                <a:latin typeface="Arial"/>
              </a:rPr>
              <a:t>dZahl = fZahl; // funktioniert implizi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SzPct val="11229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double </a:t>
            </a:r>
            <a:r>
              <a:rPr b="0" lang="de-D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flo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81240">
              <a:lnSpc>
                <a:spcPct val="90000"/>
              </a:lnSpc>
              <a:spcBef>
                <a:spcPts val="476"/>
              </a:spcBef>
              <a:spcAft>
                <a:spcPts val="950"/>
              </a:spcAft>
              <a:buSzPct val="108316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fZahl = </a:t>
            </a:r>
            <a:r>
              <a:rPr b="0" lang="de-DE" sz="1900" spc="-1" strike="noStrike">
                <a:solidFill>
                  <a:srgbClr val="ff0000"/>
                </a:solidFill>
                <a:latin typeface="Arial"/>
              </a:rPr>
              <a:t>(float) 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dZahl; </a:t>
            </a:r>
            <a:r>
              <a:rPr b="0" lang="de-DE" sz="1900" spc="-1" strike="noStrike">
                <a:solidFill>
                  <a:srgbClr val="ff0000"/>
                </a:solidFill>
                <a:latin typeface="Arial"/>
              </a:rPr>
              <a:t>// explizit durch den Typecast-Operato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81240">
              <a:lnSpc>
                <a:spcPct val="90000"/>
              </a:lnSpc>
              <a:spcBef>
                <a:spcPts val="476"/>
              </a:spcBef>
              <a:spcAft>
                <a:spcPts val="95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Explizites Typecasting zwischen verschiedenen Datentypen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1676520"/>
            <a:ext cx="8321760" cy="50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9440" indent="-37944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 </a:t>
            </a: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flo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8124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t iZahl1=5;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loat fZahl1=10.8f;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Zahl1 = </a:t>
            </a:r>
            <a:r>
              <a:rPr b="0" lang="de-DE" sz="2000" spc="-1" strike="noStrike">
                <a:solidFill>
                  <a:srgbClr val="ff0000"/>
                </a:solidFill>
                <a:latin typeface="Arial"/>
              </a:rPr>
              <a:t>(float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iZahl1;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Zahl1 = </a:t>
            </a:r>
            <a:r>
              <a:rPr b="0" lang="de-DE" sz="2000" spc="-1" strike="noStrike">
                <a:solidFill>
                  <a:srgbClr val="ff0000"/>
                </a:solidFill>
                <a:latin typeface="Arial"/>
              </a:rPr>
              <a:t>(int)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Zahl1; // danach hat iZahl1 den Wert </a:t>
            </a:r>
            <a:r>
              <a:rPr b="0" lang="de-DE" sz="20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ring </a:t>
            </a: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, string </a:t>
            </a: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lo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8124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SzPct val="10279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ring sZahl1 = "56";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int iZahl1 = 5;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double dZahl1 = 10.8;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iZahl1 = </a:t>
            </a:r>
            <a:r>
              <a:rPr b="0" lang="de-DE" sz="2000" spc="-1" strike="noStrike">
                <a:solidFill>
                  <a:srgbClr val="ff0000"/>
                </a:solidFill>
                <a:latin typeface="Arial"/>
              </a:rPr>
              <a:t>Convert.ToInt3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sZahl1);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dZahl1 = </a:t>
            </a:r>
            <a:r>
              <a:rPr b="0" lang="de-DE" sz="2000" spc="-1" strike="noStrike">
                <a:solidFill>
                  <a:srgbClr val="ff0000"/>
                </a:solidFill>
                <a:latin typeface="Arial"/>
              </a:rPr>
              <a:t>Convert.ToDoubl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sZahl1);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sZahl1 = </a:t>
            </a:r>
            <a:r>
              <a:rPr b="0" lang="de-DE" sz="2000" spc="-1" strike="noStrike">
                <a:solidFill>
                  <a:srgbClr val="ff0000"/>
                </a:solidFill>
                <a:latin typeface="Arial"/>
              </a:rPr>
              <a:t>Convert.ToString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iZahl1);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Zusatz Typecasting</a:t>
            </a:r>
            <a:br>
              <a:rPr sz="2400"/>
            </a:b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Begriffe boxing und unboxing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1676520"/>
            <a:ext cx="8321760" cy="50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9440" indent="-379440"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 i = 123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700"/>
              </a:spcBef>
              <a:spcAft>
                <a:spcPts val="1749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bject o = i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de-DE" sz="2000" spc="-1" strike="noStrike">
                <a:solidFill>
                  <a:srgbClr val="ff0000"/>
                </a:solidFill>
                <a:latin typeface="Arial"/>
              </a:rPr>
              <a:t>Boxing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 Spezieller Typ wird verallgemeinert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 j = (int)o;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de-DE" sz="2000" spc="-1" strike="noStrike">
                <a:solidFill>
                  <a:srgbClr val="ff0000"/>
                </a:solidFill>
                <a:latin typeface="Arial"/>
              </a:rPr>
              <a:t>Unboxing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 Allgemeiner Typ wird spezialisiert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Algorithm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1042920" y="1628640"/>
            <a:ext cx="7416720" cy="1729080"/>
          </a:xfrm>
          <a:prstGeom prst="rect">
            <a:avLst/>
          </a:prstGeom>
          <a:solidFill>
            <a:srgbClr val="ffff66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Ein </a:t>
            </a:r>
            <a:r>
              <a:rPr b="0" lang="de-DE" sz="2400" spc="-1" strike="noStrike">
                <a:solidFill>
                  <a:srgbClr val="000099"/>
                </a:solidFill>
                <a:latin typeface="Verdana"/>
              </a:rPr>
              <a:t>Algorithmus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ist eine 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exakte und eindeutige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Beschreibung eines </a:t>
            </a:r>
            <a:r>
              <a:rPr b="1" lang="de-DE" sz="2400" spc="-1" strike="noStrike">
                <a:solidFill>
                  <a:srgbClr val="000099"/>
                </a:solidFill>
                <a:latin typeface="Verdana"/>
              </a:rPr>
              <a:t>Lösungsverfahrens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als Abfolge von 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einzelnen Schritten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1042920" y="3357720"/>
            <a:ext cx="720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Beispiel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Kochen nach Rezep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Navi nutz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Tanz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Bedienen nach Betriebsanleitu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uchen von Extrem- und Wendepunk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Rectangle 18"/>
          <p:cNvSpPr/>
          <p:nvPr/>
        </p:nvSpPr>
        <p:spPr>
          <a:xfrm>
            <a:off x="-2665440" y="156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Rectangle 24"/>
          <p:cNvSpPr/>
          <p:nvPr/>
        </p:nvSpPr>
        <p:spPr>
          <a:xfrm>
            <a:off x="-2663640" y="2594520"/>
            <a:ext cx="18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Rectangle 26"/>
          <p:cNvSpPr/>
          <p:nvPr/>
        </p:nvSpPr>
        <p:spPr>
          <a:xfrm>
            <a:off x="825480" y="5661000"/>
            <a:ext cx="7850160" cy="1079640"/>
          </a:xfrm>
          <a:prstGeom prst="rect">
            <a:avLst/>
          </a:prstGeom>
          <a:solidFill>
            <a:srgbClr val="ffff66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Ein </a:t>
            </a:r>
            <a:r>
              <a:rPr b="0" lang="de-DE" sz="2400" spc="-1" strike="noStrike">
                <a:solidFill>
                  <a:srgbClr val="000099"/>
                </a:solidFill>
                <a:latin typeface="Verdana"/>
              </a:rPr>
              <a:t>Programm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ist ein Algorithmus, der in einer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Verdana"/>
              </a:rPr>
              <a:t>Computersprache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formuliert wir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Typecasting Beispiele 1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5800" y="1676520"/>
            <a:ext cx="8321760" cy="50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63960" indent="-363960">
              <a:spcBef>
                <a:spcPts val="499"/>
              </a:spcBef>
              <a:spcAft>
                <a:spcPts val="1250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Zahl = (int) fZahl1 * (int) fZahl2;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der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Zahl = (int) (fZahl1 * fZahl2); </a:t>
            </a:r>
            <a:r>
              <a:rPr b="0" lang="de-DE" sz="2000" spc="-1" strike="noStrike">
                <a:solidFill>
                  <a:srgbClr val="ff0000"/>
                </a:solidFill>
                <a:latin typeface="Arial"/>
              </a:rPr>
              <a:t>// Klammern sind hier wichtig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960" indent="-363960"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Zahl2 = fZahl1; // geht impliz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960" indent="-363960"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Zahl = (float)(iZahl1 + iZahl2); // expliziter Typecast-Op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960" indent="-363960"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Zahl1 = Convert.ToString(loZahl1 + (long) iZahl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960" indent="-363960">
              <a:spcBef>
                <a:spcPts val="700"/>
              </a:spcBef>
              <a:spcAft>
                <a:spcPts val="1749"/>
              </a:spcAft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Zahl1 = 1;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Zahl1 = iZahl1 / 3; </a:t>
            </a:r>
            <a:r>
              <a:rPr b="0" lang="de-DE" sz="2000" spc="-1" strike="noStrike">
                <a:solidFill>
                  <a:srgbClr val="ff0000"/>
                </a:solidFill>
                <a:latin typeface="Arial"/>
              </a:rPr>
              <a:t>//Vorsicht: fZahl1=0!! da Integer-Division</a:t>
            </a:r>
            <a:br>
              <a:rPr sz="20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Zahl1 = iZahl1 </a:t>
            </a: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/ 3f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// fZahl1=0.3333</a:t>
            </a:r>
            <a:br>
              <a:rPr sz="2800"/>
            </a:br>
            <a:r>
              <a:rPr b="0" lang="de-DE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Typecasting Beispiele 2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1676520"/>
            <a:ext cx="8321760" cy="50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9440" indent="-379440"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mmazahlen abschnei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Zahl1= 45.765f;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iZahl1= </a:t>
            </a: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(int)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Zahl1;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// erhält nur den ganzteiligen Anteil, also 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unden einer float-Zahl</a:t>
            </a:r>
            <a:br>
              <a:rPr sz="2400"/>
            </a:b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loat fZahl1=45.49f;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 iZahl1 = </a:t>
            </a: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(int)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fZahl1+</a:t>
            </a: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0.5f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unden auf 3 Kommastellen</a:t>
            </a:r>
            <a:br>
              <a:rPr sz="2400"/>
            </a:b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loat fZahl1=45.123456f;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loat fZahl3 =  </a:t>
            </a: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(int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fZahl1</a:t>
            </a: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*1000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+0.5f</a:t>
            </a: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)/1000f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Das EVA-Prinzip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971640" y="4724280"/>
            <a:ext cx="2303280" cy="792360"/>
          </a:xfrm>
          <a:prstGeom prst="rect">
            <a:avLst/>
          </a:prstGeom>
          <a:solidFill>
            <a:srgbClr val="ffff66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Verdana"/>
              </a:rPr>
              <a:t>Ausgab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971640" y="1593720"/>
            <a:ext cx="2303280" cy="792360"/>
          </a:xfrm>
          <a:prstGeom prst="rect">
            <a:avLst/>
          </a:prstGeom>
          <a:solidFill>
            <a:srgbClr val="ffff66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Verdana"/>
              </a:rPr>
              <a:t>Eingab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971640" y="3141720"/>
            <a:ext cx="2303280" cy="792000"/>
          </a:xfrm>
          <a:prstGeom prst="rect">
            <a:avLst/>
          </a:prstGeom>
          <a:solidFill>
            <a:srgbClr val="ffff66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Verdana"/>
              </a:rPr>
              <a:t>Verarbeitu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Line 14"/>
          <p:cNvSpPr/>
          <p:nvPr/>
        </p:nvSpPr>
        <p:spPr>
          <a:xfrm>
            <a:off x="2124000" y="2492280"/>
            <a:ext cx="0" cy="50508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Line 15"/>
          <p:cNvSpPr/>
          <p:nvPr/>
        </p:nvSpPr>
        <p:spPr>
          <a:xfrm>
            <a:off x="2124000" y="4076640"/>
            <a:ext cx="0" cy="50472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Oval 16"/>
          <p:cNvSpPr/>
          <p:nvPr/>
        </p:nvSpPr>
        <p:spPr>
          <a:xfrm>
            <a:off x="5003640" y="1628640"/>
            <a:ext cx="2880000" cy="863640"/>
          </a:xfrm>
          <a:prstGeom prst="ellipse">
            <a:avLst/>
          </a:prstGeom>
          <a:solidFill>
            <a:srgbClr val="ccec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Rezept, Zutat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Oval 17"/>
          <p:cNvSpPr/>
          <p:nvPr/>
        </p:nvSpPr>
        <p:spPr>
          <a:xfrm>
            <a:off x="4859280" y="3068640"/>
            <a:ext cx="2879640" cy="863640"/>
          </a:xfrm>
          <a:prstGeom prst="ellipse">
            <a:avLst/>
          </a:prstGeom>
          <a:solidFill>
            <a:srgbClr val="ccec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Topf, Ofen (Hardwar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Kochen (Softwar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Oval 18"/>
          <p:cNvSpPr/>
          <p:nvPr/>
        </p:nvSpPr>
        <p:spPr>
          <a:xfrm>
            <a:off x="5003640" y="4724280"/>
            <a:ext cx="2880000" cy="863640"/>
          </a:xfrm>
          <a:prstGeom prst="ellipse">
            <a:avLst/>
          </a:prstGeom>
          <a:solidFill>
            <a:srgbClr val="ccec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Leck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6560" y="2637000"/>
            <a:ext cx="8001000" cy="158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5400" spc="-1" strike="noStrike">
                <a:solidFill>
                  <a:srgbClr val="003399"/>
                </a:solidFill>
                <a:latin typeface="Arial"/>
                <a:ea typeface="Times New Roman"/>
              </a:rPr>
              <a:t>Ein- und Ausgabe</a:t>
            </a:r>
            <a:endParaRPr b="1" lang="en-US" sz="5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08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Picture 11" descr="C Sharp (C#) Logo PNG Vector"/>
          <p:cNvPicPr/>
          <p:nvPr/>
        </p:nvPicPr>
        <p:blipFill>
          <a:blip r:embed="rId1"/>
          <a:stretch/>
        </p:blipFill>
        <p:spPr>
          <a:xfrm>
            <a:off x="7045200" y="260280"/>
            <a:ext cx="184788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872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Ausgabe in C# 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321760" cy="50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9440" indent="-379440">
              <a:spcBef>
                <a:spcPts val="499"/>
              </a:spcBef>
              <a:spcAft>
                <a:spcPts val="1250"/>
              </a:spcAft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onsole.WriteLine("Hallo"); // Ausgabe von Hallo und 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onsole.WriteLine("Welt"); // springt in die nächste Ze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81240">
              <a:spcBef>
                <a:spcPts val="451"/>
              </a:spcBef>
              <a:spcAft>
                <a:spcPts val="901"/>
              </a:spcAft>
              <a:buSzPct val="114286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usgabe: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allo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e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499"/>
              </a:spcBef>
              <a:spcAft>
                <a:spcPts val="1250"/>
              </a:spcAft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onsole.</a:t>
            </a:r>
            <a:r>
              <a:rPr b="0" lang="de-DE" sz="2000" spc="-1" strike="noStrike">
                <a:solidFill>
                  <a:srgbClr val="ff0000"/>
                </a:solidFill>
                <a:latin typeface="Arial"/>
              </a:rPr>
              <a:t>Writ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"Hallo"); // Ausgabe von Hallo und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onsole.WriteLine("Welt"); // bleibt in der Zeile Ze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81240">
              <a:spcBef>
                <a:spcPts val="451"/>
              </a:spcBef>
              <a:spcAft>
                <a:spcPts val="901"/>
              </a:spcAft>
              <a:buSzPct val="114286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usgabe: HalloWe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499"/>
              </a:spcBef>
              <a:spcAft>
                <a:spcPts val="1250"/>
              </a:spcAft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ring text="Hallo";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t zahl=5;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onsole.WriteLine(text</a:t>
            </a:r>
            <a:r>
              <a:rPr b="0" lang="de-DE" sz="20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"Welt"</a:t>
            </a:r>
            <a:r>
              <a:rPr b="0" lang="de-DE" sz="2000" spc="-1" strike="noStrike">
                <a:solidFill>
                  <a:srgbClr val="ff3300"/>
                </a:solidFill>
                <a:latin typeface="Arial"/>
              </a:rPr>
              <a:t>+zahl+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"! 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81240">
              <a:spcBef>
                <a:spcPts val="451"/>
              </a:spcBef>
              <a:spcAft>
                <a:spcPts val="901"/>
              </a:spcAft>
              <a:buSzPct val="114286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usgabe: HalloWelt5!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6718320" y="573120"/>
            <a:ext cx="2273400" cy="1081080"/>
          </a:xfrm>
          <a:prstGeom prst="rect">
            <a:avLst/>
          </a:prstGeom>
          <a:solidFill>
            <a:srgbClr val="ffff66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99"/>
                </a:solidFill>
                <a:latin typeface="Verdana"/>
              </a:rPr>
              <a:t>Tipp für Visual Studio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00"/>
                </a:solidFill>
                <a:latin typeface="Verdana"/>
              </a:rPr>
              <a:t>CW &lt;Tab&gt;&lt;Tab&gt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99"/>
                </a:solidFill>
                <a:latin typeface="Verdana"/>
              </a:rPr>
              <a:t>-&gt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99"/>
                </a:solidFill>
                <a:latin typeface="Verdana"/>
              </a:rPr>
              <a:t>Console.WriteLin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Zusatz: Ausgabe in C#</a:t>
            </a:r>
            <a:br>
              <a:rPr sz="2400"/>
            </a:b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Formatierter Ausgabestring 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321760" cy="50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22200" indent="-322200">
              <a:spcBef>
                <a:spcPts val="499"/>
              </a:spcBef>
              <a:spcAft>
                <a:spcPts val="1250"/>
              </a:spcAft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// Platzhalter {1} {2} {3} …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t x=1,y=2,z=3;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onsole.WriteLine("x=</a:t>
            </a: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{0}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y={1} z={2}", </a:t>
            </a:r>
            <a:r>
              <a:rPr b="0" lang="de-DE" sz="20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y, z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spcAft>
                <a:spcPts val="1250"/>
              </a:spcAft>
              <a:buSzPct val="12343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// Platzhalter $"…{var}…"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onsole.WriteLine(</a:t>
            </a: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$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"x=</a:t>
            </a:r>
            <a:r>
              <a:rPr b="0" lang="de-DE" sz="2000" spc="-1" strike="noStrike">
                <a:solidFill>
                  <a:srgbClr val="ff0000"/>
                </a:solidFill>
                <a:latin typeface="Arial"/>
              </a:rPr>
              <a:t>{x}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y={y} z={z}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5240" indent="-324000">
              <a:spcBef>
                <a:spcPts val="451"/>
              </a:spcBef>
              <a:spcAft>
                <a:spcPts val="901"/>
              </a:spcAft>
              <a:buSzPct val="114286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usgabe: x=1 y=2 z=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50"/>
              </a:spcBef>
              <a:spcAft>
                <a:spcPts val="1375"/>
              </a:spcAft>
              <a:buSzPct val="11229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// Ausgabe über mehrere Zeilen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ole.WriteLine(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@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"Mehrere Zeilen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t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nderzeichen: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""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"" "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85240" indent="-324000">
              <a:spcBef>
                <a:spcPts val="451"/>
              </a:spcBef>
              <a:spcAft>
                <a:spcPts val="901"/>
              </a:spcAft>
              <a:buSzPct val="114286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usgabe: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ehrere Zeilen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it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onderzeichen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a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85240" indent="0">
              <a:spcBef>
                <a:spcPts val="451"/>
              </a:spcBef>
              <a:spcAft>
                <a:spcPts val="9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Zusatz: Ausgabe in C#</a:t>
            </a:r>
            <a:br>
              <a:rPr sz="2400"/>
            </a:b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Farbige Ausgabe 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pic>
        <p:nvPicPr>
          <p:cNvPr id="118" name="Grafik 5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6329520" cy="2232000"/>
          </a:xfrm>
          <a:prstGeom prst="rect">
            <a:avLst/>
          </a:prstGeom>
          <a:ln w="0">
            <a:noFill/>
          </a:ln>
        </p:spPr>
      </p:pic>
      <p:pic>
        <p:nvPicPr>
          <p:cNvPr id="119" name="Grafik 7" descr=""/>
          <p:cNvPicPr/>
          <p:nvPr/>
        </p:nvPicPr>
        <p:blipFill>
          <a:blip r:embed="rId2"/>
          <a:stretch/>
        </p:blipFill>
        <p:spPr>
          <a:xfrm>
            <a:off x="3059280" y="4005360"/>
            <a:ext cx="346680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Grafik 4" descr=""/>
          <p:cNvPicPr/>
          <p:nvPr/>
        </p:nvPicPr>
        <p:blipFill>
          <a:blip r:embed="rId1"/>
          <a:stretch/>
        </p:blipFill>
        <p:spPr>
          <a:xfrm>
            <a:off x="684360" y="1643040"/>
            <a:ext cx="8056440" cy="35863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Eingabe in C#: Console.ReadLine()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7093080" y="2671920"/>
            <a:ext cx="1942920" cy="431640"/>
          </a:xfrm>
          <a:prstGeom prst="rect">
            <a:avLst/>
          </a:prstGeom>
          <a:solidFill>
            <a:srgbClr val="ffff66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99"/>
                </a:solidFill>
                <a:latin typeface="Verdana"/>
              </a:rPr>
              <a:t>Einlesen eines String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99"/>
                </a:solidFill>
                <a:latin typeface="Verdana"/>
              </a:rPr>
              <a:t>über die Tastatu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7093080" y="3436920"/>
            <a:ext cx="1942920" cy="431640"/>
          </a:xfrm>
          <a:prstGeom prst="rect">
            <a:avLst/>
          </a:prstGeom>
          <a:solidFill>
            <a:srgbClr val="ffff66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99"/>
                </a:solidFill>
                <a:latin typeface="Verdana"/>
              </a:rPr>
              <a:t>String in int konvertiere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Line 14"/>
          <p:cNvSpPr/>
          <p:nvPr/>
        </p:nvSpPr>
        <p:spPr>
          <a:xfrm flipH="1">
            <a:off x="5105160" y="2895480"/>
            <a:ext cx="1987560" cy="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Line 14"/>
          <p:cNvSpPr/>
          <p:nvPr/>
        </p:nvSpPr>
        <p:spPr>
          <a:xfrm flipH="1">
            <a:off x="6443640" y="3645000"/>
            <a:ext cx="649440" cy="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Zusatz Eingabe in C#: Console.ReadKey(true)</a:t>
            </a:r>
            <a:br>
              <a:rPr sz="2400"/>
            </a:b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Warten auf bestimmten Tastendruck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pic>
        <p:nvPicPr>
          <p:cNvPr id="127" name="Grafik 2" descr=""/>
          <p:cNvPicPr/>
          <p:nvPr/>
        </p:nvPicPr>
        <p:blipFill>
          <a:blip r:embed="rId1"/>
          <a:stretch/>
        </p:blipFill>
        <p:spPr>
          <a:xfrm>
            <a:off x="900000" y="1773360"/>
            <a:ext cx="8161560" cy="15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3T10:48:01Z</dcterms:created>
  <dc:creator>Patrick Gebhard</dc:creator>
  <dc:description/>
  <dc:language>en-US</dc:language>
  <cp:lastModifiedBy>Stephan Baldes</cp:lastModifiedBy>
  <cp:lastPrinted>2001-11-26T11:30:42Z</cp:lastPrinted>
  <dcterms:modified xsi:type="dcterms:W3CDTF">2023-10-03T19:45:48Z</dcterms:modified>
  <cp:revision>1055</cp:revision>
  <dc:subject/>
  <dc:title>Titel</dc:title>
</cp:coreProperties>
</file>