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Variablen und Datentyp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476360" y="5084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tzuweisungen und Datentyp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fgabe 1-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Operator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Operato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387440"/>
            <a:ext cx="83214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ithmetische Operator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+ - *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: 3+5, 4/i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ulo-Operator: 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SzPct val="13215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 a=10, b=2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 erg=a%b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sole.WriteLine(erg); -&gt; 0 da 10=2*5+</a:t>
            </a: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krement- und Dekrementoperat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SzPct val="13215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 c=10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; // c -&gt; 11 ist das gleiche wie c=c+1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; // c -&gt;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thematische Ausdrüc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h.sqrt(9) // Wurzel, liefert den Wert 3 zurü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h.sin(0)  // Sinus, liefert den Wert 0 zurü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h.abs(-3) // Betrag, liefert den Wert 3 zurü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rogramm Notendurchschnit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e SA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e ITS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e BWL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chnitt = (SAE + ITS +BWL) 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: Der Notendurchschnitt beträgt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7"/>
          <a:stretch/>
        </p:blipFill>
        <p:spPr>
          <a:xfrm>
            <a:off x="6300720" y="1341360"/>
            <a:ext cx="26179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Operatoren 2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87520"/>
            <a:ext cx="832176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gleichsopera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==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ergleicht zwei Variablen oder W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SzPct val="1321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loat fZahl1 = 3.5f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f (fZahl1 </a:t>
            </a:r>
            <a:r>
              <a:rPr b="0" lang="de-DE" sz="1400" spc="-1" strike="noStrike">
                <a:solidFill>
                  <a:srgbClr val="ff3300"/>
                </a:solidFill>
                <a:latin typeface="Arial"/>
              </a:rPr>
              <a:t>==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3.5f) { fZahl1 = 0f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!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gleich, &lt;, &lt;=; &gt;, &gt;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t bool zurück, also true oder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SzPct val="13215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ol erg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ng x=500000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 = (x==30000); // erg -&gt;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ische Opera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&amp;&amp;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und) 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||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oder)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 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ic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l erg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 = true &amp;&amp; true; // true da beide wahr sind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 = true || false; // true da mindestens eins wahr is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 = !(true || true) // false, da der Wert der Klammer negiert w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 x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 (x&lt;15 &amp;&amp; x&gt;5) Console.WriteLine(„zwischen 5 und 15“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r zeichen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 (zeichen=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c‘ ||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chen=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C‘)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sole.WriteLine(„Taste C gedrückt!“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ntypen und Variabl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492360" y="3068640"/>
            <a:ext cx="2881440" cy="230364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anzzah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ahl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92360" y="1773360"/>
            <a:ext cx="1584360" cy="71892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987640" y="2133720"/>
            <a:ext cx="1368360" cy="13665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364000" y="1773360"/>
            <a:ext cx="1584360" cy="71892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allo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5219280" y="2349360"/>
            <a:ext cx="576360" cy="12240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219640" y="2637000"/>
            <a:ext cx="576360" cy="43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5076720" y="2781360"/>
            <a:ext cx="8636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585960" y="580536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t zahl1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44280" y="538488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nty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443640" y="530064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me der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2411280" y="5734080"/>
            <a:ext cx="1079640" cy="358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20"/>
          <p:cNvSpPr/>
          <p:nvPr/>
        </p:nvSpPr>
        <p:spPr>
          <a:xfrm flipV="1">
            <a:off x="5362560" y="5661000"/>
            <a:ext cx="1008000" cy="2160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onventionen für Variablennam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ss mit einem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einem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uchstaben beginnen: 2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ere Worte werden groß geschrieben (camelCase): mein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ll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fixe möglich: iZah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beliebig lang sein, aber darf kein Leerzeichen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üsselwörter sind nicht erlaubt: class,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7884720" y="1916280"/>
            <a:ext cx="8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5795640" y="5162400"/>
            <a:ext cx="863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6732360" y="5157720"/>
            <a:ext cx="718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Grafik 1" descr=""/>
          <p:cNvPicPr/>
          <p:nvPr/>
        </p:nvPicPr>
        <p:blipFill>
          <a:blip r:embed="rId6"/>
          <a:stretch/>
        </p:blipFill>
        <p:spPr>
          <a:xfrm>
            <a:off x="7164360" y="2708280"/>
            <a:ext cx="1189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ntypen: Top 4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-266544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hteck 1"/>
          <p:cNvSpPr/>
          <p:nvPr/>
        </p:nvSpPr>
        <p:spPr>
          <a:xfrm>
            <a:off x="763560" y="1503360"/>
            <a:ext cx="3830760" cy="247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Verdan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Ganzzahlige We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int i = 5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hteck 7"/>
          <p:cNvSpPr/>
          <p:nvPr/>
        </p:nvSpPr>
        <p:spPr>
          <a:xfrm>
            <a:off x="4630680" y="1503360"/>
            <a:ext cx="3830760" cy="247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Verdana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Kommazah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double zahl = 3.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hteck 9"/>
          <p:cNvSpPr/>
          <p:nvPr/>
        </p:nvSpPr>
        <p:spPr>
          <a:xfrm>
            <a:off x="755640" y="4046400"/>
            <a:ext cx="3830760" cy="247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Verdana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string text = "Hallo"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hteck 10"/>
          <p:cNvSpPr/>
          <p:nvPr/>
        </p:nvSpPr>
        <p:spPr>
          <a:xfrm>
            <a:off x="4622760" y="4032360"/>
            <a:ext cx="3830760" cy="2479680"/>
          </a:xfrm>
          <a:prstGeom prst="rect">
            <a:avLst/>
          </a:prstGeom>
          <a:solidFill>
            <a:srgbClr val="ccecff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Verdan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Verdana"/>
              </a:rPr>
              <a:t>Wahrheitswerte (true,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70c0"/>
                </a:solidFill>
                <a:latin typeface="Verdana"/>
              </a:rPr>
              <a:t>bool ende = false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ntypen: Wertebereiche und Platzbedarf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266544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Grafik 2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77724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 Datentypen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rttypen vs Verweistyp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61228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2800" indent="-352800"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t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, long, float, double, char, 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um E {...}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uct S {...}: wie class, keine Vererbung, zum Speichern von D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T1, T2, ...) //Tup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is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286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ass c {..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 I {...}: Vertrag über öffentliche Members, kann als Datentyp genutzt werden, simuliert Mehrfachverer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[] a, int[,] a2, int[][] aJagged // ar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egate int D(...): Methoden werden Entitäten, simuliert Pointer auf Metho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llable Typen: int?, string?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354240"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?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yNullie=null; myNullie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1476360" y="5084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reuzworträtsel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UE02-Datentypen lö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efinition und Wertzuweisungen von Variabl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61228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iZahl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und Initial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 iZahl1=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von mehreren Variab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ng lZahl1=60000000000,  lZahl2=-7,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con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ouble PI=3.14159265; //Wert kann nicht mehr geänder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51"/>
              </a:spcBef>
              <a:spcAft>
                <a:spcPts val="901"/>
              </a:spcAft>
              <a:buSzPct val="11428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Zahl1=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859280" y="2133720"/>
            <a:ext cx="2737080" cy="12952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Darf nur einm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im Progra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definiert wer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076720" y="5591160"/>
            <a:ext cx="2737080" cy="10065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Kann beliebig oft </a:t>
            </a:r>
            <a:br>
              <a:rPr sz="2000"/>
            </a:b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genutzt wer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: Datentypen und Wertzuweisun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nzzahlentypen: int,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ng lZahl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Zahl1=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tkommazahlen: float,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oat fZahl1=3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 // ohne f wird die Zahl als double interpret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uble x=3.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ische Variablen: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l ende=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chen: 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r zeichen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chen1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'c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chenketten: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SzPct val="12867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ing text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Hallo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01-11-26T11:30:42Z</cp:lastPrinted>
  <dcterms:modified xsi:type="dcterms:W3CDTF">2022-09-07T10:35:46Z</dcterms:modified>
  <cp:revision>1050</cp:revision>
  <dc:subject/>
  <dc:title>Titel</dc:title>
</cp:coreProperties>
</file>