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570-EC9B-43B6-8E06-5BE589C0D6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6030-0D55-4187-A2B8-0EA993C7BE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#: 2001 erschie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467-9163-46F0-93E6-BE047328E9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282C-C66D-4606-B592-B99EE1C97B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A932-ED65-4647-A566-562D2CAEE9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0CB-7093-4BBB-8B9F-8D47A25A2D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24C-7839-4448-8461-DE7F5DD03D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307-A588-4115-A46C-401A0C7B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54A-3FC8-4D7A-9C9C-15E15EE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D58-0542-4B58-AE1E-21A65729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2D9-B122-4A95-ADCE-E4367CB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BB4-FB72-4CD7-9265-7E71600D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8DD-52B5-4927-B9DC-DB455D9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714-6C12-4A97-BC66-62F43D7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12D-75FC-43E0-A3FE-8B02F6C8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4B4-5FA9-4D27-AF34-02700D4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8AB-A442-4348-B2AE-8E438E8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485-2B8E-45BF-BBC9-EB2FFE7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B35-2750-4976-B119-5A4CEE8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631-D106-401B-B904-5F44618981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6680" y="1477800"/>
            <a:ext cx="6691320" cy="612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4120" y="468360"/>
            <a:ext cx="68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mmbaum der Programmier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89000" y="250920"/>
            <a:ext cx="6396120" cy="84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60280" y="108000"/>
            <a:ext cx="6289920" cy="35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49120" y="3635280"/>
            <a:ext cx="630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35000" y="755640"/>
            <a:ext cx="666252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60280" y="539640"/>
            <a:ext cx="4969080" cy="826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645080" y="85680"/>
            <a:ext cx="21826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440" y="179280"/>
            <a:ext cx="6782040" cy="4867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92280" y="4757760"/>
            <a:ext cx="5713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115920" y="200160"/>
            <a:ext cx="6553080" cy="4994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15920" y="5435640"/>
            <a:ext cx="6730920" cy="341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uke1"/>
          <p:cNvPicPr/>
          <p:nvPr/>
        </p:nvPicPr>
        <p:blipFill>
          <a:blip r:embed="rId3"/>
          <a:stretch/>
        </p:blipFill>
        <p:spPr>
          <a:xfrm>
            <a:off x="5400720" y="179280"/>
            <a:ext cx="1413000" cy="153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4"/>
          <a:stretch/>
        </p:blipFill>
        <p:spPr>
          <a:xfrm>
            <a:off x="115920" y="6875640"/>
            <a:ext cx="6508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76280" y="3059280"/>
            <a:ext cx="2541600" cy="446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284640" y="3348000"/>
            <a:ext cx="355896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2400" y="241128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aufpl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P, Flussdiagra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9560" y="398520"/>
            <a:ext cx="49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fische Darstellung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n Prog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295080" y="247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6826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1:00:04Z</dcterms:created>
  <dc:creator>Chitarup</dc:creator>
  <dc:description/>
  <dc:language>en-US</dc:language>
  <cp:lastModifiedBy>Stephan Baldes</cp:lastModifiedBy>
  <dcterms:modified xsi:type="dcterms:W3CDTF">2022-09-06T19:51:11Z</dcterms:modified>
  <cp:revision>15</cp:revision>
  <dc:subject/>
  <dc:title>Folie 1</dc:title>
</cp:coreProperties>
</file>